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5.jpeg" ContentType="image/jpeg"/>
  <Override PartName="/ppt/media/image26.gif" ContentType="image/gif"/>
  <Override PartName="/ppt/media/image20.jpeg" ContentType="image/jpeg"/>
  <Override PartName="/ppt/media/image1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13.jpeg" ContentType="image/jpeg"/>
  <Override PartName="/ppt/media/image14.jpeg" ContentType="image/jpeg"/>
  <Override PartName="/ppt/media/voices-of-spring1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58F04-2836-436A-8617-A173F36C5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D9F40-9123-4A86-9E03-1459E92B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4A9DD-D682-477D-BA0D-338C51BC6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BA4C5-AC27-49FF-9954-E3ADF16D8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4402-A9EF-441B-B4ED-3EAE3E279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0B2F-2C65-42DB-94D2-1D1D308A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3E6D-0BF9-4EF3-BA82-701EBAE0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35FA-C31A-43B1-AD85-A33C9728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4EC8-D3EB-4091-BB61-4B691AB3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B879-82E4-4DDB-B4EB-F380A0C7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5677-D104-4BAC-91E2-07B8808A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F1B84-95D4-4C00-AB51-FA300A73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139A-E15B-4964-9635-310773F5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FFB6-29AF-462A-83FB-568A9B0F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4113-FB89-4A59-B89D-1DAA93E3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BD67-8376-4F78-AF5D-783BD2A0F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07DE-83CF-4784-92A1-B06866D68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ADA6B-44A8-4683-ACD3-2E4BF0C9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52D1A-4039-4B7F-B7DB-90808C33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7568A-2B5D-4DDB-A422-4F203C78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42051-96E5-4596-B5EA-16C54E34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E54FC-F480-4423-8C54-76F04CEC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5ED50-4DB4-4606-9DCD-F408E488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B60BB-6EF3-4252-9895-90FF9A3C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AA88-9C7C-4FFE-A81D-1909E959625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23A5-8938-48E5-A607-1349FF2ACC0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audio" Target="../media/voices-of-spring1.wav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692360" y="1125360"/>
            <a:ext cx="692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ero Extended Hollow"/>
              </a:rPr>
              <a:t>Johann Straus</a:t>
            </a:r>
            <a:r>
              <a:rPr b="0" lang="en-US" sz="4800" spc="-1" strike="noStrike">
                <a:solidFill>
                  <a:srgbClr val="ffffff"/>
                </a:solidFill>
                <a:latin typeface="Aero Extended Hollow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ffffff"/>
                </a:solidFill>
                <a:latin typeface="Arial"/>
              </a:rPr>
              <a:t>IN NJEGOV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ffffff"/>
                </a:solidFill>
                <a:latin typeface="Arial"/>
              </a:rPr>
              <a:t>znamenit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ffffff"/>
                </a:solidFill>
                <a:latin typeface="Arial"/>
              </a:rPr>
              <a:t>VALC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1047600" y="5516640"/>
            <a:ext cx="1047600" cy="371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-1047600" y="5589720"/>
            <a:ext cx="1047600" cy="371520"/>
          </a:xfrm>
          <a:prstGeom prst="rect">
            <a:avLst/>
          </a:prstGeom>
          <a:ln w="0">
            <a:noFill/>
          </a:ln>
        </p:spPr>
      </p:pic>
    </p:spTree>
  </p:cSld>
  <p:transition spd="slow" advTm="40000">
    <p:random/>
    <p:sndAc>
      <p:stSnd>
        <p:snd r:embed="rId3" name="voices-of-spring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" nodeType="after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25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" dur="22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275" fill="hold">
                                          <p:stCondLst>
                                            <p:cond delay="227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2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780" autoRev="1" fill="hold">
                                          <p:stCondLst>
                                            <p:cond delay="227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80" fill="hold">
                                          <p:stCondLst>
                                            <p:cond delay="432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25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" dur="22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275" fill="hold">
                                          <p:stCondLst>
                                            <p:cond delay="227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2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780" autoRev="1" fill="hold">
                                          <p:stCondLst>
                                            <p:cond delay="227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80" fill="hold">
                                          <p:stCondLst>
                                            <p:cond delay="432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25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" dur="22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275" fill="hold">
                                          <p:stCondLst>
                                            <p:cond delay="227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2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780" autoRev="1" fill="hold">
                                          <p:stCondLst>
                                            <p:cond delay="227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80" fill="hold">
                                          <p:stCondLst>
                                            <p:cond delay="432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25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" dur="22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275" fill="hold">
                                          <p:stCondLst>
                                            <p:cond delay="227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2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780" autoRev="1" fill="hold">
                                          <p:stCondLst>
                                            <p:cond delay="227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80" fill="hold">
                                          <p:stCondLst>
                                            <p:cond delay="432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4360" y="981000"/>
            <a:ext cx="7772400" cy="5447880"/>
            <a:chOff x="684360" y="981000"/>
            <a:chExt cx="7772400" cy="5447880"/>
          </a:xfrm>
        </p:grpSpPr>
        <p:sp>
          <p:nvSpPr>
            <p:cNvPr id="150" name=""/>
            <p:cNvSpPr/>
            <p:nvPr/>
          </p:nvSpPr>
          <p:spPr>
            <a:xfrm>
              <a:off x="684360" y="981000"/>
              <a:ext cx="7772400" cy="5181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4360" y="6200640"/>
              <a:ext cx="7772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85800" y="1452600"/>
            <a:ext cx="7772400" cy="4218120"/>
            <a:chOff x="685800" y="1452600"/>
            <a:chExt cx="7772400" cy="4218120"/>
          </a:xfrm>
        </p:grpSpPr>
        <p:sp>
          <p:nvSpPr>
            <p:cNvPr id="154" name=""/>
            <p:cNvSpPr/>
            <p:nvPr/>
          </p:nvSpPr>
          <p:spPr>
            <a:xfrm>
              <a:off x="685800" y="1452600"/>
              <a:ext cx="7772400" cy="3951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5800" y="5442120"/>
              <a:ext cx="777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900000" y="692280"/>
            <a:ext cx="7283520" cy="5752440"/>
            <a:chOff x="900000" y="692280"/>
            <a:chExt cx="7283520" cy="5752440"/>
          </a:xfrm>
        </p:grpSpPr>
        <p:sp>
          <p:nvSpPr>
            <p:cNvPr id="158" name=""/>
            <p:cNvSpPr/>
            <p:nvPr/>
          </p:nvSpPr>
          <p:spPr>
            <a:xfrm>
              <a:off x="900000" y="692280"/>
              <a:ext cx="7283520" cy="54860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00000" y="6216480"/>
              <a:ext cx="72835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082520" y="685800"/>
            <a:ext cx="6978960" cy="5753160"/>
            <a:chOff x="1082520" y="685800"/>
            <a:chExt cx="6978960" cy="5753160"/>
          </a:xfrm>
        </p:grpSpPr>
        <p:sp>
          <p:nvSpPr>
            <p:cNvPr id="162" name=""/>
            <p:cNvSpPr/>
            <p:nvPr/>
          </p:nvSpPr>
          <p:spPr>
            <a:xfrm>
              <a:off x="1082520" y="685800"/>
              <a:ext cx="6978960" cy="5486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82520" y="6210360"/>
              <a:ext cx="6978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914400" y="685800"/>
            <a:ext cx="7315200" cy="5753160"/>
            <a:chOff x="914400" y="685800"/>
            <a:chExt cx="7315200" cy="5753160"/>
          </a:xfrm>
        </p:grpSpPr>
        <p:sp>
          <p:nvSpPr>
            <p:cNvPr id="166" name="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14400" y="6210360"/>
              <a:ext cx="73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147680" y="685800"/>
            <a:ext cx="6846840" cy="5753160"/>
            <a:chOff x="1147680" y="685800"/>
            <a:chExt cx="6846840" cy="5753160"/>
          </a:xfrm>
        </p:grpSpPr>
        <p:sp>
          <p:nvSpPr>
            <p:cNvPr id="170" name=""/>
            <p:cNvSpPr/>
            <p:nvPr/>
          </p:nvSpPr>
          <p:spPr>
            <a:xfrm>
              <a:off x="1147680" y="685800"/>
              <a:ext cx="6846840" cy="5486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47680" y="6210360"/>
              <a:ext cx="684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914400" y="685800"/>
            <a:ext cx="7315200" cy="5753160"/>
            <a:chOff x="914400" y="685800"/>
            <a:chExt cx="7315200" cy="5753160"/>
          </a:xfrm>
        </p:grpSpPr>
        <p:sp>
          <p:nvSpPr>
            <p:cNvPr id="174" name="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14400" y="6210360"/>
              <a:ext cx="73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914400" y="685800"/>
            <a:ext cx="7315200" cy="5753160"/>
            <a:chOff x="914400" y="685800"/>
            <a:chExt cx="7315200" cy="5753160"/>
          </a:xfrm>
        </p:grpSpPr>
        <p:sp>
          <p:nvSpPr>
            <p:cNvPr id="178" name="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14400" y="6210360"/>
              <a:ext cx="73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098720" y="685800"/>
            <a:ext cx="6945120" cy="5753160"/>
            <a:chOff x="1098720" y="685800"/>
            <a:chExt cx="6945120" cy="5753160"/>
          </a:xfrm>
        </p:grpSpPr>
        <p:sp>
          <p:nvSpPr>
            <p:cNvPr id="182" name=""/>
            <p:cNvSpPr/>
            <p:nvPr/>
          </p:nvSpPr>
          <p:spPr>
            <a:xfrm>
              <a:off x="1098720" y="685800"/>
              <a:ext cx="6945120" cy="5486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98720" y="6210360"/>
              <a:ext cx="694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919080" y="685800"/>
            <a:ext cx="7305840" cy="5753160"/>
            <a:chOff x="919080" y="685800"/>
            <a:chExt cx="7305840" cy="5753160"/>
          </a:xfrm>
        </p:grpSpPr>
        <p:sp>
          <p:nvSpPr>
            <p:cNvPr id="186" name=""/>
            <p:cNvSpPr/>
            <p:nvPr/>
          </p:nvSpPr>
          <p:spPr>
            <a:xfrm>
              <a:off x="919080" y="685800"/>
              <a:ext cx="7305840" cy="5486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19080" y="6210360"/>
              <a:ext cx="73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514600" y="685800"/>
            <a:ext cx="4114800" cy="5753160"/>
            <a:chOff x="2514600" y="685800"/>
            <a:chExt cx="4114800" cy="5753160"/>
          </a:xfrm>
        </p:grpSpPr>
        <p:sp>
          <p:nvSpPr>
            <p:cNvPr id="118" name=""/>
            <p:cNvSpPr/>
            <p:nvPr/>
          </p:nvSpPr>
          <p:spPr>
            <a:xfrm>
              <a:off x="2514600" y="685800"/>
              <a:ext cx="4114800" cy="5486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14600" y="6210360"/>
              <a:ext cx="411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914400" y="685800"/>
            <a:ext cx="7315200" cy="5753160"/>
            <a:chOff x="914400" y="685800"/>
            <a:chExt cx="7315200" cy="5753160"/>
          </a:xfrm>
        </p:grpSpPr>
        <p:sp>
          <p:nvSpPr>
            <p:cNvPr id="190" name="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14400" y="6210360"/>
              <a:ext cx="73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684360" y="981000"/>
            <a:ext cx="7772400" cy="5452920"/>
            <a:chOff x="684360" y="981000"/>
            <a:chExt cx="7772400" cy="5452920"/>
          </a:xfrm>
        </p:grpSpPr>
        <p:sp>
          <p:nvSpPr>
            <p:cNvPr id="194" name=""/>
            <p:cNvSpPr/>
            <p:nvPr/>
          </p:nvSpPr>
          <p:spPr>
            <a:xfrm>
              <a:off x="684360" y="981000"/>
              <a:ext cx="7772400" cy="51861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4360" y="6205320"/>
              <a:ext cx="777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914400" y="685800"/>
            <a:ext cx="7313760" cy="5753160"/>
            <a:chOff x="914400" y="685800"/>
            <a:chExt cx="7313760" cy="5753160"/>
          </a:xfrm>
        </p:grpSpPr>
        <p:sp>
          <p:nvSpPr>
            <p:cNvPr id="198" name=""/>
            <p:cNvSpPr/>
            <p:nvPr/>
          </p:nvSpPr>
          <p:spPr>
            <a:xfrm>
              <a:off x="914400" y="685800"/>
              <a:ext cx="7313760" cy="5486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914400" y="6210360"/>
              <a:ext cx="7313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835280" y="404640"/>
            <a:ext cx="5700240" cy="6048360"/>
            <a:chOff x="1835280" y="404640"/>
            <a:chExt cx="5700240" cy="6048360"/>
          </a:xfrm>
        </p:grpSpPr>
        <p:sp>
          <p:nvSpPr>
            <p:cNvPr id="202" name=""/>
            <p:cNvSpPr/>
            <p:nvPr/>
          </p:nvSpPr>
          <p:spPr>
            <a:xfrm>
              <a:off x="1835280" y="404640"/>
              <a:ext cx="5700240" cy="5767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35280" y="6212880"/>
              <a:ext cx="570024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700360" y="692280"/>
            <a:ext cx="4183200" cy="5752440"/>
            <a:chOff x="2700360" y="692280"/>
            <a:chExt cx="4183200" cy="5752440"/>
          </a:xfrm>
        </p:grpSpPr>
        <p:sp>
          <p:nvSpPr>
            <p:cNvPr id="206" name=""/>
            <p:cNvSpPr/>
            <p:nvPr/>
          </p:nvSpPr>
          <p:spPr>
            <a:xfrm>
              <a:off x="2700360" y="692280"/>
              <a:ext cx="4183200" cy="54860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0360" y="6216480"/>
              <a:ext cx="41832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42920" y="765000"/>
            <a:ext cx="7218360" cy="5759280"/>
            <a:chOff x="1042920" y="765000"/>
            <a:chExt cx="7218360" cy="5759280"/>
          </a:xfrm>
        </p:grpSpPr>
        <p:sp>
          <p:nvSpPr>
            <p:cNvPr id="210" name=""/>
            <p:cNvSpPr/>
            <p:nvPr/>
          </p:nvSpPr>
          <p:spPr>
            <a:xfrm>
              <a:off x="1042920" y="765000"/>
              <a:ext cx="7218360" cy="54925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42920" y="6295680"/>
              <a:ext cx="7218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2" name=""/>
          <p:cNvSpPr txBox="1"/>
          <p:nvPr/>
        </p:nvSpPr>
        <p:spPr>
          <a:xfrm>
            <a:off x="234000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slow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500" fill="hold"/>
                                        <p:tgtEl>
                                          <p:spTgt spid="2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14400" y="685800"/>
            <a:ext cx="7315200" cy="5753160"/>
            <a:chOff x="914400" y="685800"/>
            <a:chExt cx="7315200" cy="5753160"/>
          </a:xfrm>
        </p:grpSpPr>
        <p:sp>
          <p:nvSpPr>
            <p:cNvPr id="122" name="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14400" y="6210360"/>
              <a:ext cx="73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684360" y="981000"/>
            <a:ext cx="7772400" cy="5456160"/>
            <a:chOff x="684360" y="981000"/>
            <a:chExt cx="7772400" cy="5456160"/>
          </a:xfrm>
        </p:grpSpPr>
        <p:sp>
          <p:nvSpPr>
            <p:cNvPr id="126" name=""/>
            <p:cNvSpPr/>
            <p:nvPr/>
          </p:nvSpPr>
          <p:spPr>
            <a:xfrm>
              <a:off x="684360" y="981000"/>
              <a:ext cx="7772400" cy="5189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4360" y="6208560"/>
              <a:ext cx="777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187280" y="549360"/>
            <a:ext cx="7772400" cy="5422680"/>
            <a:chOff x="1187280" y="549360"/>
            <a:chExt cx="7772400" cy="5422680"/>
          </a:xfrm>
        </p:grpSpPr>
        <p:sp>
          <p:nvSpPr>
            <p:cNvPr id="130" name=""/>
            <p:cNvSpPr/>
            <p:nvPr/>
          </p:nvSpPr>
          <p:spPr>
            <a:xfrm>
              <a:off x="1187280" y="549360"/>
              <a:ext cx="7772400" cy="5155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87280" y="5743440"/>
              <a:ext cx="777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914400" y="685800"/>
            <a:ext cx="7315200" cy="5753160"/>
            <a:chOff x="914400" y="685800"/>
            <a:chExt cx="7315200" cy="5753160"/>
          </a:xfrm>
        </p:grpSpPr>
        <p:sp>
          <p:nvSpPr>
            <p:cNvPr id="134" name="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14400" y="6210360"/>
              <a:ext cx="73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630520" y="685800"/>
            <a:ext cx="3882960" cy="5753160"/>
            <a:chOff x="2630520" y="685800"/>
            <a:chExt cx="3882960" cy="5753160"/>
          </a:xfrm>
        </p:grpSpPr>
        <p:sp>
          <p:nvSpPr>
            <p:cNvPr id="138" name=""/>
            <p:cNvSpPr/>
            <p:nvPr/>
          </p:nvSpPr>
          <p:spPr>
            <a:xfrm>
              <a:off x="2630520" y="685800"/>
              <a:ext cx="3882960" cy="5486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30520" y="6210360"/>
              <a:ext cx="3882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042920" y="1125360"/>
            <a:ext cx="7772400" cy="5288040"/>
            <a:chOff x="1042920" y="1125360"/>
            <a:chExt cx="7772400" cy="5288040"/>
          </a:xfrm>
        </p:grpSpPr>
        <p:sp>
          <p:nvSpPr>
            <p:cNvPr id="142" name=""/>
            <p:cNvSpPr/>
            <p:nvPr/>
          </p:nvSpPr>
          <p:spPr>
            <a:xfrm>
              <a:off x="1042920" y="1125360"/>
              <a:ext cx="7772400" cy="5021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42920" y="6184800"/>
              <a:ext cx="777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513160" y="685800"/>
            <a:ext cx="4117680" cy="5753160"/>
            <a:chOff x="2513160" y="685800"/>
            <a:chExt cx="4117680" cy="5753160"/>
          </a:xfrm>
        </p:grpSpPr>
        <p:sp>
          <p:nvSpPr>
            <p:cNvPr id="146" name=""/>
            <p:cNvSpPr/>
            <p:nvPr/>
          </p:nvSpPr>
          <p:spPr>
            <a:xfrm>
              <a:off x="2513160" y="685800"/>
              <a:ext cx="4117680" cy="5486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13160" y="6210360"/>
              <a:ext cx="4117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7T16:19:28Z</dcterms:created>
  <dc:creator>d*</dc:creator>
  <dc:description/>
  <dc:language>en-US</dc:language>
  <cp:lastModifiedBy>Smets</cp:lastModifiedBy>
  <dcterms:modified xsi:type="dcterms:W3CDTF">2008-10-07T04:12:50Z</dcterms:modified>
  <cp:revision>3</cp:revision>
  <dc:subject/>
  <dc:title>Valcer Štraus</dc:title>
</cp:coreProperties>
</file>