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5.jpeg" ContentType="image/jpeg"/>
  <Override PartName="/ppt/media/image26.gif" ContentType="image/gif"/>
  <Override PartName="/ppt/media/image20.jpeg" ContentType="image/jpeg"/>
  <Override PartName="/ppt/media/image1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13.jpeg" ContentType="image/jpeg"/>
  <Override PartName="/ppt/media/image14.jpeg" ContentType="image/jpeg"/>
  <Override PartName="/ppt/media/voices-of-spring1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D4998-84CD-4A2C-8371-64F1672F8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331E5-6B79-4D28-B730-C09E61AC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51317-73AA-4308-B480-9A09BF6B5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5B5A9-418F-4BBB-BBC2-0B47B4369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67BC-AF73-4D5F-BFFF-59430D249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F457-19AA-46C3-A043-91DAA667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F9E3-CD19-4E32-9CE9-F776009A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9CE3-FB4E-4EFB-BEB3-BC7DB24D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0F04-6947-4B4D-96F5-5A39D0BE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E89C-622B-4671-B98D-92BB4386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0E15-6E21-4758-8223-8604B5DC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BC02A-C7B7-48B3-977B-7A0F8440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BA3F-2C2F-4BC9-A59F-DEC33C6D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84FC-360F-481F-A25C-D09BCB51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EDA1-3274-45C2-85E7-9FECD5C6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6428-6972-4E72-B6BF-DAB08568C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14BC-ED5B-4567-9C59-E6EDFE959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EC56C-46AB-4B69-AE32-DC1F48D0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EBDEB-08FA-4CC4-BF87-D4FE5CB1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2E310-5A7D-45D6-B59F-C1310016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1E573-80F5-422D-8763-3054FE74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3AEC2-3A76-47AC-BC6F-0A7DD2EF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0F189-5D86-4162-984B-39D3894D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77664-569B-4EC0-AE0A-6D4E93C5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48D6-CA8D-453A-807A-33226216993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1F99-D6BC-4099-8BDC-741CDF56441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audio" Target="../media/voices-of-spring1.wav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692360" y="1125360"/>
            <a:ext cx="6927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ero Extended Hollow"/>
              </a:rPr>
              <a:t>Johann Straus</a:t>
            </a:r>
            <a:r>
              <a:rPr b="0" lang="en-US" sz="4800" spc="-1" strike="noStrike">
                <a:solidFill>
                  <a:srgbClr val="ffffff"/>
                </a:solidFill>
                <a:latin typeface="Aero Extended Hollow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800" spc="-1" strike="noStrike">
                <a:solidFill>
                  <a:srgbClr val="ffffff"/>
                </a:solidFill>
                <a:latin typeface="Arial"/>
              </a:rPr>
              <a:t>IN NJEGOV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800" spc="-1" strike="noStrike">
                <a:solidFill>
                  <a:srgbClr val="ffffff"/>
                </a:solidFill>
                <a:latin typeface="Arial"/>
              </a:rPr>
              <a:t>znamenit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800" spc="-1" strike="noStrike">
                <a:solidFill>
                  <a:srgbClr val="ffffff"/>
                </a:solidFill>
                <a:latin typeface="Arial"/>
              </a:rPr>
              <a:t>VALC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-1047600" y="5516640"/>
            <a:ext cx="1047600" cy="371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-1047600" y="5589720"/>
            <a:ext cx="1047600" cy="371520"/>
          </a:xfrm>
          <a:prstGeom prst="rect">
            <a:avLst/>
          </a:prstGeom>
          <a:ln w="0">
            <a:noFill/>
          </a:ln>
        </p:spPr>
      </p:pic>
    </p:spTree>
  </p:cSld>
  <p:transition spd="slow" advTm="40000">
    <p:random/>
    <p:sndAc>
      <p:stSnd>
        <p:snd r:embed="rId3" name="voices-of-spring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" nodeType="after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25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" dur="22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275" fill="hold">
                                          <p:stCondLst>
                                            <p:cond delay="227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2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780" autoRev="1" fill="hold">
                                          <p:stCondLst>
                                            <p:cond delay="227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80" fill="hold">
                                          <p:stCondLst>
                                            <p:cond delay="432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25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" dur="22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275" fill="hold">
                                          <p:stCondLst>
                                            <p:cond delay="227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2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780" autoRev="1" fill="hold">
                                          <p:stCondLst>
                                            <p:cond delay="227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80" fill="hold">
                                          <p:stCondLst>
                                            <p:cond delay="432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25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" dur="22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275" fill="hold">
                                          <p:stCondLst>
                                            <p:cond delay="227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2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780" autoRev="1" fill="hold">
                                          <p:stCondLst>
                                            <p:cond delay="227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80" fill="hold">
                                          <p:stCondLst>
                                            <p:cond delay="432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25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" dur="22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275" fill="hold">
                                          <p:stCondLst>
                                            <p:cond delay="227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2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780" autoRev="1" fill="hold">
                                          <p:stCondLst>
                                            <p:cond delay="227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80" fill="hold">
                                          <p:stCondLst>
                                            <p:cond delay="432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4360" y="981000"/>
            <a:ext cx="7772400" cy="5447880"/>
            <a:chOff x="684360" y="981000"/>
            <a:chExt cx="7772400" cy="5447880"/>
          </a:xfrm>
        </p:grpSpPr>
        <p:sp>
          <p:nvSpPr>
            <p:cNvPr id="150" name=""/>
            <p:cNvSpPr/>
            <p:nvPr/>
          </p:nvSpPr>
          <p:spPr>
            <a:xfrm>
              <a:off x="684360" y="981000"/>
              <a:ext cx="7772400" cy="5181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4360" y="6200640"/>
              <a:ext cx="7772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85800" y="1452600"/>
            <a:ext cx="7772400" cy="4218120"/>
            <a:chOff x="685800" y="1452600"/>
            <a:chExt cx="7772400" cy="4218120"/>
          </a:xfrm>
        </p:grpSpPr>
        <p:sp>
          <p:nvSpPr>
            <p:cNvPr id="154" name=""/>
            <p:cNvSpPr/>
            <p:nvPr/>
          </p:nvSpPr>
          <p:spPr>
            <a:xfrm>
              <a:off x="685800" y="1452600"/>
              <a:ext cx="7772400" cy="3951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5800" y="5442120"/>
              <a:ext cx="777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900000" y="692280"/>
            <a:ext cx="7283520" cy="5752440"/>
            <a:chOff x="900000" y="692280"/>
            <a:chExt cx="7283520" cy="5752440"/>
          </a:xfrm>
        </p:grpSpPr>
        <p:sp>
          <p:nvSpPr>
            <p:cNvPr id="158" name=""/>
            <p:cNvSpPr/>
            <p:nvPr/>
          </p:nvSpPr>
          <p:spPr>
            <a:xfrm>
              <a:off x="900000" y="692280"/>
              <a:ext cx="7283520" cy="54860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00000" y="6216480"/>
              <a:ext cx="72835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082520" y="685800"/>
            <a:ext cx="6978960" cy="5753160"/>
            <a:chOff x="1082520" y="685800"/>
            <a:chExt cx="6978960" cy="5753160"/>
          </a:xfrm>
        </p:grpSpPr>
        <p:sp>
          <p:nvSpPr>
            <p:cNvPr id="162" name=""/>
            <p:cNvSpPr/>
            <p:nvPr/>
          </p:nvSpPr>
          <p:spPr>
            <a:xfrm>
              <a:off x="1082520" y="685800"/>
              <a:ext cx="6978960" cy="5486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082520" y="6210360"/>
              <a:ext cx="6978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914400" y="685800"/>
            <a:ext cx="7315200" cy="5753160"/>
            <a:chOff x="914400" y="685800"/>
            <a:chExt cx="7315200" cy="5753160"/>
          </a:xfrm>
        </p:grpSpPr>
        <p:sp>
          <p:nvSpPr>
            <p:cNvPr id="166" name="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14400" y="6210360"/>
              <a:ext cx="73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147680" y="685800"/>
            <a:ext cx="6846840" cy="5753160"/>
            <a:chOff x="1147680" y="685800"/>
            <a:chExt cx="6846840" cy="5753160"/>
          </a:xfrm>
        </p:grpSpPr>
        <p:sp>
          <p:nvSpPr>
            <p:cNvPr id="170" name=""/>
            <p:cNvSpPr/>
            <p:nvPr/>
          </p:nvSpPr>
          <p:spPr>
            <a:xfrm>
              <a:off x="1147680" y="685800"/>
              <a:ext cx="6846840" cy="5486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47680" y="6210360"/>
              <a:ext cx="684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914400" y="685800"/>
            <a:ext cx="7315200" cy="5753160"/>
            <a:chOff x="914400" y="685800"/>
            <a:chExt cx="7315200" cy="5753160"/>
          </a:xfrm>
        </p:grpSpPr>
        <p:sp>
          <p:nvSpPr>
            <p:cNvPr id="174" name="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14400" y="6210360"/>
              <a:ext cx="73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914400" y="685800"/>
            <a:ext cx="7315200" cy="5753160"/>
            <a:chOff x="914400" y="685800"/>
            <a:chExt cx="7315200" cy="5753160"/>
          </a:xfrm>
        </p:grpSpPr>
        <p:sp>
          <p:nvSpPr>
            <p:cNvPr id="178" name="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14400" y="6210360"/>
              <a:ext cx="73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098720" y="685800"/>
            <a:ext cx="6945120" cy="5753160"/>
            <a:chOff x="1098720" y="685800"/>
            <a:chExt cx="6945120" cy="5753160"/>
          </a:xfrm>
        </p:grpSpPr>
        <p:sp>
          <p:nvSpPr>
            <p:cNvPr id="182" name=""/>
            <p:cNvSpPr/>
            <p:nvPr/>
          </p:nvSpPr>
          <p:spPr>
            <a:xfrm>
              <a:off x="1098720" y="685800"/>
              <a:ext cx="6945120" cy="5486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98720" y="6210360"/>
              <a:ext cx="6945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919080" y="685800"/>
            <a:ext cx="7305840" cy="5753160"/>
            <a:chOff x="919080" y="685800"/>
            <a:chExt cx="7305840" cy="5753160"/>
          </a:xfrm>
        </p:grpSpPr>
        <p:sp>
          <p:nvSpPr>
            <p:cNvPr id="186" name=""/>
            <p:cNvSpPr/>
            <p:nvPr/>
          </p:nvSpPr>
          <p:spPr>
            <a:xfrm>
              <a:off x="919080" y="685800"/>
              <a:ext cx="7305840" cy="5486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19080" y="6210360"/>
              <a:ext cx="73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514600" y="685800"/>
            <a:ext cx="4114800" cy="5753160"/>
            <a:chOff x="2514600" y="685800"/>
            <a:chExt cx="4114800" cy="5753160"/>
          </a:xfrm>
        </p:grpSpPr>
        <p:sp>
          <p:nvSpPr>
            <p:cNvPr id="118" name=""/>
            <p:cNvSpPr/>
            <p:nvPr/>
          </p:nvSpPr>
          <p:spPr>
            <a:xfrm>
              <a:off x="2514600" y="685800"/>
              <a:ext cx="4114800" cy="5486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14600" y="6210360"/>
              <a:ext cx="411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914400" y="685800"/>
            <a:ext cx="7315200" cy="5753160"/>
            <a:chOff x="914400" y="685800"/>
            <a:chExt cx="7315200" cy="5753160"/>
          </a:xfrm>
        </p:grpSpPr>
        <p:sp>
          <p:nvSpPr>
            <p:cNvPr id="190" name="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14400" y="6210360"/>
              <a:ext cx="73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684360" y="981000"/>
            <a:ext cx="7772400" cy="5452920"/>
            <a:chOff x="684360" y="981000"/>
            <a:chExt cx="7772400" cy="5452920"/>
          </a:xfrm>
        </p:grpSpPr>
        <p:sp>
          <p:nvSpPr>
            <p:cNvPr id="194" name=""/>
            <p:cNvSpPr/>
            <p:nvPr/>
          </p:nvSpPr>
          <p:spPr>
            <a:xfrm>
              <a:off x="684360" y="981000"/>
              <a:ext cx="7772400" cy="51861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84360" y="6205320"/>
              <a:ext cx="777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914400" y="685800"/>
            <a:ext cx="7313760" cy="5753160"/>
            <a:chOff x="914400" y="685800"/>
            <a:chExt cx="7313760" cy="5753160"/>
          </a:xfrm>
        </p:grpSpPr>
        <p:sp>
          <p:nvSpPr>
            <p:cNvPr id="198" name=""/>
            <p:cNvSpPr/>
            <p:nvPr/>
          </p:nvSpPr>
          <p:spPr>
            <a:xfrm>
              <a:off x="914400" y="685800"/>
              <a:ext cx="7313760" cy="5486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914400" y="6210360"/>
              <a:ext cx="7313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835280" y="404640"/>
            <a:ext cx="5700240" cy="6048360"/>
            <a:chOff x="1835280" y="404640"/>
            <a:chExt cx="5700240" cy="6048360"/>
          </a:xfrm>
        </p:grpSpPr>
        <p:sp>
          <p:nvSpPr>
            <p:cNvPr id="202" name=""/>
            <p:cNvSpPr/>
            <p:nvPr/>
          </p:nvSpPr>
          <p:spPr>
            <a:xfrm>
              <a:off x="1835280" y="404640"/>
              <a:ext cx="5700240" cy="5767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35280" y="6212880"/>
              <a:ext cx="570024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700360" y="692280"/>
            <a:ext cx="4183200" cy="5752440"/>
            <a:chOff x="2700360" y="692280"/>
            <a:chExt cx="4183200" cy="5752440"/>
          </a:xfrm>
        </p:grpSpPr>
        <p:sp>
          <p:nvSpPr>
            <p:cNvPr id="206" name=""/>
            <p:cNvSpPr/>
            <p:nvPr/>
          </p:nvSpPr>
          <p:spPr>
            <a:xfrm>
              <a:off x="2700360" y="692280"/>
              <a:ext cx="4183200" cy="54860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0360" y="6216480"/>
              <a:ext cx="41832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42920" y="765000"/>
            <a:ext cx="7218360" cy="5759280"/>
            <a:chOff x="1042920" y="765000"/>
            <a:chExt cx="7218360" cy="5759280"/>
          </a:xfrm>
        </p:grpSpPr>
        <p:sp>
          <p:nvSpPr>
            <p:cNvPr id="210" name=""/>
            <p:cNvSpPr/>
            <p:nvPr/>
          </p:nvSpPr>
          <p:spPr>
            <a:xfrm>
              <a:off x="1042920" y="765000"/>
              <a:ext cx="7218360" cy="54925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42920" y="6295680"/>
              <a:ext cx="7218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2" name=""/>
          <p:cNvSpPr txBox="1"/>
          <p:nvPr/>
        </p:nvSpPr>
        <p:spPr>
          <a:xfrm>
            <a:off x="234000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slow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500" fill="hold"/>
                                        <p:tgtEl>
                                          <p:spTgt spid="2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914400" y="685800"/>
            <a:ext cx="7315200" cy="5753160"/>
            <a:chOff x="914400" y="685800"/>
            <a:chExt cx="7315200" cy="5753160"/>
          </a:xfrm>
        </p:grpSpPr>
        <p:sp>
          <p:nvSpPr>
            <p:cNvPr id="122" name="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14400" y="6210360"/>
              <a:ext cx="73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684360" y="981000"/>
            <a:ext cx="7772400" cy="5456160"/>
            <a:chOff x="684360" y="981000"/>
            <a:chExt cx="7772400" cy="5456160"/>
          </a:xfrm>
        </p:grpSpPr>
        <p:sp>
          <p:nvSpPr>
            <p:cNvPr id="126" name=""/>
            <p:cNvSpPr/>
            <p:nvPr/>
          </p:nvSpPr>
          <p:spPr>
            <a:xfrm>
              <a:off x="684360" y="981000"/>
              <a:ext cx="7772400" cy="5189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4360" y="6208560"/>
              <a:ext cx="777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187280" y="549360"/>
            <a:ext cx="7772400" cy="5422680"/>
            <a:chOff x="1187280" y="549360"/>
            <a:chExt cx="7772400" cy="5422680"/>
          </a:xfrm>
        </p:grpSpPr>
        <p:sp>
          <p:nvSpPr>
            <p:cNvPr id="130" name=""/>
            <p:cNvSpPr/>
            <p:nvPr/>
          </p:nvSpPr>
          <p:spPr>
            <a:xfrm>
              <a:off x="1187280" y="549360"/>
              <a:ext cx="7772400" cy="5155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87280" y="5743440"/>
              <a:ext cx="777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914400" y="685800"/>
            <a:ext cx="7315200" cy="5753160"/>
            <a:chOff x="914400" y="685800"/>
            <a:chExt cx="7315200" cy="5753160"/>
          </a:xfrm>
        </p:grpSpPr>
        <p:sp>
          <p:nvSpPr>
            <p:cNvPr id="134" name=""/>
            <p:cNvSpPr/>
            <p:nvPr/>
          </p:nvSpPr>
          <p:spPr>
            <a:xfrm>
              <a:off x="914400" y="685800"/>
              <a:ext cx="7315200" cy="5486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14400" y="6210360"/>
              <a:ext cx="7315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630520" y="685800"/>
            <a:ext cx="3882960" cy="5753160"/>
            <a:chOff x="2630520" y="685800"/>
            <a:chExt cx="3882960" cy="5753160"/>
          </a:xfrm>
        </p:grpSpPr>
        <p:sp>
          <p:nvSpPr>
            <p:cNvPr id="138" name=""/>
            <p:cNvSpPr/>
            <p:nvPr/>
          </p:nvSpPr>
          <p:spPr>
            <a:xfrm>
              <a:off x="2630520" y="685800"/>
              <a:ext cx="3882960" cy="5486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30520" y="6210360"/>
              <a:ext cx="3882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042920" y="1125360"/>
            <a:ext cx="7772400" cy="5288040"/>
            <a:chOff x="1042920" y="1125360"/>
            <a:chExt cx="7772400" cy="5288040"/>
          </a:xfrm>
        </p:grpSpPr>
        <p:sp>
          <p:nvSpPr>
            <p:cNvPr id="142" name=""/>
            <p:cNvSpPr/>
            <p:nvPr/>
          </p:nvSpPr>
          <p:spPr>
            <a:xfrm>
              <a:off x="1042920" y="1125360"/>
              <a:ext cx="7772400" cy="5021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42920" y="6184800"/>
              <a:ext cx="7772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513160" y="685800"/>
            <a:ext cx="4117680" cy="5753160"/>
            <a:chOff x="2513160" y="685800"/>
            <a:chExt cx="4117680" cy="5753160"/>
          </a:xfrm>
        </p:grpSpPr>
        <p:sp>
          <p:nvSpPr>
            <p:cNvPr id="146" name=""/>
            <p:cNvSpPr/>
            <p:nvPr/>
          </p:nvSpPr>
          <p:spPr>
            <a:xfrm>
              <a:off x="2513160" y="685800"/>
              <a:ext cx="4117680" cy="5486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13160" y="6210360"/>
              <a:ext cx="4117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5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7T16:19:28Z</dcterms:created>
  <dc:creator>d*</dc:creator>
  <dc:description/>
  <dc:language>en-US</dc:language>
  <cp:lastModifiedBy>Smets</cp:lastModifiedBy>
  <dcterms:modified xsi:type="dcterms:W3CDTF">2008-10-07T04:12:50Z</dcterms:modified>
  <cp:revision>3</cp:revision>
  <dc:subject/>
  <dc:title>Valcer Štraus</dc:title>
</cp:coreProperties>
</file>