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15CC-05A5-4E82-B0B0-B2F1E3789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7E67-ED93-4B3C-8553-7253F6BD4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46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5480" y="434196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446-9B2E-4D65-86AA-5FBE1D02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2CA-6C8D-4FA6-9F7B-11B3B77D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458-9875-4D1C-9969-1C902C7E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009-8CD2-4E5D-9698-DC4B2EBF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919-E443-441B-9E4E-EB84D3FB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166F-3320-4D4A-B03B-39E68FBE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DC7E-4882-44E8-A25C-29201CCB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320F-287F-43FF-A9C4-418E3229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7F0-6BF3-4162-85C6-23CF3410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72EE-5A20-42B8-8D14-5AAD44CB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6608-5D9B-473F-90EB-302656E0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970-ABC0-4ED4-A206-17A7B922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21E9-00BC-47C2-99D6-02210B58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D6E3-121C-4D12-A2BD-9CB5B2CC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EAFD-BF64-467C-8F93-87D121CB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FBC2-1622-4251-B450-115F12C2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86EF-4D7F-4BFA-AA5D-99460724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718-34D8-429A-AF6D-10F48422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724-37A8-42DB-BDEB-FE6DA3D1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5A9-1623-4B64-BAD0-18200048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585-0726-4AA7-9AEB-48F37201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D69-7D69-48C2-8E7A-B54684F1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2CB-FBE7-42EB-B94E-10EFDE5F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9E3-3CD0-4FDF-8C62-5739D3E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17400" y="1409760"/>
              <a:ext cx="8510760" cy="76320"/>
              <a:chOff x="617400" y="1409760"/>
              <a:chExt cx="8510760" cy="76320"/>
            </a:xfrm>
          </p:grpSpPr>
          <p:sp>
            <p:nvSpPr>
              <p:cNvPr id="3" name="Line 5"/>
              <p:cNvSpPr/>
              <p:nvPr/>
            </p:nvSpPr>
            <p:spPr>
              <a:xfrm>
                <a:off x="617400" y="1486080"/>
                <a:ext cx="85107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617400" y="1409760"/>
                <a:ext cx="85107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1666-688C-4FD2-A1AC-A4CEA49A7B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48" name="Group 4"/>
            <p:cNvGrpSpPr/>
            <p:nvPr/>
          </p:nvGrpSpPr>
          <p:grpSpPr>
            <a:xfrm>
              <a:off x="617400" y="3619440"/>
              <a:ext cx="8510760" cy="76320"/>
              <a:chOff x="617400" y="3619440"/>
              <a:chExt cx="8510760" cy="76320"/>
            </a:xfrm>
          </p:grpSpPr>
          <p:sp>
            <p:nvSpPr>
              <p:cNvPr id="49" name="Line 5"/>
              <p:cNvSpPr/>
              <p:nvPr/>
            </p:nvSpPr>
            <p:spPr>
              <a:xfrm>
                <a:off x="617400" y="3695760"/>
                <a:ext cx="85107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" name="Line 6"/>
              <p:cNvSpPr/>
              <p:nvPr/>
            </p:nvSpPr>
            <p:spPr>
              <a:xfrm>
                <a:off x="617400" y="3619440"/>
                <a:ext cx="85107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51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2BE3-8D34-4A05-8F8C-9094DDA112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880" y="1460160"/>
            <a:ext cx="7788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5400" spc="-1" strike="noStrike" u="sng">
                <a:solidFill>
                  <a:srgbClr val="ffcc66"/>
                </a:solidFill>
                <a:uFillTx/>
                <a:latin typeface="Times New Roman"/>
              </a:rPr>
              <a:t>Inmunosupresore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66760" y="6172200"/>
            <a:ext cx="86104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190760" y="46479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Dr. Pablo Monge Zeled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cc66"/>
                </a:solidFill>
                <a:uFillTx/>
                <a:latin typeface="Times New Roman"/>
              </a:rPr>
              <a:t>Aplicaciones terapéu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Prevención de rechazo de trasp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Riñón, corazón, hígado y páncreas. Médula ó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Enfermedades autoinmu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Uveítis no infecciosa, resistente a corticostero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Psoriasis gr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Dermatitis atópica gr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Síndrome nefrótico prim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Artritis reumato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Nefropatía lúp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Tacrólim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Macrólido obtenido de </a:t>
            </a:r>
            <a:r>
              <a:rPr b="1" i="1" lang="es-CR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reptomyces tsukubaensis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munosupresión similar a ciclospor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Se une con inmunofilina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Proteínas fijadoras de FK (FKB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100 veces más potente para inhibir IL-2 e IFN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dministra VO o IV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disponibilidad oral muy var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Tacrólim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smo hepá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ocromo P-450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reción bili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frotox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atotoxicidad, neurotoxicidad, hipertensión arterial, hipercolesterole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betogé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e síntesis y secreción de insul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splante.  Psoriasis.  Uveí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cc66"/>
                </a:solidFill>
                <a:uFillTx/>
                <a:latin typeface="Times New Roman"/>
              </a:rPr>
              <a:t>Micofenolato de mofetil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MMF se convierte en ácido micofen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la inosina monofosfato deshidrogenasa (IMPD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Crucial en la biosíntesis </a:t>
            </a:r>
            <a:r>
              <a:rPr b="1" i="1" lang="es-CR" sz="2800" spc="-1" strike="noStrike">
                <a:solidFill>
                  <a:srgbClr val="ffffff"/>
                </a:solidFill>
                <a:latin typeface="Times New Roman"/>
              </a:rPr>
              <a:t>de novo 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de las puri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la proliferación de linfocitos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terfiere con la adhesión de los leucocitos al endotelio 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la selectina E, selectina P e ICAM-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cc66"/>
                </a:solidFill>
                <a:uFillTx/>
                <a:latin typeface="Times New Roman"/>
              </a:rPr>
              <a:t>Micofenolato de mofetil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d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fritis lúp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scul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ulomatosis de Wegener</a:t>
            </a:r>
            <a:br>
              <a:rPr sz="2400"/>
            </a:br>
            <a:br>
              <a:rPr sz="2400"/>
            </a:b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Azatiop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Citostático derivado de la 6-mercaptopurina </a:t>
            </a:r>
            <a:r>
              <a:rPr b="1" lang="es-CR" sz="2000" spc="-1" strike="noStrike">
                <a:solidFill>
                  <a:srgbClr val="ffffff"/>
                </a:solidFill>
                <a:latin typeface="Times New Roman"/>
              </a:rPr>
              <a:t>(6-M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la síntesis de A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Obstaculiza la actividad proliferativa de los linfocitos T y B, una vez activados por la IL-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Absorción 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Biodisponibilidad del 80-9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Azatiop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CR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 de 30 – 60 minu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En el organismo se trasnforma en 6-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Metabolizado también por la xantinooxid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El alopurinol inhibe su metabolismo y aumenta la actividad del fárma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Eliminación re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Azatiop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ff9933"/>
                </a:solidFill>
                <a:uFillTx/>
                <a:latin typeface="Times New Roman"/>
              </a:rPr>
              <a:t>Efectos adver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Toxicidad de médula ó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La granulocitopenia puede aparecer a la semana de in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Infe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Hepa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Urtic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ffcc66"/>
                </a:solidFill>
                <a:uFillTx/>
                <a:latin typeface="Times New Roman"/>
              </a:rPr>
              <a:t>Indic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revención de rechazo de trasplante (Riñ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L.E.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.T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.H.A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rtritis reumato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fosfami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Antineoplásico alquil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Todas las células linfoides son sensibles cuando se administra en el momento de máxima división celu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Los linfocitos B son más sensi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Biodisponibilidad oral superior al 7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Poca unión a proteínas plasmá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½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 variable entre 4 y 14 ho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fosfami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Menos del 20% se elimina vía re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La insuficiencia renal aumenta l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½ 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de elimin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La acroleína se acumula en la vejiga urin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Puede producir cistitis hemorrá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Para evitar esto se usan compuestos ricos en grupos –SH, como el </a:t>
            </a:r>
            <a:r>
              <a:rPr b="1" lang="es-CR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na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 (mercaptoetanosulfonato sód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Aislado del </a:t>
            </a:r>
            <a:r>
              <a:rPr b="1" i="1" lang="es-CR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lypocladium inflatum g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la activación de los linfocitos T – CD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Bloqueo de la transcripción génica de IL-2 y otras citoqui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Suprime algunas respuestas mediadas por anticuerpos, dependientes de la activación de linfocitos Th</a:t>
            </a:r>
            <a:r>
              <a:rPr b="1" lang="es-C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Debe actuar en fases muy tempra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fosfami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cc66"/>
                </a:solidFill>
                <a:uFillTx/>
                <a:latin typeface="Times New Roman"/>
              </a:rPr>
              <a:t>Efectos adve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áuseas, vóm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Toxicidad de médula ó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lope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Cistitis hemorrá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Cáncer de vej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Infert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Teratogé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cc66"/>
                </a:solidFill>
                <a:uFillTx/>
                <a:latin typeface="Times New Roman"/>
              </a:rPr>
              <a:t>Usos terapéu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revención de rechazo de trasplante (Médula óse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Granulomatosis de Wege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rtritis reumato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Lupus eritematoso sisté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efropatía lúp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Síndrome nefrótico idiopá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Metotrexate</a:t>
            </a:r>
            <a:br>
              <a:rPr sz="4000"/>
            </a:br>
            <a:r>
              <a:rPr b="1" lang="es-CR" sz="2400" spc="-1" strike="noStrike">
                <a:solidFill>
                  <a:srgbClr val="ffcc66"/>
                </a:solidFill>
                <a:latin typeface="Times New Roman"/>
              </a:rPr>
              <a:t>(ametopterina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ado el DMARD de primera línea en el tratamiento de la artritis reumato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tivo en dosis menores de las que se necesitan en quimioterapia cáncer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Metotrexate</a:t>
            </a:r>
            <a:br>
              <a:rPr sz="4000"/>
            </a:br>
            <a:r>
              <a:rPr b="1" lang="es-CR" sz="2400" spc="-1" strike="noStrike">
                <a:solidFill>
                  <a:srgbClr val="ffcc66"/>
                </a:solidFill>
                <a:latin typeface="Times New Roman"/>
              </a:rPr>
              <a:t>(ametopterina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canismo de a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sis baj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ción de la transformilasa del ribonucleotido aminoimidazolcarboxamida (AICAR) y la timidilato sinte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 efectos  en la quimiotaxis de los P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y algún efecto en la dihidrofolato reduct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 efectos en la función de los linfocitos y macrofa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es su principal mecanismo de acció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Metotrexate</a:t>
            </a:r>
            <a:br>
              <a:rPr sz="4000"/>
            </a:br>
            <a:r>
              <a:rPr b="1" lang="es-CR" sz="2400" spc="-1" strike="noStrike">
                <a:solidFill>
                  <a:srgbClr val="ffcc66"/>
                </a:solidFill>
                <a:latin typeface="Times New Roman"/>
              </a:rPr>
              <a:t>(ametopterina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armacociné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absorbe el 70% 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abolizado a componentes hidroxilados menos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 las células son poliglutamados,  donde persisten por períodos prolong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6-9 h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cretada principalmente por la o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% puede ser excretada en la 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Metotrexat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cc66"/>
                </a:solidFill>
                <a:uFillTx/>
                <a:latin typeface="Times New Roman"/>
              </a:rPr>
              <a:t>Reacciones adver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Mielosu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áuseas, vóm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Mucosis gastrointest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Ulceras de muc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Hepatotoxic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eumonitis interst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lope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0" y="159984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cc66"/>
                </a:solidFill>
                <a:uFillTx/>
                <a:latin typeface="Times New Roman"/>
              </a:rPr>
              <a:t>In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rtritis reumato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sori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Síndrome de Re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olimios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oliarteritis nod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Sarco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Leflunomi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relativamente específico en la inhibicion de linfocitos T activ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ibe la sínte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 nov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las pirimidi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ibiendo la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hidroorotato dehidrogen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 por vía 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ena absorción 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½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long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Leflunomi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tos activos con circulación enterohep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r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pe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ción enzimas hepá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Suprime la respuesta citotóxica mediada por célu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Rechazo de injertos y traspl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jerto contra huésped (Trasplante de médula óse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Enfermedades autoinmu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Se fija selectivamente a una inmunofilin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9933"/>
                </a:solidFill>
                <a:uFillTx/>
                <a:latin typeface="Times New Roman"/>
              </a:rPr>
              <a:t>Ciclofi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munofili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Superfamilia de rotamasas que participan en el plegamiento de proteínas implicadas en el crecimiento cel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El complejo ciclosporina-ciclofilina  se une a la calcineu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su actividad de fosfat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mpide que el NF-AT</a:t>
            </a:r>
            <a:r>
              <a:rPr b="1" lang="es-CR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 ingrese al núcl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Bloqueando la transcripción de genes que han de expresar linfocinas, especialmente IL-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Se inhibe por lo tanto la proliferación y diferenciación de linfocitos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INMUNO 1"/>
          <p:cNvPicPr/>
          <p:nvPr/>
        </p:nvPicPr>
        <p:blipFill>
          <a:blip r:embed="rId1"/>
          <a:stretch/>
        </p:blipFill>
        <p:spPr>
          <a:xfrm>
            <a:off x="725400" y="554040"/>
            <a:ext cx="76914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Administración oral o 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La fórmula oral es una microemul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Una vez ingerido forma micromicelios que pueden ser absorbidos aunque no haya secreción bili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CR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 de 1-1,5 ho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Los alimentos ricos en grasas pueden reducir ligeramente su bio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Rápida distribución en sang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98% unido a proteí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Metabolismo hepá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Oxidación por citocromo P –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CR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25 – 30 ho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ción principalmente biliar, 6% renal y por lech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resenta variabilidad farmacocinética intra e interindividual, y estrecho intervalo terapéut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o es mielodepres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o frena el crecimiento óseo en ni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o es teratogé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iveles terapéutic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100 – 200 ng/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2880" y="167616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efrotoxic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Hipertensión (50%) </a:t>
            </a: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asociada a retención de líqu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Hipertricosis (15 – 2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Hiperpotasemia (2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Hepatotox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Reacciones gastrointest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Temblor y parestesias (disestes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Hiperplasia ging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Hiperglic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Hiperlipid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3:47:10Z</dcterms:created>
  <dc:creator>Orlando Vargas</dc:creator>
  <dc:description/>
  <dc:language>en-US</dc:language>
  <cp:lastModifiedBy>FMC1</cp:lastModifiedBy>
  <dcterms:modified xsi:type="dcterms:W3CDTF">2011-08-25T06:08:59Z</dcterms:modified>
  <cp:revision>27</cp:revision>
  <dc:subject/>
  <dc:title>Estudio comparativo  alendronato vs. risedronato</dc:title>
</cp:coreProperties>
</file>