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AA6B-D729-4F20-B598-7E2C619BB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EC06-57C6-422D-BA7A-A8900470D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46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5480" y="434196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F53-D736-4D7C-8987-F7B532C6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095-5D42-4595-8CE5-5C98864E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BD4-689A-45DF-933F-B4E1575F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F2A-50A2-458B-8170-5E33533C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90BA-69B3-4750-B5EA-D1B2D221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DA35-F57D-48F5-BC10-CF06E9C7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87DA-4A41-4B70-817B-2F3A6557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33CA-2042-4716-B8A7-FDCF16EC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4565-A454-4F6A-9641-75DAC1B9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BFA8-CC8C-44C3-B457-5EDD2065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8522-4E2F-432F-875F-38690BEC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9D8-6AAE-4BC3-888F-4D2C8EE8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6374-5779-46E1-9600-16D24412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13F7-5A75-45B2-A7FB-7467858E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5AFB-764C-4245-B284-350BB38C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5319-A663-43B0-A9DE-829FC6E8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2674-0331-4D75-8A0C-98753FBA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F57-BB75-4E7F-8789-88D09614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785-3964-4786-B626-A0A1A73F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AF4-A71E-4A9D-8B1B-85B3B898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E73-ABDF-4772-843E-425E1D65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B53-416B-461C-9452-F2A7019F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67E-5A52-43DD-91BD-464DBF69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D73-E5A1-4AD7-854E-0A8890EA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17400" y="1409760"/>
              <a:ext cx="8510760" cy="76320"/>
              <a:chOff x="617400" y="1409760"/>
              <a:chExt cx="8510760" cy="76320"/>
            </a:xfrm>
          </p:grpSpPr>
          <p:sp>
            <p:nvSpPr>
              <p:cNvPr id="3" name="Line 5"/>
              <p:cNvSpPr/>
              <p:nvPr/>
            </p:nvSpPr>
            <p:spPr>
              <a:xfrm>
                <a:off x="617400" y="1486080"/>
                <a:ext cx="85107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617400" y="1409760"/>
                <a:ext cx="851076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AF45-FDE3-45C2-8402-EDF80B2327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48" name="Group 4"/>
            <p:cNvGrpSpPr/>
            <p:nvPr/>
          </p:nvGrpSpPr>
          <p:grpSpPr>
            <a:xfrm>
              <a:off x="617400" y="3619440"/>
              <a:ext cx="8510760" cy="76320"/>
              <a:chOff x="617400" y="3619440"/>
              <a:chExt cx="8510760" cy="76320"/>
            </a:xfrm>
          </p:grpSpPr>
          <p:sp>
            <p:nvSpPr>
              <p:cNvPr id="49" name="Line 5"/>
              <p:cNvSpPr/>
              <p:nvPr/>
            </p:nvSpPr>
            <p:spPr>
              <a:xfrm>
                <a:off x="617400" y="3695760"/>
                <a:ext cx="85107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" name="Line 6"/>
              <p:cNvSpPr/>
              <p:nvPr/>
            </p:nvSpPr>
            <p:spPr>
              <a:xfrm>
                <a:off x="617400" y="3619440"/>
                <a:ext cx="851076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51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B9DF-1C1B-4955-9BD7-A7FD29B31A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880" y="1460160"/>
            <a:ext cx="7788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5400" spc="-1" strike="noStrike" u="sng">
                <a:solidFill>
                  <a:srgbClr val="ffcc66"/>
                </a:solidFill>
                <a:uFillTx/>
                <a:latin typeface="Times New Roman"/>
              </a:rPr>
              <a:t>Inmunosupresore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66760" y="6172200"/>
            <a:ext cx="86104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190760" y="46479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Dr. Pablo Monge Zeled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cc66"/>
                </a:solidFill>
                <a:uFillTx/>
                <a:latin typeface="Times New Roman"/>
              </a:rPr>
              <a:t>Aplicaciones terapéu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Prevención de rechazo de trasp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Riñón, corazón, hígado y páncreas. Médula ó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Enfermedades autoinmu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Uveítis no infecciosa, resistente a corticostero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Psoriasis gr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Dermatitis atópica gr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Síndrome nefrótico prim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Artritis reumato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Nefropatía lúp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Tacrólim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Macrólido obtenido de </a:t>
            </a:r>
            <a:r>
              <a:rPr b="1" i="1" lang="es-CR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reptomyces tsukubaensis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munosupresión similar a ciclospor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Se une con inmunofilina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Proteínas fijadoras de FK (FKB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100 veces más potente para inhibir IL-2 e IFN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administra VO o IV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disponibilidad oral muy vari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Tacrólim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smo hepá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ocromo P-450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reción bili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frotox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patotoxicidad, neurotoxicidad, hipertensión arterial, hipercolesterole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betogé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e síntesis y secreción de insul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splante.  Psoriasis.  Uveí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cc66"/>
                </a:solidFill>
                <a:uFillTx/>
                <a:latin typeface="Times New Roman"/>
              </a:rPr>
              <a:t>Micofenolato de mofetil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MMF se convierte en ácido micofenó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hibe la inosina monofosfato deshidrogenasa (IMPD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Crucial en la biosíntesis </a:t>
            </a:r>
            <a:r>
              <a:rPr b="1" i="1" lang="es-CR" sz="2800" spc="-1" strike="noStrike">
                <a:solidFill>
                  <a:srgbClr val="ffffff"/>
                </a:solidFill>
                <a:latin typeface="Times New Roman"/>
              </a:rPr>
              <a:t>de novo 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de las puri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hibe la proliferación de linfocitos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terfiere con la adhesión de los leucocitos al endotelio vas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hibe la selectina E, selectina P e ICAM-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cc66"/>
                </a:solidFill>
                <a:uFillTx/>
                <a:latin typeface="Times New Roman"/>
              </a:rPr>
              <a:t>Micofenolato de mofetil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d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fritis lúp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scul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ulomatosis de Wegener</a:t>
            </a:r>
            <a:br>
              <a:rPr sz="2400"/>
            </a:br>
            <a:br>
              <a:rPr sz="2400"/>
            </a:b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Azatiop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Citostático derivado de la 6-mercaptopurina </a:t>
            </a:r>
            <a:r>
              <a:rPr b="1" lang="es-CR" sz="2000" spc="-1" strike="noStrike">
                <a:solidFill>
                  <a:srgbClr val="ffffff"/>
                </a:solidFill>
                <a:latin typeface="Times New Roman"/>
              </a:rPr>
              <a:t>(6-M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hibe la síntesis de A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Obstaculiza la actividad proliferativa de los linfocitos T y B, una vez activados por la IL-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Absorción 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Biodisponibilidad del 80-9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Azatiop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CR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 de 30 – 60 minu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En el organismo se trasnforma en 6-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Metabolizado también por la xantinooxid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El alopurinol inhibe su metabolismo y aumenta la actividad del fárma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Eliminación re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Azatiop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8098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ff9933"/>
                </a:solidFill>
                <a:uFillTx/>
                <a:latin typeface="Times New Roman"/>
              </a:rPr>
              <a:t>Efectos adver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Toxicidad de médula ó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La granulocitopenia puede aparecer a la semana de in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Infe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Hepat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Urtic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ffcc66"/>
                </a:solidFill>
                <a:uFillTx/>
                <a:latin typeface="Times New Roman"/>
              </a:rPr>
              <a:t>Indic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revención de rechazo de trasplante (Riñ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L.E.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.T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.H.A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rtritis reumato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fosfamid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Antineoplásico alquil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Todas las células linfoides son sensibles cuando se administra en el momento de máxima división celu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Los linfocitos B son más sensi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Biodisponibilidad oral superior al 7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Poca unión a proteínas plasmá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½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 variable entre 4 y 14 ho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fosfamid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Menos del 20% se elimina vía re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La insuficiencia renal aumenta l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½ 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de elimin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La acroleína se acumula en la vejiga urin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Puede producir cistitis hemorrá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Para evitar esto se usan compuestos ricos en grupos –SH, como el </a:t>
            </a:r>
            <a:r>
              <a:rPr b="1" lang="es-CR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na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 (mercaptoetanosulfonato sód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Aislado del </a:t>
            </a:r>
            <a:r>
              <a:rPr b="1" i="1" lang="es-CR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lypocladium inflatum g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hibe la activación de los linfocitos T – CD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Bloqueo de la transcripción génica de IL-2 y otras citoqui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Suprime algunas respuestas mediadas por anticuerpos, dependientes de la activación de linfocitos Th</a:t>
            </a:r>
            <a:r>
              <a:rPr b="1" lang="es-C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Debe actuar en fases muy tempra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fosfamid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cc66"/>
                </a:solidFill>
                <a:uFillTx/>
                <a:latin typeface="Times New Roman"/>
              </a:rPr>
              <a:t>Efectos adve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áuseas, vóm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Toxicidad de médula ó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lope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Cistitis hemorrá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Cáncer de vej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Infert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Teratogé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cc66"/>
                </a:solidFill>
                <a:uFillTx/>
                <a:latin typeface="Times New Roman"/>
              </a:rPr>
              <a:t>Usos terapéu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revención de rechazo de trasplante (Médula óse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Granulomatosis de Wege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rtritis reumato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Lupus eritematoso sisté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efropatía lúp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Síndrome nefrótico idiopá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Metotrexate</a:t>
            </a:r>
            <a:br>
              <a:rPr sz="4000"/>
            </a:br>
            <a:r>
              <a:rPr b="1" lang="es-CR" sz="2400" spc="-1" strike="noStrike">
                <a:solidFill>
                  <a:srgbClr val="ffcc66"/>
                </a:solidFill>
                <a:latin typeface="Times New Roman"/>
              </a:rPr>
              <a:t>(ametopterina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ado el DMARD de primera línea en el tratamiento de la artritis reumato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tivo en dosis menores de las que se necesitan en quimioterapia cáncer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Metotrexate</a:t>
            </a:r>
            <a:br>
              <a:rPr sz="4000"/>
            </a:br>
            <a:r>
              <a:rPr b="1" lang="es-CR" sz="2400" spc="-1" strike="noStrike">
                <a:solidFill>
                  <a:srgbClr val="ffcc66"/>
                </a:solidFill>
                <a:latin typeface="Times New Roman"/>
              </a:rPr>
              <a:t>(ametopterina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canismo de a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sis baj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ción de la transformilasa del ribonucleotido aminoimidazolcarboxamida (AICAR) y la timidilato sinte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 efectos  en la quimiotaxis de los P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y algún efecto en la dihidrofolato reduct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 efectos en la función de los linfocitos y macrofa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es su principal mecanismo de acció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Metotrexate</a:t>
            </a:r>
            <a:br>
              <a:rPr sz="4000"/>
            </a:br>
            <a:r>
              <a:rPr b="1" lang="es-CR" sz="2400" spc="-1" strike="noStrike">
                <a:solidFill>
                  <a:srgbClr val="ffcc66"/>
                </a:solidFill>
                <a:latin typeface="Times New Roman"/>
              </a:rPr>
              <a:t>(ametopterina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armacociné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absorbe el 70% 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abolizado a componentes hidroxilados menos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 las células son poliglutamados,  donde persisten por períodos prolong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6-9 h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cretada principalmente por la or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% puede ser excretada en la 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Metotrexat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cc66"/>
                </a:solidFill>
                <a:uFillTx/>
                <a:latin typeface="Times New Roman"/>
              </a:rPr>
              <a:t>Reacciones adver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Mielosu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áuseas, vóm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Mucosis gastrointest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Ulceras de muc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Hepatotoxic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eumonitis interst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lope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0" y="159984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cc66"/>
                </a:solidFill>
                <a:uFillTx/>
                <a:latin typeface="Times New Roman"/>
              </a:rPr>
              <a:t>Ind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rtritis reumato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sori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Síndrome de Re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olimios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oliarteritis nod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Sarco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Leflunomid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relativamente específico en la inhibicion de linfocitos T activ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ibe la sínte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 nov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las pirimidi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hibiendo la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hidroorotato dehidrogen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 por vía 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ena absorción 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½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long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Leflunomid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tos activos con circulación enterohep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r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pe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vación enzimas hepá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Suprime la respuesta citotóxica mediada por célu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Rechazo de injertos y traspl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jerto contra huésped (Trasplante de médula óse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Enfermedades autoinmu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Se fija selectivamente a una inmunofilin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9933"/>
                </a:solidFill>
                <a:uFillTx/>
                <a:latin typeface="Times New Roman"/>
              </a:rPr>
              <a:t>Ciclofi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munofili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Superfamilia de rotamasas que participan en el plegamiento de proteínas implicadas en el crecimiento cel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El complejo ciclosporina-ciclofilina  se une a la calcineur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nhibe su actividad de fosfat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Impide que el NF-AT</a:t>
            </a:r>
            <a:r>
              <a:rPr b="1" lang="es-CR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 ingrese al núcl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Bloqueando la transcripción de genes que han de expresar linfocinas, especialmente IL-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Se inhibe por lo tanto la proliferación y diferenciación de linfocitos 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INMUNO 1"/>
          <p:cNvPicPr/>
          <p:nvPr/>
        </p:nvPicPr>
        <p:blipFill>
          <a:blip r:embed="rId1"/>
          <a:stretch/>
        </p:blipFill>
        <p:spPr>
          <a:xfrm>
            <a:off x="725400" y="554040"/>
            <a:ext cx="76914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Administración oral o 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La fórmula oral es una microemul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Una vez ingerido forma micromicelios que pueden ser absorbidos aunque no haya secreción bili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CR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 de 1-1,5 ho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Los alimentos ricos en grasas pueden reducir ligeramente su bio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66400"/>
            <a:ext cx="75438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Rápida distribución en sang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98% unido a proteí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Metabolismo hepá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imes New Roman"/>
              </a:rPr>
              <a:t>Oxidación por citocromo P – 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CR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25 – 30 ho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ción principalmente biliar, 6% renal y por lech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 u="sng">
                <a:solidFill>
                  <a:srgbClr val="ffcc66"/>
                </a:solidFill>
                <a:uFillTx/>
                <a:latin typeface="Times New Roman"/>
              </a:rPr>
              <a:t>Ciclospori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Presenta variabilidad farmacocinética intra e interindividual, y estrecho intervalo terapéut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o es mielodepres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o frena el crecimiento óseo en ni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o es teratogén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iveles terapéutic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100 – 200 ng/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2880" y="167616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Nefrotoxic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Hipertensión (50%) </a:t>
            </a: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asociada a retención de líqu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Hipertricosis (15 – 2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Hiperpotasemia (2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Hepatotoxi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Reacciones gastrointest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Temblor y parestesias (disestes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Hiperplasia ging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Hiperglic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imes New Roman"/>
              </a:rPr>
              <a:t>Hiperlipid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3:47:10Z</dcterms:created>
  <dc:creator>Orlando Vargas</dc:creator>
  <dc:description/>
  <dc:language>en-US</dc:language>
  <cp:lastModifiedBy>FMC1</cp:lastModifiedBy>
  <dcterms:modified xsi:type="dcterms:W3CDTF">2011-08-25T06:08:59Z</dcterms:modified>
  <cp:revision>27</cp:revision>
  <dc:subject/>
  <dc:title>Estudio comparativo  alendronato vs. risedronato</dc:title>
</cp:coreProperties>
</file>