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D8A-BCD5-4FED-9AF5-10D3B96F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9AF-591D-4D60-9B8D-612A2AA9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9C6-C823-4ABC-9CC5-5BF3CFDE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0BE-C8DD-4A01-BE6E-F0D0AA11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A844-0A27-4231-BA6D-C708CEA8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2CF4-862E-488F-9CAF-6D8D6950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F5A0-82C0-4F01-BC0D-DD3E4E2F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158F-B3E5-400B-A4D6-279F1456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5877-A702-4E6D-B5BD-CA842703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461C-7314-49E1-B759-530772AD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EB2E-43B7-44ED-B1FA-814FE815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B89-DD83-4A4A-8A73-0F6F2FC8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6EE0-FC22-4AD1-BF47-FB224957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1AAF-FA3D-44EF-8347-8E9E0E6F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761F-DC3F-4A5B-9867-2DC8BBAF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D9D2-EDFC-4E26-9896-49DD7FE8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80E0-7E19-47C3-B242-1FB22763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541-5FF5-422D-84BF-7E70DD50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F90-1226-4F9D-B215-12C2DC57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7E2-4672-419D-B1E3-B8535B4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958-81CD-4B3D-8803-1CA93DD1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56C-20E7-4580-B844-6F244D3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A33-165A-4137-BE87-AF1B2EB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DE9-AD56-4AD3-98C0-23623B4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762120"/>
            <a:ext cx="9144000" cy="5867280"/>
          </a:xfrm>
          <a:prstGeom prst="rect">
            <a:avLst/>
          </a:prstGeom>
          <a:solidFill>
            <a:srgbClr val="3a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600" y="-228600"/>
            <a:ext cx="9144000" cy="99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a58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-241200"/>
            <a:ext cx="5778360" cy="2276280"/>
          </a:xfrm>
          <a:custGeom>
            <a:avLst/>
            <a:gdLst/>
            <a:ahLst/>
            <a:rect l="l" t="t" r="r" b="b"/>
            <a:pathLst>
              <a:path w="3640" h="1434">
                <a:moveTo>
                  <a:pt x="0" y="1152"/>
                </a:moveTo>
                <a:cubicBezTo>
                  <a:pt x="112" y="1192"/>
                  <a:pt x="204" y="1434"/>
                  <a:pt x="672" y="1392"/>
                </a:cubicBezTo>
                <a:cubicBezTo>
                  <a:pt x="824" y="1392"/>
                  <a:pt x="880" y="1248"/>
                  <a:pt x="912" y="1152"/>
                </a:cubicBezTo>
                <a:cubicBezTo>
                  <a:pt x="944" y="1056"/>
                  <a:pt x="821" y="910"/>
                  <a:pt x="864" y="816"/>
                </a:cubicBezTo>
                <a:cubicBezTo>
                  <a:pt x="864" y="552"/>
                  <a:pt x="1044" y="582"/>
                  <a:pt x="1170" y="588"/>
                </a:cubicBezTo>
                <a:cubicBezTo>
                  <a:pt x="1386" y="666"/>
                  <a:pt x="1535" y="548"/>
                  <a:pt x="1692" y="546"/>
                </a:cubicBezTo>
                <a:cubicBezTo>
                  <a:pt x="1849" y="544"/>
                  <a:pt x="1944" y="648"/>
                  <a:pt x="2112" y="576"/>
                </a:cubicBezTo>
                <a:cubicBezTo>
                  <a:pt x="2250" y="510"/>
                  <a:pt x="2200" y="448"/>
                  <a:pt x="2208" y="384"/>
                </a:cubicBezTo>
                <a:cubicBezTo>
                  <a:pt x="2220" y="311"/>
                  <a:pt x="2040" y="198"/>
                  <a:pt x="2184" y="138"/>
                </a:cubicBezTo>
                <a:cubicBezTo>
                  <a:pt x="2346" y="60"/>
                  <a:pt x="2500" y="95"/>
                  <a:pt x="2640" y="144"/>
                </a:cubicBezTo>
                <a:cubicBezTo>
                  <a:pt x="2780" y="193"/>
                  <a:pt x="2872" y="424"/>
                  <a:pt x="3024" y="432"/>
                </a:cubicBezTo>
                <a:cubicBezTo>
                  <a:pt x="3176" y="440"/>
                  <a:pt x="3464" y="264"/>
                  <a:pt x="3552" y="192"/>
                </a:cubicBezTo>
                <a:cubicBezTo>
                  <a:pt x="3640" y="120"/>
                  <a:pt x="3552" y="40"/>
                  <a:pt x="3552" y="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2600" y="-241200"/>
            <a:ext cx="3168720" cy="1968480"/>
          </a:xfrm>
          <a:custGeom>
            <a:avLst/>
            <a:gdLst/>
            <a:ahLst/>
            <a:rect l="l" t="t" r="r" b="b"/>
            <a:pathLst>
              <a:path w="1996" h="1240">
                <a:moveTo>
                  <a:pt x="0" y="960"/>
                </a:moveTo>
                <a:cubicBezTo>
                  <a:pt x="56" y="1000"/>
                  <a:pt x="240" y="1160"/>
                  <a:pt x="336" y="1200"/>
                </a:cubicBezTo>
                <a:cubicBezTo>
                  <a:pt x="432" y="1240"/>
                  <a:pt x="516" y="1238"/>
                  <a:pt x="576" y="1200"/>
                </a:cubicBezTo>
                <a:cubicBezTo>
                  <a:pt x="636" y="1162"/>
                  <a:pt x="686" y="1095"/>
                  <a:pt x="696" y="972"/>
                </a:cubicBezTo>
                <a:cubicBezTo>
                  <a:pt x="706" y="849"/>
                  <a:pt x="616" y="578"/>
                  <a:pt x="636" y="462"/>
                </a:cubicBezTo>
                <a:cubicBezTo>
                  <a:pt x="656" y="346"/>
                  <a:pt x="690" y="281"/>
                  <a:pt x="816" y="276"/>
                </a:cubicBezTo>
                <a:cubicBezTo>
                  <a:pt x="942" y="271"/>
                  <a:pt x="1238" y="413"/>
                  <a:pt x="1392" y="432"/>
                </a:cubicBezTo>
                <a:cubicBezTo>
                  <a:pt x="1546" y="451"/>
                  <a:pt x="1643" y="404"/>
                  <a:pt x="1740" y="390"/>
                </a:cubicBezTo>
                <a:cubicBezTo>
                  <a:pt x="1837" y="376"/>
                  <a:pt x="1952" y="413"/>
                  <a:pt x="1974" y="348"/>
                </a:cubicBezTo>
                <a:cubicBezTo>
                  <a:pt x="1996" y="283"/>
                  <a:pt x="1986" y="84"/>
                  <a:pt x="1872" y="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-24120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576"/>
                </a:moveTo>
                <a:cubicBezTo>
                  <a:pt x="56" y="640"/>
                  <a:pt x="256" y="912"/>
                  <a:pt x="336" y="960"/>
                </a:cubicBezTo>
                <a:cubicBezTo>
                  <a:pt x="416" y="1008"/>
                  <a:pt x="483" y="955"/>
                  <a:pt x="480" y="864"/>
                </a:cubicBezTo>
                <a:cubicBezTo>
                  <a:pt x="477" y="773"/>
                  <a:pt x="384" y="618"/>
                  <a:pt x="318" y="414"/>
                </a:cubicBezTo>
                <a:cubicBezTo>
                  <a:pt x="156" y="12"/>
                  <a:pt x="528" y="6"/>
                  <a:pt x="780" y="36"/>
                </a:cubicBezTo>
                <a:cubicBezTo>
                  <a:pt x="1002" y="66"/>
                  <a:pt x="1306" y="198"/>
                  <a:pt x="1440" y="192"/>
                </a:cubicBezTo>
                <a:cubicBezTo>
                  <a:pt x="1574" y="186"/>
                  <a:pt x="1554" y="40"/>
                  <a:pt x="1584" y="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46040" y="0"/>
            <a:ext cx="5956560" cy="2882880"/>
          </a:xfrm>
          <a:custGeom>
            <a:avLst/>
            <a:gdLst/>
            <a:ahLst/>
            <a:rect l="l" t="t" r="r" b="b"/>
            <a:pathLst>
              <a:path w="3752" h="1816">
                <a:moveTo>
                  <a:pt x="248" y="1000"/>
                </a:moveTo>
                <a:cubicBezTo>
                  <a:pt x="280" y="888"/>
                  <a:pt x="200" y="816"/>
                  <a:pt x="200" y="760"/>
                </a:cubicBezTo>
                <a:cubicBezTo>
                  <a:pt x="200" y="704"/>
                  <a:pt x="184" y="688"/>
                  <a:pt x="248" y="664"/>
                </a:cubicBezTo>
                <a:cubicBezTo>
                  <a:pt x="312" y="640"/>
                  <a:pt x="408" y="616"/>
                  <a:pt x="584" y="616"/>
                </a:cubicBezTo>
                <a:cubicBezTo>
                  <a:pt x="760" y="616"/>
                  <a:pt x="1128" y="696"/>
                  <a:pt x="1304" y="664"/>
                </a:cubicBezTo>
                <a:cubicBezTo>
                  <a:pt x="1480" y="632"/>
                  <a:pt x="1528" y="456"/>
                  <a:pt x="1640" y="424"/>
                </a:cubicBezTo>
                <a:cubicBezTo>
                  <a:pt x="1752" y="392"/>
                  <a:pt x="1816" y="472"/>
                  <a:pt x="1976" y="472"/>
                </a:cubicBezTo>
                <a:cubicBezTo>
                  <a:pt x="2136" y="472"/>
                  <a:pt x="2408" y="488"/>
                  <a:pt x="2600" y="424"/>
                </a:cubicBezTo>
                <a:cubicBezTo>
                  <a:pt x="2792" y="360"/>
                  <a:pt x="2968" y="152"/>
                  <a:pt x="3128" y="88"/>
                </a:cubicBezTo>
                <a:cubicBezTo>
                  <a:pt x="3288" y="24"/>
                  <a:pt x="3472" y="0"/>
                  <a:pt x="3560" y="40"/>
                </a:cubicBezTo>
                <a:cubicBezTo>
                  <a:pt x="3648" y="80"/>
                  <a:pt x="3752" y="208"/>
                  <a:pt x="3656" y="328"/>
                </a:cubicBezTo>
                <a:cubicBezTo>
                  <a:pt x="3560" y="448"/>
                  <a:pt x="3184" y="656"/>
                  <a:pt x="2984" y="760"/>
                </a:cubicBezTo>
                <a:cubicBezTo>
                  <a:pt x="2784" y="864"/>
                  <a:pt x="2624" y="840"/>
                  <a:pt x="2456" y="952"/>
                </a:cubicBezTo>
                <a:cubicBezTo>
                  <a:pt x="2288" y="1064"/>
                  <a:pt x="2152" y="1296"/>
                  <a:pt x="1976" y="1432"/>
                </a:cubicBezTo>
                <a:cubicBezTo>
                  <a:pt x="1800" y="1568"/>
                  <a:pt x="1568" y="1720"/>
                  <a:pt x="1400" y="1768"/>
                </a:cubicBezTo>
                <a:cubicBezTo>
                  <a:pt x="1232" y="1816"/>
                  <a:pt x="1152" y="1720"/>
                  <a:pt x="968" y="1720"/>
                </a:cubicBezTo>
                <a:cubicBezTo>
                  <a:pt x="784" y="1720"/>
                  <a:pt x="456" y="1816"/>
                  <a:pt x="296" y="1768"/>
                </a:cubicBezTo>
                <a:cubicBezTo>
                  <a:pt x="136" y="1720"/>
                  <a:pt x="16" y="1560"/>
                  <a:pt x="8" y="1432"/>
                </a:cubicBezTo>
                <a:cubicBezTo>
                  <a:pt x="0" y="1304"/>
                  <a:pt x="216" y="1112"/>
                  <a:pt x="248" y="1000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30360" y="863640"/>
            <a:ext cx="4095720" cy="1809720"/>
          </a:xfrm>
          <a:custGeom>
            <a:avLst/>
            <a:gdLst/>
            <a:ahLst/>
            <a:rect l="l" t="t" r="r" b="b"/>
            <a:pathLst>
              <a:path w="2580" h="1140">
                <a:moveTo>
                  <a:pt x="36" y="792"/>
                </a:moveTo>
                <a:cubicBezTo>
                  <a:pt x="66" y="666"/>
                  <a:pt x="180" y="544"/>
                  <a:pt x="228" y="456"/>
                </a:cubicBezTo>
                <a:cubicBezTo>
                  <a:pt x="276" y="368"/>
                  <a:pt x="260" y="304"/>
                  <a:pt x="324" y="264"/>
                </a:cubicBezTo>
                <a:cubicBezTo>
                  <a:pt x="388" y="224"/>
                  <a:pt x="484" y="208"/>
                  <a:pt x="612" y="216"/>
                </a:cubicBezTo>
                <a:cubicBezTo>
                  <a:pt x="740" y="224"/>
                  <a:pt x="828" y="330"/>
                  <a:pt x="1092" y="312"/>
                </a:cubicBezTo>
                <a:cubicBezTo>
                  <a:pt x="1422" y="270"/>
                  <a:pt x="1416" y="0"/>
                  <a:pt x="1536" y="60"/>
                </a:cubicBezTo>
                <a:cubicBezTo>
                  <a:pt x="1782" y="204"/>
                  <a:pt x="2256" y="82"/>
                  <a:pt x="2388" y="120"/>
                </a:cubicBezTo>
                <a:cubicBezTo>
                  <a:pt x="2520" y="158"/>
                  <a:pt x="2580" y="198"/>
                  <a:pt x="2328" y="288"/>
                </a:cubicBezTo>
                <a:cubicBezTo>
                  <a:pt x="2094" y="378"/>
                  <a:pt x="2178" y="488"/>
                  <a:pt x="2028" y="612"/>
                </a:cubicBezTo>
                <a:cubicBezTo>
                  <a:pt x="1878" y="736"/>
                  <a:pt x="1576" y="954"/>
                  <a:pt x="1428" y="1032"/>
                </a:cubicBezTo>
                <a:cubicBezTo>
                  <a:pt x="1292" y="1112"/>
                  <a:pt x="1218" y="1140"/>
                  <a:pt x="1140" y="1080"/>
                </a:cubicBezTo>
                <a:cubicBezTo>
                  <a:pt x="918" y="960"/>
                  <a:pt x="508" y="1080"/>
                  <a:pt x="324" y="1032"/>
                </a:cubicBezTo>
                <a:cubicBezTo>
                  <a:pt x="140" y="984"/>
                  <a:pt x="0" y="918"/>
                  <a:pt x="36" y="792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44640" y="1216080"/>
            <a:ext cx="2790720" cy="1104840"/>
          </a:xfrm>
          <a:custGeom>
            <a:avLst/>
            <a:gdLst/>
            <a:ahLst/>
            <a:rect l="l" t="t" r="r" b="b"/>
            <a:pathLst>
              <a:path w="1758" h="696">
                <a:moveTo>
                  <a:pt x="60" y="594"/>
                </a:moveTo>
                <a:cubicBezTo>
                  <a:pt x="0" y="462"/>
                  <a:pt x="48" y="306"/>
                  <a:pt x="126" y="234"/>
                </a:cubicBezTo>
                <a:cubicBezTo>
                  <a:pt x="390" y="30"/>
                  <a:pt x="654" y="378"/>
                  <a:pt x="1182" y="234"/>
                </a:cubicBezTo>
                <a:cubicBezTo>
                  <a:pt x="1414" y="210"/>
                  <a:pt x="1284" y="132"/>
                  <a:pt x="1518" y="90"/>
                </a:cubicBezTo>
                <a:cubicBezTo>
                  <a:pt x="1680" y="0"/>
                  <a:pt x="1758" y="66"/>
                  <a:pt x="1710" y="138"/>
                </a:cubicBezTo>
                <a:cubicBezTo>
                  <a:pt x="1662" y="210"/>
                  <a:pt x="1290" y="372"/>
                  <a:pt x="1230" y="522"/>
                </a:cubicBezTo>
                <a:cubicBezTo>
                  <a:pt x="1134" y="696"/>
                  <a:pt x="945" y="654"/>
                  <a:pt x="750" y="666"/>
                </a:cubicBezTo>
                <a:cubicBezTo>
                  <a:pt x="555" y="678"/>
                  <a:pt x="164" y="666"/>
                  <a:pt x="60" y="594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21300600">
            <a:off x="2044800" y="1739880"/>
            <a:ext cx="1473120" cy="304920"/>
          </a:xfrm>
          <a:custGeom>
            <a:avLst/>
            <a:gdLst/>
            <a:ahLst/>
            <a:rect l="l" t="t" r="r" b="b"/>
            <a:pathLst>
              <a:path w="928" h="192">
                <a:moveTo>
                  <a:pt x="104" y="96"/>
                </a:moveTo>
                <a:cubicBezTo>
                  <a:pt x="0" y="64"/>
                  <a:pt x="48" y="0"/>
                  <a:pt x="152" y="0"/>
                </a:cubicBezTo>
                <a:cubicBezTo>
                  <a:pt x="256" y="0"/>
                  <a:pt x="600" y="80"/>
                  <a:pt x="728" y="96"/>
                </a:cubicBezTo>
                <a:cubicBezTo>
                  <a:pt x="856" y="112"/>
                  <a:pt x="912" y="80"/>
                  <a:pt x="920" y="96"/>
                </a:cubicBezTo>
                <a:cubicBezTo>
                  <a:pt x="928" y="112"/>
                  <a:pt x="912" y="192"/>
                  <a:pt x="776" y="192"/>
                </a:cubicBezTo>
                <a:cubicBezTo>
                  <a:pt x="640" y="192"/>
                  <a:pt x="208" y="128"/>
                  <a:pt x="104" y="96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12600" y="2286000"/>
            <a:ext cx="9134280" cy="3619440"/>
          </a:xfrm>
          <a:custGeom>
            <a:avLst/>
            <a:gdLst/>
            <a:ahLst/>
            <a:rect l="l" t="t" r="r" b="b"/>
            <a:pathLst>
              <a:path w="5754" h="2280">
                <a:moveTo>
                  <a:pt x="0" y="40"/>
                </a:moveTo>
                <a:cubicBezTo>
                  <a:pt x="56" y="40"/>
                  <a:pt x="216" y="0"/>
                  <a:pt x="336" y="40"/>
                </a:cubicBezTo>
                <a:cubicBezTo>
                  <a:pt x="456" y="80"/>
                  <a:pt x="624" y="168"/>
                  <a:pt x="720" y="280"/>
                </a:cubicBezTo>
                <a:cubicBezTo>
                  <a:pt x="816" y="392"/>
                  <a:pt x="888" y="552"/>
                  <a:pt x="912" y="712"/>
                </a:cubicBezTo>
                <a:cubicBezTo>
                  <a:pt x="936" y="872"/>
                  <a:pt x="856" y="1064"/>
                  <a:pt x="864" y="1240"/>
                </a:cubicBezTo>
                <a:cubicBezTo>
                  <a:pt x="872" y="1416"/>
                  <a:pt x="864" y="1616"/>
                  <a:pt x="960" y="1768"/>
                </a:cubicBezTo>
                <a:cubicBezTo>
                  <a:pt x="1056" y="1920"/>
                  <a:pt x="1240" y="2072"/>
                  <a:pt x="1440" y="2152"/>
                </a:cubicBezTo>
                <a:cubicBezTo>
                  <a:pt x="1640" y="2232"/>
                  <a:pt x="1952" y="2280"/>
                  <a:pt x="2160" y="2248"/>
                </a:cubicBezTo>
                <a:cubicBezTo>
                  <a:pt x="2368" y="2216"/>
                  <a:pt x="2597" y="2256"/>
                  <a:pt x="2688" y="1960"/>
                </a:cubicBezTo>
                <a:cubicBezTo>
                  <a:pt x="2779" y="1664"/>
                  <a:pt x="2578" y="728"/>
                  <a:pt x="2706" y="472"/>
                </a:cubicBezTo>
                <a:cubicBezTo>
                  <a:pt x="2834" y="216"/>
                  <a:pt x="3171" y="384"/>
                  <a:pt x="3456" y="424"/>
                </a:cubicBezTo>
                <a:cubicBezTo>
                  <a:pt x="3741" y="464"/>
                  <a:pt x="4256" y="544"/>
                  <a:pt x="4416" y="712"/>
                </a:cubicBezTo>
                <a:cubicBezTo>
                  <a:pt x="4576" y="880"/>
                  <a:pt x="4364" y="1247"/>
                  <a:pt x="4416" y="1432"/>
                </a:cubicBezTo>
                <a:cubicBezTo>
                  <a:pt x="4468" y="1617"/>
                  <a:pt x="4577" y="1693"/>
                  <a:pt x="4728" y="1822"/>
                </a:cubicBezTo>
                <a:cubicBezTo>
                  <a:pt x="4879" y="1951"/>
                  <a:pt x="5151" y="2258"/>
                  <a:pt x="5322" y="2206"/>
                </a:cubicBezTo>
                <a:cubicBezTo>
                  <a:pt x="5493" y="2154"/>
                  <a:pt x="5664" y="1655"/>
                  <a:pt x="5754" y="151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663560" y="2959200"/>
            <a:ext cx="2374920" cy="2324160"/>
          </a:xfrm>
          <a:custGeom>
            <a:avLst/>
            <a:gdLst/>
            <a:ahLst/>
            <a:rect l="l" t="t" r="r" b="b"/>
            <a:pathLst>
              <a:path w="1496" h="1464">
                <a:moveTo>
                  <a:pt x="408" y="16"/>
                </a:moveTo>
                <a:cubicBezTo>
                  <a:pt x="200" y="32"/>
                  <a:pt x="128" y="144"/>
                  <a:pt x="72" y="304"/>
                </a:cubicBezTo>
                <a:cubicBezTo>
                  <a:pt x="16" y="464"/>
                  <a:pt x="0" y="800"/>
                  <a:pt x="72" y="976"/>
                </a:cubicBezTo>
                <a:cubicBezTo>
                  <a:pt x="144" y="1152"/>
                  <a:pt x="328" y="1288"/>
                  <a:pt x="504" y="1360"/>
                </a:cubicBezTo>
                <a:cubicBezTo>
                  <a:pt x="680" y="1432"/>
                  <a:pt x="968" y="1464"/>
                  <a:pt x="1128" y="1408"/>
                </a:cubicBezTo>
                <a:cubicBezTo>
                  <a:pt x="1288" y="1352"/>
                  <a:pt x="1432" y="1224"/>
                  <a:pt x="1464" y="1024"/>
                </a:cubicBezTo>
                <a:cubicBezTo>
                  <a:pt x="1496" y="824"/>
                  <a:pt x="1496" y="376"/>
                  <a:pt x="1320" y="208"/>
                </a:cubicBezTo>
                <a:cubicBezTo>
                  <a:pt x="1144" y="40"/>
                  <a:pt x="616" y="0"/>
                  <a:pt x="408" y="16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158600">
            <a:off x="2044800" y="3187800"/>
            <a:ext cx="1787400" cy="1158840"/>
          </a:xfrm>
          <a:custGeom>
            <a:avLst/>
            <a:gdLst/>
            <a:ahLst/>
            <a:rect l="l" t="t" r="r" b="b"/>
            <a:pathLst>
              <a:path w="1126" h="730">
                <a:moveTo>
                  <a:pt x="940" y="196"/>
                </a:moveTo>
                <a:cubicBezTo>
                  <a:pt x="700" y="100"/>
                  <a:pt x="701" y="40"/>
                  <a:pt x="576" y="20"/>
                </a:cubicBezTo>
                <a:cubicBezTo>
                  <a:pt x="451" y="0"/>
                  <a:pt x="284" y="17"/>
                  <a:pt x="192" y="76"/>
                </a:cubicBezTo>
                <a:cubicBezTo>
                  <a:pt x="100" y="135"/>
                  <a:pt x="56" y="132"/>
                  <a:pt x="24" y="372"/>
                </a:cubicBezTo>
                <a:cubicBezTo>
                  <a:pt x="0" y="730"/>
                  <a:pt x="350" y="637"/>
                  <a:pt x="520" y="670"/>
                </a:cubicBezTo>
                <a:cubicBezTo>
                  <a:pt x="690" y="703"/>
                  <a:pt x="978" y="647"/>
                  <a:pt x="1048" y="568"/>
                </a:cubicBezTo>
                <a:cubicBezTo>
                  <a:pt x="1118" y="489"/>
                  <a:pt x="1126" y="280"/>
                  <a:pt x="940" y="196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927680" y="-241200"/>
            <a:ext cx="4203720" cy="5387760"/>
          </a:xfrm>
          <a:custGeom>
            <a:avLst/>
            <a:gdLst/>
            <a:ahLst/>
            <a:rect l="l" t="t" r="r" b="b"/>
            <a:pathLst>
              <a:path w="2648" h="3394">
                <a:moveTo>
                  <a:pt x="1496" y="0"/>
                </a:moveTo>
                <a:cubicBezTo>
                  <a:pt x="1520" y="64"/>
                  <a:pt x="1656" y="240"/>
                  <a:pt x="1640" y="384"/>
                </a:cubicBezTo>
                <a:cubicBezTo>
                  <a:pt x="1624" y="528"/>
                  <a:pt x="1584" y="728"/>
                  <a:pt x="1400" y="864"/>
                </a:cubicBezTo>
                <a:cubicBezTo>
                  <a:pt x="1216" y="1000"/>
                  <a:pt x="760" y="1080"/>
                  <a:pt x="536" y="1200"/>
                </a:cubicBezTo>
                <a:cubicBezTo>
                  <a:pt x="312" y="1320"/>
                  <a:pt x="112" y="1472"/>
                  <a:pt x="56" y="1584"/>
                </a:cubicBezTo>
                <a:cubicBezTo>
                  <a:pt x="0" y="1696"/>
                  <a:pt x="32" y="1800"/>
                  <a:pt x="200" y="1872"/>
                </a:cubicBezTo>
                <a:cubicBezTo>
                  <a:pt x="368" y="1944"/>
                  <a:pt x="832" y="1944"/>
                  <a:pt x="1064" y="2016"/>
                </a:cubicBezTo>
                <a:cubicBezTo>
                  <a:pt x="1296" y="2088"/>
                  <a:pt x="1509" y="2150"/>
                  <a:pt x="1592" y="2304"/>
                </a:cubicBezTo>
                <a:cubicBezTo>
                  <a:pt x="1675" y="2458"/>
                  <a:pt x="1474" y="2760"/>
                  <a:pt x="1562" y="2940"/>
                </a:cubicBezTo>
                <a:cubicBezTo>
                  <a:pt x="1650" y="3120"/>
                  <a:pt x="1939" y="3394"/>
                  <a:pt x="2120" y="3384"/>
                </a:cubicBezTo>
                <a:cubicBezTo>
                  <a:pt x="2301" y="3374"/>
                  <a:pt x="2538" y="2985"/>
                  <a:pt x="2648" y="288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549760" y="-241200"/>
            <a:ext cx="3581640" cy="5016240"/>
          </a:xfrm>
          <a:custGeom>
            <a:avLst/>
            <a:gdLst/>
            <a:ahLst/>
            <a:rect l="l" t="t" r="r" b="b"/>
            <a:pathLst>
              <a:path w="2256" h="3160">
                <a:moveTo>
                  <a:pt x="1488" y="0"/>
                </a:moveTo>
                <a:cubicBezTo>
                  <a:pt x="1488" y="88"/>
                  <a:pt x="1552" y="360"/>
                  <a:pt x="1488" y="528"/>
                </a:cubicBezTo>
                <a:cubicBezTo>
                  <a:pt x="1424" y="696"/>
                  <a:pt x="1328" y="848"/>
                  <a:pt x="1104" y="1008"/>
                </a:cubicBezTo>
                <a:cubicBezTo>
                  <a:pt x="880" y="1168"/>
                  <a:pt x="288" y="1360"/>
                  <a:pt x="144" y="1488"/>
                </a:cubicBezTo>
                <a:cubicBezTo>
                  <a:pt x="0" y="1616"/>
                  <a:pt x="88" y="1712"/>
                  <a:pt x="240" y="1776"/>
                </a:cubicBezTo>
                <a:cubicBezTo>
                  <a:pt x="392" y="1840"/>
                  <a:pt x="840" y="1824"/>
                  <a:pt x="1056" y="1872"/>
                </a:cubicBezTo>
                <a:cubicBezTo>
                  <a:pt x="1272" y="1920"/>
                  <a:pt x="1456" y="1968"/>
                  <a:pt x="1536" y="2064"/>
                </a:cubicBezTo>
                <a:cubicBezTo>
                  <a:pt x="1616" y="2160"/>
                  <a:pt x="1568" y="2328"/>
                  <a:pt x="1536" y="2448"/>
                </a:cubicBezTo>
                <a:cubicBezTo>
                  <a:pt x="1504" y="2568"/>
                  <a:pt x="1328" y="2672"/>
                  <a:pt x="1344" y="2784"/>
                </a:cubicBezTo>
                <a:cubicBezTo>
                  <a:pt x="1360" y="2896"/>
                  <a:pt x="1528" y="3080"/>
                  <a:pt x="1632" y="3120"/>
                </a:cubicBezTo>
                <a:cubicBezTo>
                  <a:pt x="1736" y="3160"/>
                  <a:pt x="1872" y="3128"/>
                  <a:pt x="1968" y="3024"/>
                </a:cubicBezTo>
                <a:cubicBezTo>
                  <a:pt x="2064" y="2920"/>
                  <a:pt x="2184" y="2672"/>
                  <a:pt x="2208" y="2496"/>
                </a:cubicBezTo>
                <a:cubicBezTo>
                  <a:pt x="2232" y="2320"/>
                  <a:pt x="2184" y="2120"/>
                  <a:pt x="2112" y="1968"/>
                </a:cubicBezTo>
                <a:cubicBezTo>
                  <a:pt x="2040" y="1816"/>
                  <a:pt x="1824" y="1720"/>
                  <a:pt x="1776" y="1584"/>
                </a:cubicBezTo>
                <a:cubicBezTo>
                  <a:pt x="1728" y="1448"/>
                  <a:pt x="1744" y="1304"/>
                  <a:pt x="1824" y="1152"/>
                </a:cubicBezTo>
                <a:cubicBezTo>
                  <a:pt x="1904" y="1000"/>
                  <a:pt x="2166" y="772"/>
                  <a:pt x="2256" y="672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350040" y="1486080"/>
            <a:ext cx="1663560" cy="1104840"/>
          </a:xfrm>
          <a:custGeom>
            <a:avLst/>
            <a:gdLst/>
            <a:ahLst/>
            <a:rect l="l" t="t" r="r" b="b"/>
            <a:pathLst>
              <a:path w="1048" h="696">
                <a:moveTo>
                  <a:pt x="984" y="256"/>
                </a:moveTo>
                <a:cubicBezTo>
                  <a:pt x="960" y="152"/>
                  <a:pt x="992" y="32"/>
                  <a:pt x="840" y="16"/>
                </a:cubicBezTo>
                <a:cubicBezTo>
                  <a:pt x="736" y="0"/>
                  <a:pt x="624" y="104"/>
                  <a:pt x="552" y="160"/>
                </a:cubicBezTo>
                <a:cubicBezTo>
                  <a:pt x="465" y="208"/>
                  <a:pt x="480" y="240"/>
                  <a:pt x="320" y="304"/>
                </a:cubicBezTo>
                <a:cubicBezTo>
                  <a:pt x="168" y="368"/>
                  <a:pt x="0" y="512"/>
                  <a:pt x="600" y="592"/>
                </a:cubicBezTo>
                <a:cubicBezTo>
                  <a:pt x="696" y="640"/>
                  <a:pt x="920" y="696"/>
                  <a:pt x="984" y="640"/>
                </a:cubicBezTo>
                <a:cubicBezTo>
                  <a:pt x="1048" y="584"/>
                  <a:pt x="984" y="336"/>
                  <a:pt x="984" y="256"/>
                </a:cubicBezTo>
                <a:close/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110440" y="-241200"/>
            <a:ext cx="868320" cy="1104840"/>
          </a:xfrm>
          <a:custGeom>
            <a:avLst/>
            <a:gdLst/>
            <a:ahLst/>
            <a:rect l="l" t="t" r="r" b="b"/>
            <a:pathLst>
              <a:path w="547" h="696">
                <a:moveTo>
                  <a:pt x="19" y="0"/>
                </a:moveTo>
                <a:cubicBezTo>
                  <a:pt x="19" y="88"/>
                  <a:pt x="0" y="415"/>
                  <a:pt x="19" y="528"/>
                </a:cubicBezTo>
                <a:cubicBezTo>
                  <a:pt x="38" y="641"/>
                  <a:pt x="75" y="664"/>
                  <a:pt x="131" y="680"/>
                </a:cubicBezTo>
                <a:cubicBezTo>
                  <a:pt x="187" y="696"/>
                  <a:pt x="294" y="673"/>
                  <a:pt x="355" y="624"/>
                </a:cubicBezTo>
                <a:cubicBezTo>
                  <a:pt x="416" y="575"/>
                  <a:pt x="467" y="488"/>
                  <a:pt x="499" y="384"/>
                </a:cubicBezTo>
                <a:cubicBezTo>
                  <a:pt x="531" y="280"/>
                  <a:pt x="537" y="80"/>
                  <a:pt x="547" y="0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12600" y="2984400"/>
            <a:ext cx="3149640" cy="3645000"/>
          </a:xfrm>
          <a:custGeom>
            <a:avLst/>
            <a:gdLst/>
            <a:ahLst/>
            <a:rect l="l" t="t" r="r" b="b"/>
            <a:pathLst>
              <a:path w="1984" h="2296">
                <a:moveTo>
                  <a:pt x="0" y="32"/>
                </a:moveTo>
                <a:cubicBezTo>
                  <a:pt x="56" y="32"/>
                  <a:pt x="237" y="0"/>
                  <a:pt x="336" y="32"/>
                </a:cubicBezTo>
                <a:cubicBezTo>
                  <a:pt x="435" y="64"/>
                  <a:pt x="532" y="119"/>
                  <a:pt x="592" y="224"/>
                </a:cubicBezTo>
                <a:cubicBezTo>
                  <a:pt x="652" y="329"/>
                  <a:pt x="684" y="497"/>
                  <a:pt x="696" y="664"/>
                </a:cubicBezTo>
                <a:cubicBezTo>
                  <a:pt x="708" y="831"/>
                  <a:pt x="644" y="1037"/>
                  <a:pt x="664" y="1224"/>
                </a:cubicBezTo>
                <a:cubicBezTo>
                  <a:pt x="684" y="1411"/>
                  <a:pt x="739" y="1633"/>
                  <a:pt x="816" y="1784"/>
                </a:cubicBezTo>
                <a:cubicBezTo>
                  <a:pt x="893" y="1935"/>
                  <a:pt x="933" y="2043"/>
                  <a:pt x="1128" y="2128"/>
                </a:cubicBezTo>
                <a:cubicBezTo>
                  <a:pt x="1323" y="2213"/>
                  <a:pt x="1806" y="2261"/>
                  <a:pt x="1984" y="2296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12600" y="3581280"/>
            <a:ext cx="1295280" cy="3035520"/>
          </a:xfrm>
          <a:custGeom>
            <a:avLst/>
            <a:gdLst/>
            <a:ahLst/>
            <a:rect l="l" t="t" r="r" b="b"/>
            <a:pathLst>
              <a:path w="816" h="1912">
                <a:moveTo>
                  <a:pt x="0" y="280"/>
                </a:moveTo>
                <a:cubicBezTo>
                  <a:pt x="144" y="0"/>
                  <a:pt x="323" y="177"/>
                  <a:pt x="384" y="280"/>
                </a:cubicBezTo>
                <a:cubicBezTo>
                  <a:pt x="488" y="440"/>
                  <a:pt x="344" y="688"/>
                  <a:pt x="368" y="896"/>
                </a:cubicBezTo>
                <a:cubicBezTo>
                  <a:pt x="392" y="1104"/>
                  <a:pt x="453" y="1359"/>
                  <a:pt x="528" y="1528"/>
                </a:cubicBezTo>
                <a:cubicBezTo>
                  <a:pt x="603" y="1697"/>
                  <a:pt x="756" y="1832"/>
                  <a:pt x="816" y="1912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254480" y="4896000"/>
            <a:ext cx="4889520" cy="1720800"/>
          </a:xfrm>
          <a:custGeom>
            <a:avLst/>
            <a:gdLst/>
            <a:ahLst/>
            <a:rect l="l" t="t" r="r" b="b"/>
            <a:pathLst>
              <a:path w="3080" h="1084">
                <a:moveTo>
                  <a:pt x="0" y="1084"/>
                </a:moveTo>
                <a:cubicBezTo>
                  <a:pt x="71" y="1059"/>
                  <a:pt x="317" y="1064"/>
                  <a:pt x="424" y="932"/>
                </a:cubicBezTo>
                <a:cubicBezTo>
                  <a:pt x="531" y="800"/>
                  <a:pt x="539" y="444"/>
                  <a:pt x="640" y="292"/>
                </a:cubicBezTo>
                <a:cubicBezTo>
                  <a:pt x="741" y="140"/>
                  <a:pt x="883" y="40"/>
                  <a:pt x="1032" y="20"/>
                </a:cubicBezTo>
                <a:cubicBezTo>
                  <a:pt x="1181" y="0"/>
                  <a:pt x="1364" y="75"/>
                  <a:pt x="1536" y="172"/>
                </a:cubicBezTo>
                <a:cubicBezTo>
                  <a:pt x="1708" y="269"/>
                  <a:pt x="1920" y="476"/>
                  <a:pt x="2064" y="604"/>
                </a:cubicBezTo>
                <a:cubicBezTo>
                  <a:pt x="2208" y="732"/>
                  <a:pt x="2231" y="860"/>
                  <a:pt x="2400" y="940"/>
                </a:cubicBezTo>
                <a:cubicBezTo>
                  <a:pt x="2569" y="1020"/>
                  <a:pt x="2939" y="1054"/>
                  <a:pt x="3080" y="1084"/>
                </a:cubicBezTo>
              </a:path>
            </a:pathLst>
          </a:custGeom>
          <a:noFill/>
          <a:ln w="9360">
            <a:solidFill>
              <a:srgbClr val="376d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" name="Topbanx" descr=""/>
          <p:cNvPicPr/>
          <p:nvPr/>
        </p:nvPicPr>
        <p:blipFill>
          <a:blip r:embed="rId2"/>
          <a:srcRect l="31927" t="5317" r="0" b="4258"/>
          <a:stretch/>
        </p:blipFill>
        <p:spPr>
          <a:xfrm>
            <a:off x="-12600" y="-228600"/>
            <a:ext cx="515880" cy="6858000"/>
          </a:xfrm>
          <a:prstGeom prst="rect">
            <a:avLst/>
          </a:prstGeom>
          <a:ln w="0">
            <a:noFill/>
          </a:ln>
        </p:spPr>
      </p:pic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4832-77EF-48B8-BCC5-3985B869DA4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1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5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CCDF-49F4-4489-977C-C2C9AD23ED9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fuse_animation" descr=""/>
          <p:cNvPicPr/>
          <p:nvPr/>
        </p:nvPicPr>
        <p:blipFill>
          <a:blip r:embed="rId1"/>
          <a:stretch/>
        </p:blipFill>
        <p:spPr>
          <a:xfrm>
            <a:off x="1981080" y="5943600"/>
            <a:ext cx="5703840" cy="606600"/>
          </a:xfrm>
          <a:prstGeom prst="rect">
            <a:avLst/>
          </a:prstGeom>
          <a:ln w="0">
            <a:noFill/>
          </a:ln>
        </p:spPr>
      </p:pic>
      <p:pic>
        <p:nvPicPr>
          <p:cNvPr id="129" name="logoanim" descr=""/>
          <p:cNvPicPr/>
          <p:nvPr/>
        </p:nvPicPr>
        <p:blipFill>
          <a:blip r:embed="rId2"/>
          <a:stretch/>
        </p:blipFill>
        <p:spPr>
          <a:xfrm>
            <a:off x="1905120" y="304920"/>
            <a:ext cx="5105160" cy="2487600"/>
          </a:xfrm>
          <a:prstGeom prst="rect">
            <a:avLst/>
          </a:prstGeom>
          <a:ln w="0">
            <a:noFill/>
          </a:ln>
        </p:spPr>
      </p:pic>
      <p:pic>
        <p:nvPicPr>
          <p:cNvPr id="130" name="teac" descr=""/>
          <p:cNvPicPr/>
          <p:nvPr/>
        </p:nvPicPr>
        <p:blipFill>
          <a:blip r:embed="rId3"/>
          <a:stretch/>
        </p:blipFill>
        <p:spPr>
          <a:xfrm>
            <a:off x="3200400" y="2666880"/>
            <a:ext cx="2362320" cy="21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Technology: Teaching Tools for Today’s Teacher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ebo Distric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LCF Grant 2000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Your Mission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lete UTAP Assessmen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ttend all training and follow-up session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hree day summer training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Half day follow-up (October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3-1.5 hr. follow-up session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Project Requirement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lete 2 Multimedia/Presentations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llaborate and model technology use in the classroo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vide feedback and suggestions for future training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omplete Project Evaluation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Obstacles to Implementation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ack of skills needed to integrate technology into the classroo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ack of professional development tim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acking necessary hardware to fully use technology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Pay Off or Dividends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raining Stipend $456 per teacher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Video converter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canner for each schoo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2 Credits Lane Change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ew multimedia computer?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hance to have fun, take risks, rejuvenate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What does this all mean?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Have fun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earn new skill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hare with team members and colleagues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rovide input and experience that will shape future training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9:36:19Z</dcterms:created>
  <dc:creator>Dave Harlan</dc:creator>
  <dc:description/>
  <dc:language>en-US</dc:language>
  <cp:lastModifiedBy>qwin</cp:lastModifiedBy>
  <dcterms:modified xsi:type="dcterms:W3CDTF">2004-01-01T14:14:08Z</dcterms:modified>
  <cp:revision>8</cp:revision>
  <dc:subject/>
  <dc:title>PowerPoint Presentation</dc:title>
</cp:coreProperties>
</file>