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36.jpeg" ContentType="image/jpeg"/>
  <Override PartName="/ppt/media/image34.jpeg" ContentType="image/jpeg"/>
  <Override PartName="/ppt/media/image98.gif" ContentType="image/gif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%20am%20alive_03,28.00.wav" ContentType="audio/x-wav"/>
  <Override PartName="/ppt/media/image88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69.jpeg" ContentType="image/jpeg"/>
  <Override PartName="/ppt/media/image70.jpeg" ContentType="image/jpeg"/>
  <Override PartName="/ppt/media/image96.gif" ContentType="image/gif"/>
  <Override PartName="/ppt/media/image64.jpeg" ContentType="image/jpeg"/>
  <Override PartName="/ppt/media/image91.jpeg" ContentType="image/jpeg"/>
  <Override PartName="/ppt/media/image93.png" ContentType="image/png"/>
  <Override PartName="/ppt/media/image99.gif" ContentType="image/gif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6.jpeg" ContentType="image/jpeg"/>
  <Override PartName="/ppt/media/image60.jpeg" ContentType="image/jpeg"/>
  <Override PartName="/ppt/media/image77.jpeg" ContentType="image/jpeg"/>
  <Override PartName="/ppt/media/image95.png" ContentType="image/png"/>
  <Override PartName="/ppt/media/image83.jpeg" ContentType="image/jpeg"/>
  <Override PartName="/ppt/media/image71.jpeg" ContentType="image/jpeg"/>
  <Override PartName="/ppt/media/image82.jpeg" ContentType="image/jpeg"/>
  <Override PartName="/ppt/media/image23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5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jpeg" ContentType="image/jpeg"/>
  <Override PartName="/ppt/media/image26.jpeg" ContentType="image/jpeg"/>
  <Override PartName="/ppt/media/image84.jpeg" ContentType="image/jpeg"/>
  <Override PartName="/ppt/media/image25.jpeg" ContentType="image/jpeg"/>
  <Override PartName="/ppt/media/image72.jpeg" ContentType="image/jpeg"/>
  <Override PartName="/ppt/media/image2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739-BCA1-47E8-A46D-ECFEB846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0F5-A41A-459E-8D2A-A7F177EE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7B3-6B1E-496B-A315-DF61C020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4E5-6AD3-49E2-893E-4107A3AC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D210-20AB-4EA4-AABC-46F361A2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3CBC-E8E9-4DC7-92DD-74FCBEAC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B99E-750A-4161-8574-E2D08147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3FD4-486F-45F9-AF6A-139A2252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A923-74B7-4635-AC1A-E590CD7F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A602-9E89-4B6F-8CC6-8B3D566F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405E-90EE-4C37-83A8-547984B3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37B-9D35-4727-B321-D9157427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DFED-23E9-4B0C-96B7-49F5135A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35B0-349A-483A-A4FC-839A4051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B31A-059B-4DDD-B712-FF3CA02B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C15D-DB06-4B8D-B93B-587ACB71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1277-412B-40B7-B53A-40E8AD3E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FA7-4C52-4D21-8DEC-CD2747B2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B87-3C8B-4769-B63C-D928B396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AFB-5A63-4236-899B-56078E89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2BC-F825-45B1-9EF1-8F74D706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C70-6B64-46AA-86FE-CCA86463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823-3481-4112-8C03-CAC362FC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79D-3D15-4991-8A72-E5A159A7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5EBA-6095-4D80-B2FD-0208A45EC662}" type="slidenum">
              <a:rPr b="0" lang="nl-N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C200-4A12-4C38-A13D-9ACFF688A7A0}" type="slidenum">
              <a:rPr b="0" lang="nl-N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ome.scarlet.be/~brus01/The_Earth_Circle.htm" TargetMode="External"/><Relationship Id="rId2" Type="http://schemas.openxmlformats.org/officeDocument/2006/relationships/hyperlink" Target="http://home.scarlet.be/~brus01/The_Earth_Circle.htm" TargetMode="External"/><Relationship Id="rId3" Type="http://schemas.openxmlformats.org/officeDocument/2006/relationships/hyperlink" Target="http://home.scarlet.be/~brus01/The_Earth_Circle.htm" TargetMode="External"/><Relationship Id="rId4" Type="http://schemas.openxmlformats.org/officeDocument/2006/relationships/hyperlink" Target="http://home.scarlet.be/~brus01/The_Earth_Circle.htm" TargetMode="External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audio" Target="../media/I%20am%20alive_03,28.00.wav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90.jpeg"/><Relationship Id="rId6" Type="http://schemas.openxmlformats.org/officeDocument/2006/relationships/image" Target="../media/image91.jpeg"/><Relationship Id="rId7" Type="http://schemas.openxmlformats.org/officeDocument/2006/relationships/image" Target="../media/image92.jpeg"/><Relationship Id="rId8" Type="http://schemas.openxmlformats.org/officeDocument/2006/relationships/image" Target="../media/image93.png"/><Relationship Id="rId9" Type="http://schemas.openxmlformats.org/officeDocument/2006/relationships/image" Target="../media/image94.jpeg"/><Relationship Id="rId10" Type="http://schemas.openxmlformats.org/officeDocument/2006/relationships/image" Target="../media/image44.jpeg"/><Relationship Id="rId11" Type="http://schemas.openxmlformats.org/officeDocument/2006/relationships/image" Target="../media/image95.png"/><Relationship Id="rId1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6.gif"/><Relationship Id="rId2" Type="http://schemas.openxmlformats.org/officeDocument/2006/relationships/image" Target="../media/image97.jpeg"/><Relationship Id="rId3" Type="http://schemas.openxmlformats.org/officeDocument/2006/relationships/image" Target="../media/image96.gif"/><Relationship Id="rId4" Type="http://schemas.openxmlformats.org/officeDocument/2006/relationships/image" Target="../media/image98.gif"/><Relationship Id="rId5" Type="http://schemas.openxmlformats.org/officeDocument/2006/relationships/image" Target="../media/image98.gif"/><Relationship Id="rId6" Type="http://schemas.openxmlformats.org/officeDocument/2006/relationships/image" Target="../media/image99.gif"/><Relationship Id="rId7" Type="http://schemas.openxmlformats.org/officeDocument/2006/relationships/image" Target="../media/image99.gi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42920" y="64008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The </a:t>
            </a:r>
            <a:r>
              <a:rPr b="0" lang="nl-BE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Earth</a:t>
            </a:r>
            <a:r>
              <a:rPr b="0" lang="nl-BE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nl-BE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Cir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260280"/>
            <a:ext cx="77742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4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Papyrus"/>
              </a:rPr>
              <a:t>Weer een zware dag vandaag … ?</a:t>
            </a:r>
            <a:br>
              <a:rPr sz="4000"/>
            </a:br>
            <a:r>
              <a:rPr b="1" i="1" lang="de-DE" sz="3600" spc="-1" strike="noStrike">
                <a:solidFill>
                  <a:srgbClr val="99ffcc"/>
                </a:solidFill>
                <a:latin typeface="Papyrus"/>
              </a:rPr>
              <a:t>Having a bad day … ?</a:t>
            </a:r>
            <a:r>
              <a:rPr b="0" lang="de-DE" sz="4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Papyru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763640" y="2133720"/>
            <a:ext cx="5610240" cy="410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42240" y="59500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fade thruBlk="true"/>
    <p:sndAc>
      <p:stSnd>
        <p:snd r:embed="rId7" name="I%20am%20alive_03,28.0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45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45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...die jou liefst wil laten kruipen …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… </a:t>
            </a: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who wants you to creep …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012080" cy="37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63640" y="59497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Please, don’t get angry or frustrated …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076640"/>
            <a:ext cx="324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Wees dan niet verbitterd of boos …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889440" cy="3673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4348440" cy="54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Je hoeft niet terug te vechten !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You don’t have to fight back !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967040"/>
            <a:ext cx="6120000" cy="412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Papyrus"/>
              </a:rPr>
              <a:t>Er zijn anderen die begrijpen wat jij voelt …</a:t>
            </a:r>
            <a:br>
              <a:rPr sz="32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Some do understand what you feel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Papyrus"/>
              </a:rPr>
              <a:t>Er is hulp onderweg om je weer overeind te helpen ...</a:t>
            </a:r>
            <a:br>
              <a:rPr sz="32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Help is on its way to put you back on your feet …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5616720" cy="41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Laat je niet opschrikken door wat er rondom je gebeurt …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Don’t get frightened by what’s happening around you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985080" cy="43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Neem het besluit niet langer met je voeten te laten spelen …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Don’t get trampled under foot …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5370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9640" y="4554000"/>
            <a:ext cx="8064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… </a:t>
            </a: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en laat je niet langer gebruiken …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Don’t take it any longer …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96908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Papyrus"/>
              </a:rPr>
              <a:t>Het Leven is geen kat en muis-spelletje … !</a:t>
            </a:r>
            <a:br>
              <a:rPr sz="32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Life is not a cat and mouse game … !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40072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Je mag trots zijn op wie je bent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You may be proud of yourself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9780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71500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Ben je wat hangerig …?</a:t>
            </a:r>
            <a:br>
              <a:rPr sz="3600"/>
            </a:br>
            <a:r>
              <a:rPr b="1" i="1" lang="de-DE" sz="2800" spc="-1" strike="noStrike">
                <a:solidFill>
                  <a:srgbClr val="99ffcc"/>
                </a:solidFill>
                <a:latin typeface="Papyrus"/>
              </a:rPr>
              <a:t>Are you a little bit listless …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5892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2578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Je bent méér dan wat je tot nu toe geworden bent …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You are more than what you have become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7528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En je kunt meer dan je nu denkt …</a:t>
            </a:r>
            <a:br>
              <a:rPr sz="40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And you  are capable of more than you think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4076640" cy="48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Echt,  je mag gezien worden …!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Really, you are pretty the way you are … !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46400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Papyrus"/>
              </a:rPr>
              <a:t>Ook al zie je er misschien wat raar uit …</a:t>
            </a:r>
            <a:br>
              <a:rPr sz="32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Even if you look a little bit strange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4152960" cy="494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Of net een beetje anders … 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Or just a bit different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952720" cy="2536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2521080" cy="2519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892600" cy="3816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3743280" cy="2565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635280" y="3357720"/>
            <a:ext cx="273708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00720" y="476280"/>
            <a:ext cx="4240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Don‘t forget to laugh about yourself once in a while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4437000"/>
            <a:ext cx="388944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Vergeet niet om af en toe eens om jezelf te lachen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961080" cy="3816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391464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43280" y="333360"/>
            <a:ext cx="4500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Je wordt echt mooier als je lacht 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4723920"/>
            <a:ext cx="34336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You become more beautiful when you laugh …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248360" cy="4103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345780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Geef je boosheid een uitlaatklep  …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Give your anger an outlet valve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031840" y="1974960"/>
            <a:ext cx="5419800" cy="39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5840" y="345960"/>
            <a:ext cx="712476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BE" sz="3200" spc="-1" strike="noStrike">
                <a:solidFill>
                  <a:srgbClr val="ffffff"/>
                </a:solidFill>
                <a:latin typeface="Papyrus"/>
              </a:rPr>
              <a:t>… </a:t>
            </a:r>
            <a:r>
              <a:rPr b="1" lang="nl-BE" sz="3200" spc="-1" strike="noStrike">
                <a:solidFill>
                  <a:srgbClr val="ffffff"/>
                </a:solidFill>
                <a:latin typeface="Papyrus"/>
              </a:rPr>
              <a:t>en bekijk de wereld wat meer door een roze bril …</a:t>
            </a:r>
            <a:br>
              <a:rPr sz="32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… and see things more through rose-coloured glasses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4425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094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Zing een beetje met je vrienden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Sing along with your friends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17672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63640" y="620280"/>
            <a:ext cx="3095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99ffcc"/>
                </a:solidFill>
                <a:latin typeface="Papyrus"/>
              </a:rPr>
              <a:t>You find it hard to get up … 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-252360" y="549360"/>
            <a:ext cx="446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645000"/>
            <a:ext cx="36021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Heb je moeite om op te staan...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16720" cy="2997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95640" y="3357720"/>
            <a:ext cx="428652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00720" y="1197000"/>
            <a:ext cx="4038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eaeaea"/>
                </a:solidFill>
                <a:latin typeface="Papyrus"/>
              </a:rPr>
              <a:t>Geniet van je omgeving…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Enjoy  the environment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3325680" cy="62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700360" cy="2492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68360" y="551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Geef elkaar wat flinke knuffels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Give big hugs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203640" y="260280"/>
            <a:ext cx="1590480" cy="2492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5076720" y="189000"/>
            <a:ext cx="2735280" cy="3240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116000" y="2637000"/>
            <a:ext cx="3168720" cy="3024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4643280" y="3213000"/>
            <a:ext cx="237672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Papyrus"/>
              </a:rPr>
              <a:t>… </a:t>
            </a:r>
            <a:r>
              <a:rPr b="1" lang="nl-BE" sz="3200" spc="-1" strike="noStrike">
                <a:solidFill>
                  <a:srgbClr val="ffffff"/>
                </a:solidFill>
                <a:latin typeface="Papyrus"/>
              </a:rPr>
              <a:t>maak tijd voor een welgemeende kus …</a:t>
            </a:r>
            <a:br>
              <a:rPr sz="32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… make time for an heartfelt kiss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248000" cy="4572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… </a:t>
            </a: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of zoek troost bij je favoriete knuffeldier …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… or find comfort with your favorite cuddly-toy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21972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3701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Leg vandaag je ruzie bij 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8000" y="4868640"/>
            <a:ext cx="34621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Patch up all your quarrels today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5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414036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7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346640" y="304560"/>
            <a:ext cx="4263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… </a:t>
            </a: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of maak nieuwe vrienden 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456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99ccff"/>
                </a:solidFill>
                <a:latin typeface="Papyrus"/>
              </a:rPr>
              <a:t>… </a:t>
            </a:r>
            <a:r>
              <a:rPr b="1" i="1" lang="nl-BE" sz="3200" spc="-1" strike="noStrike">
                <a:solidFill>
                  <a:srgbClr val="99ccff"/>
                </a:solidFill>
                <a:latin typeface="Papyrus"/>
              </a:rPr>
              <a:t>or make new friends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673440" cy="3902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0355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5300640"/>
            <a:ext cx="77724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Stap even uit je routine en doe een keer wat anders …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Try to do something quite different … !</a:t>
            </a: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689520" cy="46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530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Ontspan je wat meer bij je werk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Relax more when you work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935680" cy="39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… </a:t>
            </a: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en neem even pauze om te genieten van het niets-doen … !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… and take a break doing no-thing … !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506736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Mediteer op je eigen unieke manier …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Meditate in your own way …</a:t>
            </a:r>
            <a:r>
              <a:rPr b="1" lang="nl-BE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761080" cy="42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Ben je even uitgeteld ?</a:t>
            </a:r>
            <a:br>
              <a:rPr sz="3600"/>
            </a:br>
            <a:r>
              <a:rPr b="1" i="1" lang="nl-BE" sz="2800" spc="-1" strike="noStrike">
                <a:solidFill>
                  <a:srgbClr val="99ffcc"/>
                </a:solidFill>
                <a:latin typeface="Papyrus"/>
              </a:rPr>
              <a:t>Are you dead-beat  ?</a:t>
            </a: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32764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00720" y="549360"/>
            <a:ext cx="464328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Bid op je eigen unieke manier …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Pray in your own way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3313440" cy="5256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2540160" cy="36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Waarom zou je vandaag zwoegen en zweten ?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Why should you toil and moil today …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667560" cy="45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206960" cy="4303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9480" y="5229360"/>
            <a:ext cx="7707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Beleef vandaag alsof het je laatste dag is …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Live  this day as if it was your last …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Ga voor de uitdaging …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Go for the challenge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8832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961080" cy="388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4941720"/>
            <a:ext cx="777240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... en wees niet bang méér te willen dan je eigenlijk aankan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… </a:t>
            </a: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and don‘t be afraid to want more than you can manage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716360" y="692280"/>
            <a:ext cx="42195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87600" y="304560"/>
            <a:ext cx="3422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Durf een risico te nemen 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99640" y="4868640"/>
            <a:ext cx="32180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Dare to take a Risk 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357800" cy="4033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28472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5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… </a:t>
            </a: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en wees inventief met de middelen die voorhanden zijn !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… and be inventive with the means that are available !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356360" cy="3456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38163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Ga eens op verkenning uit !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Go out exploring !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350040" cy="43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4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4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95640" y="189000"/>
            <a:ext cx="44625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Breng je verborgen talent naar buiten 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5280" y="5084280"/>
            <a:ext cx="3710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Bring out your hidden talents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744720" cy="4319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33336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8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Laat je af en toe eens leiden …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Let someone guide you once in a while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896000" cy="3529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356000" y="3789360"/>
            <a:ext cx="4475160" cy="28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Ben je weer wat kilo‘s aangekomen  ?</a:t>
            </a:r>
            <a:br>
              <a:rPr sz="3600"/>
            </a:b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Have you put on weight …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5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Ga eens uit de bol …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Step out of your head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7960" y="1989000"/>
            <a:ext cx="8128080" cy="407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Maar overdrijf niet teveel ... !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But don’t go too far …!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68944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Heus, je ziet ze niet vliegen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It feels good to let go of control …</a:t>
            </a:r>
            <a:r>
              <a:rPr b="1" i="1" lang="de-DE" sz="2800" spc="-1" strike="noStrike">
                <a:solidFill>
                  <a:srgbClr val="99cc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48180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Je kunt niet alles met je verstand verklaren …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You can’t explain everything 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54364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Laat je vandaag eens goed verwennen… !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Pamper yourself today …!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4626000" cy="38638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889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77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2" dur="770" fill="hold"/>
                                        <p:tgtEl>
                                          <p:spTgt spid="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4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6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Maak het je zo comfortabel mogelijk …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Keep it comfortable …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3835440" cy="23115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924360" y="4437000"/>
            <a:ext cx="4736880" cy="1790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500720" y="1484280"/>
            <a:ext cx="4032000" cy="25210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2984400" cy="26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Misschien een heerlijke massage … ?</a:t>
            </a:r>
            <a:br>
              <a:rPr sz="3600"/>
            </a:br>
            <a:r>
              <a:rPr b="1" i="1" lang="nl-BE" sz="2800" spc="-1" strike="noStrike">
                <a:solidFill>
                  <a:srgbClr val="99ccff"/>
                </a:solidFill>
                <a:latin typeface="Papyrus"/>
              </a:rPr>
              <a:t>Perhaps a lovely massage …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40908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63640" y="549000"/>
            <a:ext cx="28609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Life has so much more to offer !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824360" cy="4176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79280" y="4941720"/>
            <a:ext cx="396108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Papyrus"/>
              </a:rPr>
              <a:t>Het leven heeft nog zó veel uitdagingen te bieden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80988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18920" y="691920"/>
            <a:ext cx="698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411280" y="3357720"/>
            <a:ext cx="4105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99ffcc"/>
                </a:solidFill>
                <a:latin typeface="Comic Sans MS"/>
              </a:rPr>
              <a:t>Dus, PLUK DE DAG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cc99ff"/>
                </a:solidFill>
                <a:latin typeface="Comic Sans MS"/>
              </a:rPr>
              <a:t>So, MAKE YOUR DAY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2484360" y="6524640"/>
            <a:ext cx="42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71640" cy="2160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2340000" y="0"/>
            <a:ext cx="1814400" cy="14414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468360" y="4986360"/>
            <a:ext cx="2484360" cy="18716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>
            <a:off x="324000" y="2276640"/>
            <a:ext cx="2031840" cy="2793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616800" y="2205000"/>
            <a:ext cx="2527200" cy="32734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8"/>
          <a:stretch/>
        </p:blipFill>
        <p:spPr>
          <a:xfrm>
            <a:off x="673272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9"/>
          <a:stretch/>
        </p:blipFill>
        <p:spPr>
          <a:xfrm>
            <a:off x="4356000" y="162864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0"/>
          <a:stretch/>
        </p:blipFill>
        <p:spPr>
          <a:xfrm>
            <a:off x="6227640" y="4842000"/>
            <a:ext cx="2519640" cy="2016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1"/>
          <a:stretch/>
        </p:blipFill>
        <p:spPr>
          <a:xfrm>
            <a:off x="3276720" y="4941720"/>
            <a:ext cx="26193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8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8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9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0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5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0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Papyrus"/>
              </a:rPr>
              <a:t>Geef deze opkikker door aan al je vrienden …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4000" y="4220640"/>
            <a:ext cx="820728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THE EARTH CIR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ffffff"/>
                </a:solidFill>
                <a:latin typeface="Harrington"/>
              </a:rPr>
              <a:t>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Samen op weg naar een Nieuwe Aarde … !                         Together healing &amp; uplifting the Eart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DOE MEE …                                                              JOIN US …</a:t>
            </a:r>
            <a:r>
              <a:rPr b="1" lang="nl-BE" sz="1800" spc="-1" strike="noStrike">
                <a:solidFill>
                  <a:srgbClr val="ffffff"/>
                </a:solidFill>
                <a:latin typeface="Harringto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451640" y="69228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2700360" y="1484280"/>
            <a:ext cx="3744720" cy="2773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900000" y="692280"/>
            <a:ext cx="1440000" cy="100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1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4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8100"/>
                            </p:stCondLst>
                            <p:childTnLst>
                              <p:par>
                                <p:cTn id="11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0" dur="500" fill="hold"/>
                                        <p:tgtEl>
                                          <p:spTgt spid="3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3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791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Of krijg je je haar moeilijk in de plooi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Are you a little bit confused …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68944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581360"/>
            <a:ext cx="77724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Misschien heb je zelfs weer een paar nieuwe rimpels ontdekt ?!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You just discovered a few wrinkles …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40072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Vind je jezelf niet echt aantrekkelijk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Do you think you are not attractive …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525636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214632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010480" cy="4572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0920" y="5157720"/>
            <a:ext cx="7772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Papyrus"/>
              </a:rPr>
              <a:t>Of heb je problemen met die bullebak van een collega...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ccff"/>
                </a:solidFill>
                <a:latin typeface="Papyrus"/>
              </a:rPr>
              <a:t>Or  are you having problems with a colleague…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7:40:39Z</dcterms:created>
  <dc:creator/>
  <dc:description/>
  <dc:language>en-US</dc:language>
  <cp:lastModifiedBy>Smets</cp:lastModifiedBy>
  <dcterms:modified xsi:type="dcterms:W3CDTF">2009-11-06T06:27:51Z</dcterms:modified>
  <cp:revision>68</cp:revision>
  <dc:subject/>
  <dc:title> </dc:title>
</cp:coreProperties>
</file>