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6858000" cy="9144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65320" y="728640"/>
            <a:ext cx="2727360" cy="364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13040"/>
            <a:ext cx="548640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F0D5-A310-41D1-846C-FA1C11FF323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144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8CD6-3515-4137-9005-9E1D75156C4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2065320" y="728640"/>
            <a:ext cx="2727360" cy="364032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613040"/>
            <a:ext cx="54864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144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6A1F-C153-4CC4-AE3B-D9082DECA2B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2065320" y="728640"/>
            <a:ext cx="2727360" cy="36403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613040"/>
            <a:ext cx="54864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144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8983-5F74-4A06-9481-FFFB89C8847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2065320" y="728640"/>
            <a:ext cx="2727360" cy="36403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613040"/>
            <a:ext cx="54864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144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4059-7818-4550-8B3B-DD99BE618E6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065320" y="728640"/>
            <a:ext cx="2727360" cy="36403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613040"/>
            <a:ext cx="54864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144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1B06-429D-4F97-ABDE-BF916080E29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065320" y="728640"/>
            <a:ext cx="2727360" cy="36403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613040"/>
            <a:ext cx="54864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44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2DB0-B2DC-47C4-9081-4B28D1B2D17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065320" y="728640"/>
            <a:ext cx="2727360" cy="36403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613040"/>
            <a:ext cx="54864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100A-E821-4AF2-B8D2-D262AAAF8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FDBA-A9D9-4FB3-94D8-6C847239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489F-0661-4DD7-ACBE-FD8679876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0B1F-6A30-4C05-88D3-5D12EA57A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69B2-7B72-4679-AFD5-FBF4C0BC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E1FE-5E24-4CBC-8C69-B9D76703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1ECA-2A7F-4BDC-A0C2-F80F2719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F7BD-2659-4C56-AB5D-5F15DFEB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5E40-61F0-416A-AB80-699FBB18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F50E-A6C1-4369-8524-187D36A9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DA2A-D936-42A1-B947-D9656F08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3689-E76E-4003-8358-44690042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F56F-CE96-4D91-BE0D-8C58BE1482B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341360" y="250920"/>
            <a:ext cx="525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TITUT PERGURUAN PEREMPUAN MELAYU MELA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260280" y="826920"/>
            <a:ext cx="554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ENARAI SEMAK TUNTUTAN PENSYARAH / PENCERAMAH SAMBI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76280" y="1258920"/>
            <a:ext cx="42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Tandatangan di BAHAGIAN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125360" y="1763640"/>
            <a:ext cx="33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. ULASAN KETUA JABAT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125360" y="2124000"/>
            <a:ext cx="41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. PENGESAHAN KETUA JABATAN / PENYELA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476280" y="2843280"/>
            <a:ext cx="42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 Tandatangan Pemoh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476280" y="3203640"/>
            <a:ext cx="42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 Salinan Surat Perlantikan Sebagai Tenaga Penga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476280" y="3564000"/>
            <a:ext cx="42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 Salinan Jadual Waktu Menga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76280" y="3995640"/>
            <a:ext cx="489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 Salinan Kad Pengenalan (bagi Penceramah Lu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620640" y="6157800"/>
            <a:ext cx="5616720" cy="10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Nota:   a.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Semua salinan surat hendaklah disertakan sebanyak 1 salina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b. Semua tuntutan bagi KDC, LPBS dan J-Qaf diisi dalam borang yang sa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hanya tuntutan bagi KISSM sahaja yang di isi berasinga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c. Semua tuntutan adalah tidak melebihi ½ gaj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3284640" y="7885080"/>
            <a:ext cx="33843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ndatangan Pemoh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5516640" y="1692360"/>
            <a:ext cx="64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5516640" y="2124000"/>
            <a:ext cx="64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5516640" y="2700360"/>
            <a:ext cx="64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9"/>
          <p:cNvSpPr/>
          <p:nvPr/>
        </p:nvSpPr>
        <p:spPr>
          <a:xfrm>
            <a:off x="5516640" y="3132000"/>
            <a:ext cx="64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5516640" y="3564000"/>
            <a:ext cx="64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1"/>
          <p:cNvSpPr/>
          <p:nvPr/>
        </p:nvSpPr>
        <p:spPr>
          <a:xfrm>
            <a:off x="5516640" y="3995640"/>
            <a:ext cx="64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476280" y="4441680"/>
            <a:ext cx="489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 Salinan Penyata Akaun Bank / Surat Pengesahan Akaun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3"/>
          <p:cNvSpPr/>
          <p:nvPr/>
        </p:nvSpPr>
        <p:spPr>
          <a:xfrm>
            <a:off x="476280" y="4873680"/>
            <a:ext cx="489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. Borang Maklumat E-SPKB (bagi Penceramah Lu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4"/>
          <p:cNvSpPr/>
          <p:nvPr/>
        </p:nvSpPr>
        <p:spPr>
          <a:xfrm>
            <a:off x="476280" y="5302080"/>
            <a:ext cx="4897440" cy="4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. Borang Penilaian Penceramah / Pensyarah Sambi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disediakan oleh pihak penganjur dan penyelaras kurs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5"/>
          <p:cNvSpPr/>
          <p:nvPr/>
        </p:nvSpPr>
        <p:spPr>
          <a:xfrm>
            <a:off x="5516640" y="4427640"/>
            <a:ext cx="64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6"/>
          <p:cNvSpPr/>
          <p:nvPr/>
        </p:nvSpPr>
        <p:spPr>
          <a:xfrm>
            <a:off x="5516640" y="4859280"/>
            <a:ext cx="64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7"/>
          <p:cNvSpPr/>
          <p:nvPr/>
        </p:nvSpPr>
        <p:spPr>
          <a:xfrm>
            <a:off x="5516640" y="5291280"/>
            <a:ext cx="64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765000" y="179280"/>
            <a:ext cx="525636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RANG PERMOHONANUNTUK MENJALANKAN TUGAS SEBAGA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NSYARAH/PENCERAMAH SAMBILA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GI BULAN ____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ISEMBER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__ TAHUN __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2012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2708280" y="684360"/>
            <a:ext cx="1511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 Diisi Dalam 2 Salinan</a:t>
            </a:r>
            <a:r>
              <a:rPr b="0" lang="ar-SA" sz="900" spc="-1" strike="noStrike">
                <a:solidFill>
                  <a:srgbClr val="000000"/>
                </a:solidFill>
                <a:latin typeface="Arial"/>
              </a:rPr>
              <a:t> (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260280" y="1042920"/>
            <a:ext cx="4680000" cy="7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STITUT PENDIDIKAN GURU MALAYS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AMPUS PEREMPUAN MELAYU, DURIAN DAU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5460 MELAK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260280" y="1979640"/>
            <a:ext cx="446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HAGIAN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260280" y="2268360"/>
            <a:ext cx="590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.   BUTIR-BUTIR PERIBAD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620640" y="3348000"/>
            <a:ext cx="58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26"/>
          <p:cNvSpPr/>
          <p:nvPr/>
        </p:nvSpPr>
        <p:spPr>
          <a:xfrm>
            <a:off x="260280" y="5508720"/>
            <a:ext cx="590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.   BUTIR-BUTIR PERMOHON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33360" y="5842080"/>
          <a:ext cx="6264360" cy="2730600"/>
        </p:xfrm>
        <a:graphic>
          <a:graphicData uri="http://schemas.openxmlformats.org/drawingml/2006/table">
            <a:tbl>
              <a:tblPr/>
              <a:tblGrid>
                <a:gridCol w="452520"/>
                <a:gridCol w="2341440"/>
                <a:gridCol w="905040"/>
                <a:gridCol w="1693800"/>
                <a:gridCol w="87156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JUK / PERKA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IK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ktu &amp; jam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MLA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mlah Bes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476280" y="2700360"/>
          <a:ext cx="6121440" cy="2666880"/>
        </p:xfrm>
        <a:graphic>
          <a:graphicData uri="http://schemas.openxmlformats.org/drawingml/2006/table">
            <a:tbl>
              <a:tblPr/>
              <a:tblGrid>
                <a:gridCol w="2952720"/>
                <a:gridCol w="3168720"/>
              </a:tblGrid>
              <a:tr h="2689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KAD PENGENAL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WA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D JAWA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AF JAWA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JI BULAN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A KEMENTERIAN / JABATAN / AGEN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MAT KEMENTERIAN / JABATAN / AGEN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76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76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189000" y="0"/>
            <a:ext cx="21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HAGIAN I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89000" y="324000"/>
            <a:ext cx="439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.   ULASAN KETUA JABATAN / PENGETUA / GURU BES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404640" y="1042920"/>
            <a:ext cx="2376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rikh : 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3860640" y="1042920"/>
            <a:ext cx="273708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ndatangan Ketua Jabat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ama :      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awatan : 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p Jabatan 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189000" y="2411280"/>
            <a:ext cx="391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.   PENGESAHAN KETUA JABATAN / PENYELAR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189000" y="2916360"/>
            <a:ext cx="640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ahkan bahawa pegawai ini adalah seorang pensyarah/penceramah sambilan golongan pakar/ bukan golongan paka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404640" y="3780000"/>
            <a:ext cx="2376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rikh : 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3716280" y="3780000"/>
            <a:ext cx="273708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ndatangan Ketua Jabat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ama : 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awatan : 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p Jabatan 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260280" y="5829480"/>
            <a:ext cx="39150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EPUTUSAN PERMOHON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luluskan / Tidak Dilulusk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260280" y="5435640"/>
            <a:ext cx="5545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HAGIAN II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6"/>
          <p:cNvSpPr/>
          <p:nvPr/>
        </p:nvSpPr>
        <p:spPr>
          <a:xfrm>
            <a:off x="620640" y="6832440"/>
            <a:ext cx="2376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rikh : 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7"/>
          <p:cNvSpPr/>
          <p:nvPr/>
        </p:nvSpPr>
        <p:spPr>
          <a:xfrm>
            <a:off x="3789360" y="6910560"/>
            <a:ext cx="273672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ndatangan Ketua Jabat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ama : 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awatan : 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p Jabatan 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404640" y="755640"/>
            <a:ext cx="61930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33360" y="826920"/>
          <a:ext cx="6264360" cy="1859040"/>
        </p:xfrm>
        <a:graphic>
          <a:graphicData uri="http://schemas.openxmlformats.org/drawingml/2006/table">
            <a:tbl>
              <a:tblPr/>
              <a:tblGrid>
                <a:gridCol w="447840"/>
                <a:gridCol w="581652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mlah besar tuntutan bulanan di para 1 di atas adalah selaras dengan kelayakan saya seperti ditetapkan diperenggan 3.1.2 (iv) atau (v) dalam Pekeliling Perbendaharaan Bil. 2/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a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mlah besar tuntutan bulanan di para 1 di atas adalah melebihi kelayakan saya seperti ditetapkan diperenggan 3.1.2 (iv) atau (v) dalam Pekeliling Perbendaharaan Bil.2/05 dan saya telah memulangkan balik lebihan bayaran saguhati yang diterima tersebut iaitu sebanyak RM…………………………………………………………………… kepada Kementerian/Jabatan/Agensi Bil. …………………………………….. bertarikh ………………………………………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Text Box 59"/>
          <p:cNvSpPr/>
          <p:nvPr/>
        </p:nvSpPr>
        <p:spPr>
          <a:xfrm>
            <a:off x="189000" y="2987640"/>
            <a:ext cx="583236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RAKU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aya mengaku butir-butir yang dinyatakan di atas adalah bena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0"/>
          <p:cNvSpPr/>
          <p:nvPr/>
        </p:nvSpPr>
        <p:spPr>
          <a:xfrm>
            <a:off x="476280" y="4167360"/>
            <a:ext cx="237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rikh : 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1"/>
          <p:cNvSpPr/>
          <p:nvPr/>
        </p:nvSpPr>
        <p:spPr>
          <a:xfrm>
            <a:off x="3716280" y="4146480"/>
            <a:ext cx="273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ndatangan Pemoh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476280" y="2195640"/>
            <a:ext cx="58593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a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NGESAHAN NOMBOR AKAUN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lah saya dengan ini mengesahkan bahawa maklumat-maklumat seperti berikut adalah benar 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4076640" y="46836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ikh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549360" y="1042920"/>
            <a:ext cx="4032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197000" y="3203640"/>
            <a:ext cx="4248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981000" y="3635280"/>
          <a:ext cx="4969080" cy="1251000"/>
        </p:xfrm>
        <a:graphic>
          <a:graphicData uri="http://schemas.openxmlformats.org/drawingml/2006/table">
            <a:tbl>
              <a:tblPr/>
              <a:tblGrid>
                <a:gridCol w="1882800"/>
                <a:gridCol w="30862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mbor Akaun Bank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 Seperti Di Penyata Bank 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a Ban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mat Ban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Text Box 29"/>
          <p:cNvSpPr/>
          <p:nvPr/>
        </p:nvSpPr>
        <p:spPr>
          <a:xfrm>
            <a:off x="476280" y="5364000"/>
            <a:ext cx="5761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       Dengan ini saya faham dan mengaku tidak akan menuntut sebarang kerugian daripada Kerajaan yang mungkin timbul dari transaksi in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kian, terima kasi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a yang benar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……………………………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a    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. K/P 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4076640" y="179280"/>
            <a:ext cx="237672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MPIRAN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M-PUP06-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20640" y="1042920"/>
            <a:ext cx="518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HAGIAN PENDIDIKAN GURU/INSTITUT PENDIDIKAN GU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EMENTERIAN PENDIDIKAN MALAYS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1197000" y="3203640"/>
            <a:ext cx="4248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8"/>
          <p:cNvSpPr/>
          <p:nvPr/>
        </p:nvSpPr>
        <p:spPr>
          <a:xfrm>
            <a:off x="836640" y="1476360"/>
            <a:ext cx="518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NILAIAN PENCERAMAH / PENSYARAH SAMBIL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04640" y="1835280"/>
          <a:ext cx="6048720" cy="1106280"/>
        </p:xfrm>
        <a:graphic>
          <a:graphicData uri="http://schemas.openxmlformats.org/drawingml/2006/table">
            <a:tbl>
              <a:tblPr/>
              <a:tblGrid>
                <a:gridCol w="3024360"/>
                <a:gridCol w="3024360"/>
              </a:tblGrid>
              <a:tr h="28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a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juk Ceramah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ikh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at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a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404640" y="3059280"/>
          <a:ext cx="6048720" cy="457200"/>
        </p:xfrm>
        <a:graphic>
          <a:graphicData uri="http://schemas.openxmlformats.org/drawingml/2006/table">
            <a:tbl>
              <a:tblPr/>
              <a:tblGrid>
                <a:gridCol w="1297080"/>
                <a:gridCol w="1511280"/>
                <a:gridCol w="936720"/>
                <a:gridCol w="2303640"/>
              </a:tblGrid>
              <a:tr h="2311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ALA PENILAIAN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mah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derha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i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merla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68360" y="3635280"/>
          <a:ext cx="6056280" cy="1986120"/>
        </p:xfrm>
        <a:graphic>
          <a:graphicData uri="http://schemas.openxmlformats.org/drawingml/2006/table">
            <a:tbl>
              <a:tblPr/>
              <a:tblGrid>
                <a:gridCol w="368280"/>
                <a:gridCol w="2521080"/>
                <a:gridCol w="863280"/>
                <a:gridCol w="2303640"/>
              </a:tblGrid>
              <a:tr h="27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2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2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EK PENILAI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2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TAS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2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LAS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1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ndungan Cerama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1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yampaian jelas / fah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1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edah cerama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1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ggunaan alat bantu yang sesua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1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aksi dengan peser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1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sediaan menerima cadangan / pandang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MLA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Rectangle 216"/>
          <p:cNvSpPr/>
          <p:nvPr/>
        </p:nvSpPr>
        <p:spPr>
          <a:xfrm>
            <a:off x="5661000" y="5724360"/>
            <a:ext cx="86364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17"/>
          <p:cNvSpPr/>
          <p:nvPr/>
        </p:nvSpPr>
        <p:spPr>
          <a:xfrm>
            <a:off x="693720" y="579600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rata Penila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349360" y="5759280"/>
          <a:ext cx="1251000" cy="422280"/>
        </p:xfrm>
        <a:graphic>
          <a:graphicData uri="http://schemas.openxmlformats.org/drawingml/2006/table">
            <a:tbl>
              <a:tblPr/>
              <a:tblGrid>
                <a:gridCol w="1251000"/>
              </a:tblGrid>
              <a:tr h="206640">
                <a:tc>
                  <a:txBody>
                    <a:bodyPr lIns="90000" rIns="90000" tIns="91440" bIns="46800" anchor="t">
                      <a:noAutofit/>
                    </a:bodyPr>
                    <a:p>
                      <a:pPr algn="ctr" rtl="1">
                        <a:lnSpc>
                          <a:spcPct val="5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mlah Prestasi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91440" bIns="46800" anchor="t">
                      <a:noAutofit/>
                    </a:bodyPr>
                    <a:p>
                      <a:pPr algn="ctr" rtl="1">
                        <a:lnSpc>
                          <a:spcPct val="5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.Aspek Penilai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Text Box 243"/>
          <p:cNvSpPr/>
          <p:nvPr/>
        </p:nvSpPr>
        <p:spPr>
          <a:xfrm>
            <a:off x="333360" y="6227640"/>
            <a:ext cx="331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lasan Keseluruhan / cadanga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44"/>
          <p:cNvSpPr/>
          <p:nvPr/>
        </p:nvSpPr>
        <p:spPr>
          <a:xfrm>
            <a:off x="333360" y="6948360"/>
            <a:ext cx="288144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ediakan ole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datanga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m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wata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45"/>
          <p:cNvSpPr/>
          <p:nvPr/>
        </p:nvSpPr>
        <p:spPr>
          <a:xfrm>
            <a:off x="3787920" y="6948360"/>
            <a:ext cx="288108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ahkan ole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datanga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m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wata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52"/>
          <p:cNvSpPr/>
          <p:nvPr/>
        </p:nvSpPr>
        <p:spPr>
          <a:xfrm>
            <a:off x="333360" y="8180280"/>
            <a:ext cx="54720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atatan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Rumusan Penilaian oleh Penyelaras / Pengelola berdasarkan penilaian oleh peser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53"/>
          <p:cNvSpPr/>
          <p:nvPr/>
        </p:nvSpPr>
        <p:spPr>
          <a:xfrm>
            <a:off x="189000" y="8899560"/>
            <a:ext cx="331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ebruari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12:18:19Z</dcterms:created>
  <dc:creator>rizuan</dc:creator>
  <dc:description/>
  <dc:language>en-US</dc:language>
  <cp:lastModifiedBy>EndUser</cp:lastModifiedBy>
  <dcterms:modified xsi:type="dcterms:W3CDTF">2012-12-17T10:49:07Z</dcterms:modified>
  <cp:revision>120</cp:revision>
  <dc:subject/>
  <dc:title>Slide 1</dc:title>
</cp:coreProperties>
</file>