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144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10CB-F772-418D-AE6A-18DFA00147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0DC3-09F8-484C-9C32-BCE31131E0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8B00-D26E-4CA6-A390-4205D8C30A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959A-2999-46DE-ABD1-FC425AE4A1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A345-4F1F-4240-A28D-279C575872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8C8F-58EE-44A9-AC1A-D26D8316E6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44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E924-4265-43E3-A5B7-18E2BAD408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065320" y="728640"/>
            <a:ext cx="2727360" cy="3640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B0C-30DF-487C-9AB9-CBF1A5D1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A6C-F710-437E-9EAC-4CD3508F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BC6-C5CC-4DF0-BA2A-A24DC847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E55-3F26-4764-9EC2-64ED84E1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790-A1A3-4DEA-9E9C-26B96814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D3B-8091-4BCE-9437-220CA17C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FC7-E1A9-47FB-B416-868465D8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CF1-E836-40AF-823D-4C45686D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48B-FFBA-49C0-A244-0E0814F3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597-E3B6-4A8F-AAC9-530085D2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2D3-09B9-44C3-B49E-F7F6118D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05E-DE7B-4CF8-9DA7-D9EAB687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72F8-D3CA-4816-9013-DE0718B886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41360" y="25092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ITUT PERGURUAN PEREMPUAN MELAYU MELA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60280" y="826920"/>
            <a:ext cx="55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NARAI SEMAK TUNTUTAN PENSYARAH / PENCERAMAH SAMB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76280" y="125892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Tandatangan di BAHAGIAN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25360" y="176364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ULASAN KETUA JAB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125360" y="212400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PENGESAHAN KETUA JABATAN / PENYELA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76280" y="284328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Tandatangan Pemoh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76280" y="320364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Salinan Surat Perlantikan Sebagai Tenaga Peng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76280" y="356400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Salinan Jadual Waktu Meng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76280" y="3995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Salinan Kad Pengenalan (bagi Penceramah Lu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620640" y="6157800"/>
            <a:ext cx="561672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ta:   a.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mua salinan surat hendaklah disertakan sebanyak 1 salin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. Semua tuntutan bagi KDC, LPBS dan J-Qaf diisi dalam borang yang s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nya tuntutan bagi KISSM sahaja yang di isi berasing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. Semua tuntutan adalah tidak melebihi ½ gaj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284640" y="7885080"/>
            <a:ext cx="3384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ndatangan Pemo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5516640" y="169236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5516640" y="212400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516640" y="270036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516640" y="313200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5516640" y="356400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5516640" y="399564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476280" y="444168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 Salinan Penyata Akaun Bank / Surat Pengesahan Akaun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476280" y="487368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 Borang Maklumat E-SPKB (bagi Penceramah Lu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476280" y="5302080"/>
            <a:ext cx="489744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 Borang Penilaian Penceramah / Pensyarah Sambi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disediakan oleh pihak penganjur dan penyelaras kurs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5516640" y="442764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5516640" y="4859280"/>
            <a:ext cx="64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5516640" y="5291280"/>
            <a:ext cx="649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65000" y="179280"/>
            <a:ext cx="525636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RANG PERMOHONANUNTUK MENJALANKAN TUGAS SEBAGA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NSYARAH/PENCERAMAH SAMBILA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GI BULAN ___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EMBER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 TAHUN _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0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708280" y="684360"/>
            <a:ext cx="151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 Diisi Dalam 2 Salinan</a:t>
            </a:r>
            <a:r>
              <a:rPr b="0" lang="ar-SA" sz="900" spc="-1" strike="noStrike">
                <a:solidFill>
                  <a:srgbClr val="000000"/>
                </a:solidFill>
                <a:latin typeface="Arial"/>
              </a:rPr>
              <a:t> (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60280" y="1042920"/>
            <a:ext cx="468000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ITUT PENDIDIKAN GURU MALAY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AMPUS PEREMPUAN MELAYU, DURIAN DAU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460 MELAK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60280" y="1979640"/>
            <a:ext cx="44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HAGIAN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60280" y="2268360"/>
            <a:ext cx="590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 BUTIR-BUTIR PERIBAD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20640" y="334800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6"/>
          <p:cNvSpPr/>
          <p:nvPr/>
        </p:nvSpPr>
        <p:spPr>
          <a:xfrm>
            <a:off x="260280" y="5508720"/>
            <a:ext cx="590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 BUTIR-BUTIR PERMOHON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33360" y="5842080"/>
          <a:ext cx="6264360" cy="2730600"/>
        </p:xfrm>
        <a:graphic>
          <a:graphicData uri="http://schemas.openxmlformats.org/drawingml/2006/table">
            <a:tbl>
              <a:tblPr/>
              <a:tblGrid>
                <a:gridCol w="452520"/>
                <a:gridCol w="2341440"/>
                <a:gridCol w="905040"/>
                <a:gridCol w="1693800"/>
                <a:gridCol w="8715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UK / PERK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ktu &amp; jam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6280" y="2700360"/>
          <a:ext cx="6121440" cy="2666880"/>
        </p:xfrm>
        <a:graphic>
          <a:graphicData uri="http://schemas.openxmlformats.org/drawingml/2006/table">
            <a:tbl>
              <a:tblPr/>
              <a:tblGrid>
                <a:gridCol w="2952720"/>
                <a:gridCol w="3168720"/>
              </a:tblGrid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KAD PENGENA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D 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AF JAWA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JI BULAN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 KEMENTERIAN / JABATAN / AGE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MAT KEMENTERIAN / JABATAN / AGE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7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7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89000" y="0"/>
            <a:ext cx="215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GIAN 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89000" y="324000"/>
            <a:ext cx="439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 ULASAN KETUA JABATAN / PENGETUA / GURU BES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04640" y="104292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60640" y="1042920"/>
            <a:ext cx="27370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     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89000" y="2411280"/>
            <a:ext cx="391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 PENGESAHAN KETUA JABATAN / PENYELAR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89000" y="291636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ahkan bahawa pegawai ini adalah seorang pensyarah/penceramah sambilan golongan pakar/ bukan golongan pak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04640" y="378000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716280" y="3780000"/>
            <a:ext cx="27370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60280" y="5829480"/>
            <a:ext cx="3915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PUTUSAN PERMOHON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luluskan / Tidak Dilulusk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60280" y="5435640"/>
            <a:ext cx="554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GIAN I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620640" y="6832440"/>
            <a:ext cx="23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789360" y="6910560"/>
            <a:ext cx="2736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Ketua Jabat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a : 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watan : 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 Jabatan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404640" y="755640"/>
            <a:ext cx="6193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33360" y="826920"/>
          <a:ext cx="6264360" cy="1859040"/>
        </p:xfrm>
        <a:graphic>
          <a:graphicData uri="http://schemas.openxmlformats.org/drawingml/2006/table">
            <a:tbl>
              <a:tblPr/>
              <a:tblGrid>
                <a:gridCol w="447840"/>
                <a:gridCol w="5816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 tuntutan bulanan di para 1 di atas adalah selaras dengan kelayakan saya seperti ditetapkan diperenggan 3.1.2 (iv) atau (v) dalam Pekeliling Perbendaharaan Bil. 2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besar tuntutan bulanan di para 1 di atas adalah melebihi kelayakan saya seperti ditetapkan diperenggan 3.1.2 (iv) atau (v) dalam Pekeliling Perbendaharaan Bil.2/05 dan saya telah memulangkan balik lebihan bayaran saguhati yang diterima tersebut iaitu sebanyak RM…………………………………………………………………… kepada Kementerian/Jabatan/Agensi Bil. …………………………………….. bertarikh ………………………………………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59"/>
          <p:cNvSpPr/>
          <p:nvPr/>
        </p:nvSpPr>
        <p:spPr>
          <a:xfrm>
            <a:off x="189000" y="2987640"/>
            <a:ext cx="583236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AKU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ya mengaku butir-butir yang dinyatakan di atas adalah ben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476280" y="4167360"/>
            <a:ext cx="23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rikh : 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3716280" y="4146480"/>
            <a:ext cx="27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datangan Pemoh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76280" y="2195640"/>
            <a:ext cx="5859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a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GESAHAN NOMBOR AKAUN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lah saya dengan ini mengesahkan bahawa maklumat-maklumat seperti berikut adalah benar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076640" y="468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ikh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49360" y="1042920"/>
            <a:ext cx="403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197000" y="3203640"/>
            <a:ext cx="424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81000" y="3635280"/>
          <a:ext cx="4969080" cy="1251000"/>
        </p:xfrm>
        <a:graphic>
          <a:graphicData uri="http://schemas.openxmlformats.org/drawingml/2006/table">
            <a:tbl>
              <a:tblPr/>
              <a:tblGrid>
                <a:gridCol w="1882800"/>
                <a:gridCol w="3086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or Akaun Bank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Seperti Di Penyata Bank 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 B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mat B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29"/>
          <p:cNvSpPr/>
          <p:nvPr/>
        </p:nvSpPr>
        <p:spPr>
          <a:xfrm>
            <a:off x="476280" y="5364000"/>
            <a:ext cx="576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      Dengan ini saya faham dan mengaku tidak akan menuntut sebarang kerugian daripada Kerajaan yang mungkin timbul dari transaksi i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kian, terima kasi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a yang bena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a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K/P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4076640" y="179280"/>
            <a:ext cx="23767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MPIRAN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M-PUP06-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20640" y="1042920"/>
            <a:ext cx="518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GIAN PENDIDIKAN GURU/INSTITUT PENDIDIKAN GU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MENTERIAN PENDIDIKAN MALAY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197000" y="3203640"/>
            <a:ext cx="424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836640" y="1476360"/>
            <a:ext cx="518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NILAIAN PENCERAMAH / PENSYARAH SAMBI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04640" y="1835280"/>
          <a:ext cx="6048720" cy="1106280"/>
        </p:xfrm>
        <a:graphic>
          <a:graphicData uri="http://schemas.openxmlformats.org/drawingml/2006/table">
            <a:tbl>
              <a:tblPr/>
              <a:tblGrid>
                <a:gridCol w="3024360"/>
                <a:gridCol w="3024360"/>
              </a:tblGrid>
              <a:tr h="2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a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uk Ceramah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at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a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04640" y="3059280"/>
          <a:ext cx="6048720" cy="457200"/>
        </p:xfrm>
        <a:graphic>
          <a:graphicData uri="http://schemas.openxmlformats.org/drawingml/2006/table">
            <a:tbl>
              <a:tblPr/>
              <a:tblGrid>
                <a:gridCol w="1297080"/>
                <a:gridCol w="1511280"/>
                <a:gridCol w="936720"/>
                <a:gridCol w="2303640"/>
              </a:tblGrid>
              <a:tr h="231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ALA PENILAIAN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ah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erh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merla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68360" y="3635280"/>
          <a:ext cx="6056280" cy="1986120"/>
        </p:xfrm>
        <a:graphic>
          <a:graphicData uri="http://schemas.openxmlformats.org/drawingml/2006/table">
            <a:tbl>
              <a:tblPr/>
              <a:tblGrid>
                <a:gridCol w="368280"/>
                <a:gridCol w="2521080"/>
                <a:gridCol w="863280"/>
                <a:gridCol w="2303640"/>
              </a:tblGrid>
              <a:tr h="27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K PENILAI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TA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2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AS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ungan Cerama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yampaian jelas / fa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edah cerama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gunaan alat bantu yang sesu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ksi dengan peser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ediaan menerima cadangan / pandang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1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216"/>
          <p:cNvSpPr/>
          <p:nvPr/>
        </p:nvSpPr>
        <p:spPr>
          <a:xfrm>
            <a:off x="5661000" y="5724360"/>
            <a:ext cx="863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7"/>
          <p:cNvSpPr/>
          <p:nvPr/>
        </p:nvSpPr>
        <p:spPr>
          <a:xfrm>
            <a:off x="693720" y="579600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ata Penila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349360" y="5759280"/>
          <a:ext cx="1251000" cy="422280"/>
        </p:xfrm>
        <a:graphic>
          <a:graphicData uri="http://schemas.openxmlformats.org/drawingml/2006/table">
            <a:tbl>
              <a:tblPr/>
              <a:tblGrid>
                <a:gridCol w="1251000"/>
              </a:tblGrid>
              <a:tr h="206640">
                <a:tc>
                  <a:txBody>
                    <a:bodyPr lIns="90000" rIns="90000" tIns="91440" bIns="46800" anchor="t">
                      <a:noAutofit/>
                    </a:bodyPr>
                    <a:p>
                      <a:pPr algn="ctr" rtl="1">
                        <a:lnSpc>
                          <a:spcPct val="5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Prestasi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91440" bIns="46800" anchor="t">
                      <a:noAutofit/>
                    </a:bodyPr>
                    <a:p>
                      <a:pPr algn="ctr" rtl="1">
                        <a:lnSpc>
                          <a:spcPct val="5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.Aspek Penilai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243"/>
          <p:cNvSpPr/>
          <p:nvPr/>
        </p:nvSpPr>
        <p:spPr>
          <a:xfrm>
            <a:off x="333360" y="622764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lasan Keseluruhan / cadanga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4"/>
          <p:cNvSpPr/>
          <p:nvPr/>
        </p:nvSpPr>
        <p:spPr>
          <a:xfrm>
            <a:off x="333360" y="6948360"/>
            <a:ext cx="28814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ediakan ole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datanga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wata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5"/>
          <p:cNvSpPr/>
          <p:nvPr/>
        </p:nvSpPr>
        <p:spPr>
          <a:xfrm>
            <a:off x="3787920" y="6948360"/>
            <a:ext cx="2881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ahkan ole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datanga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wata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2"/>
          <p:cNvSpPr/>
          <p:nvPr/>
        </p:nvSpPr>
        <p:spPr>
          <a:xfrm>
            <a:off x="333360" y="8180280"/>
            <a:ext cx="54720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atatan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umusan Penilaian oleh Penyelaras / Pengelola berdasarkan penilaian oleh peser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3"/>
          <p:cNvSpPr/>
          <p:nvPr/>
        </p:nvSpPr>
        <p:spPr>
          <a:xfrm>
            <a:off x="189000" y="8899560"/>
            <a:ext cx="33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bruar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2:18:19Z</dcterms:created>
  <dc:creator>rizuan</dc:creator>
  <dc:description/>
  <dc:language>en-US</dc:language>
  <cp:lastModifiedBy>EndUser</cp:lastModifiedBy>
  <dcterms:modified xsi:type="dcterms:W3CDTF">2012-12-17T10:49:07Z</dcterms:modified>
  <cp:revision>120</cp:revision>
  <dc:subject/>
  <dc:title>Slide 1</dc:title>
</cp:coreProperties>
</file>