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Track3m53s01.wav" ContentType="audio/x-wav"/>
  <Override PartName="/ppt/media/image3.png" ContentType="image/png"/>
  <Override PartName="/ppt/media/image17.jpeg" ContentType="image/jpeg"/>
  <Override PartName="/ppt/media/image9.jpeg" ContentType="image/jpeg"/>
  <Override PartName="/ppt/media/image40.png" ContentType="image/pn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9.gif" ContentType="image/gif"/>
  <Override PartName="/ppt/media/image18.jpeg" ContentType="image/jpeg"/>
  <Override PartName="/ppt/media/image22.gif" ContentType="image/gif"/>
  <Override PartName="/ppt/media/image24.jpeg" ContentType="image/jpeg"/>
  <Override PartName="/ppt/media/image19.jpeg" ContentType="image/jpeg"/>
  <Override PartName="/ppt/media/image42.jpeg" ContentType="image/jpeg"/>
  <Override PartName="/ppt/media/image21.jpeg" ContentType="image/jpeg"/>
  <Override PartName="/ppt/media/image16.jpeg" ContentType="image/jpeg"/>
  <Override PartName="/ppt/media/image54.jpeg" ContentType="image/jpeg"/>
  <Override PartName="/ppt/media/image25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.gif" ContentType="image/gif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44.gif" ContentType="image/gif"/>
  <Override PartName="/ppt/media/image35.jpeg" ContentType="image/jpeg"/>
  <Override PartName="/ppt/media/image39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20.gif" ContentType="image/gif"/>
  <Override PartName="/ppt/media/image53.jpeg" ContentType="image/jpeg"/>
  <Override PartName="/ppt/media/image56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BD9-D7BA-44A0-B6D7-D7066E3E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F4B-41D3-4BA3-91E3-FA3217E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3920B-E208-4A95-AC38-537C24D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DD20B-0A75-4143-B6A5-776B389C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4363C-BB98-4BCF-B5B5-3105D606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343BD-3DA1-409D-81C8-C4BCA16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7871-AC7F-4580-8F42-B6EE30F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EAA8C-9966-465D-A708-5CFEE3F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65A75-638E-413D-9887-3003172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29F71-8700-4228-8C69-A064EC85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9B46A-94EF-4E75-A6E7-AD55D3A1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77972-5383-4F44-A393-4501716C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1BB-D0FD-4829-B5BD-CD81A328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620D-31B5-401F-B9D5-AFD4F4F5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E8CC0-1FCA-412B-96DF-BBE3A7E1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8071B-50B5-44D4-A65D-6F40149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FD727-032F-46B6-B938-B4ECEE17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4E1C0-8C0C-4E91-91B2-32037EF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B06D-87E2-4903-A699-67983C0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E1B6D-6DC2-49F3-97A0-597BD19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F2AA3-672B-45F3-9270-123FE4B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E904-B946-422A-9A4C-8B388A3B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F024F-03DF-4C70-8597-925E4D62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FA9-07F1-4D26-8234-B122686E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EBF69-C5BA-4760-BD33-4B353C1B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4969-4CB4-42E8-AECC-9AF126F2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73F3E-23A6-4218-80CA-2A5C68F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2DCB-EF72-41D7-B116-4EC4FA68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7990-F768-4301-A5DB-7898C6A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328E0-8A7E-4360-9B47-D074114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F575-2010-4975-92CD-31D5BD6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E14DD-5A99-4B58-B6FB-645636C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09EC-4804-4F7C-BAFC-05B33F6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CF932-6AF4-42F8-86E4-12A79E38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4BD0-59F3-43A5-A2E5-58DDE348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90D87-DA79-48B4-9D33-AD91775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0044F-9808-492C-9576-7510A4C8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1C78-8A96-4885-AD1F-DFA77CCB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42756-D5BD-43E5-AC54-DB2486B1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D8329-204D-4F16-9287-7617501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4C694-DDB1-4E44-8D1C-5490DAC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3B52-21FA-4C7D-86E0-266F647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67C37-E4EB-4CFF-B294-3EA3C39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7D4A4-C044-4879-9E58-68D73B5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657BF-B9AE-43B5-8760-5E3B877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75C-3B1B-4392-B6F3-DE3EAE8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C5F0F-3C79-42BB-ACF8-015FF1B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84E99-A17F-4718-8A48-7F02292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E0FCC-E4FD-44DB-97BE-F633739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29452-437A-4B54-897A-76E77981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92CB4-533D-4125-A108-F281B479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E17-2E4E-433D-BF29-2710AB8E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9ED8-5BE3-4F5B-96E5-67F6106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857E-7FAB-43C7-AF19-5FA6852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5034-B6CB-4B26-9389-700065C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C1A-0706-41A8-AB22-2A6BCA1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8AF-9693-4BD1-A6AE-BE19452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C89D-C947-42F0-897B-70C2431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DFA-F2B3-45E4-A523-81F894B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436-4C5A-4657-973F-27E8AB1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DCAD-3F88-436E-B9A5-1C064E4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7AE-B257-49ED-BFEA-8CA7F726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A661-5A82-4631-8080-EF461829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6077-8D28-48A2-B36C-3076169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C18A-7AC7-4E28-8D06-B51AA906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5A46-0F05-439F-B7EC-E8617753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80B0-4435-4E67-ADD2-7A67CD96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68F-9764-4DC5-8CA9-76300C0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A508-D158-45BC-9690-B403D84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4B2A-F909-454E-96B8-3ECFE64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D61A-1B82-4818-996E-FBFFE15B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18A0-ED9D-4065-8AFF-E707ABF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8CC3-0631-44C7-AE95-033E175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7D36-BB15-444D-802A-69685FA5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D3D6-8717-4F69-B56F-B40C80D3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FEEC-6A80-4165-944D-812EC073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E464-DA5B-4CE8-B701-E2A6764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1227-B3F9-429C-B42E-98F8F4C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24A-6B92-4EDD-8706-009552E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A83E6-3B49-4311-AFBD-12B8334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4794-6086-41B2-B958-53FF34BB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E614-5672-434E-9EB5-BEE62F5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11FE-E57B-463F-9A30-5F702C4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1A86-60E6-44BE-8B23-C700B30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BB03-2B35-4BDB-85EB-69C0FE1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56B4-B565-4538-A13E-F0E97D1B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C5E0-1988-4176-B874-B752E0D9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CD3C-F486-4122-B4A2-31617D0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58CA-EEA2-4EA2-B125-7D168FA2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737-95B5-4311-BD7B-9A195AE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EBCF-2A15-4245-8F1C-93B1AEA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5C8F-A73B-4B1C-B1A3-BDD93120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5F0D-9781-4A40-B960-566A3D97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A289-8614-4F42-8C0D-B53719AA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7844-29AF-4139-9A17-865A658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7BE5-B054-43AC-BFBF-D829A2F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6B340-E44B-4657-AFD6-0C88589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7CE2-1CC3-4284-95F4-034CC26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BD7D-88FA-4B0D-81AD-24F3510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9ADA-7855-42F0-8EBB-3E0D9E88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3E6-88F8-4C70-8A05-9CFC0B6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CA0F-DAC7-49BF-9E5B-64686650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95A8-6316-47AD-B72B-19BAD18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480D-A8A9-4A3B-87E8-7361387D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C18C-2B8F-49F1-8F13-6D8B5033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F0F17-5582-436F-AC91-6ECE09E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A20CD-5FB6-4C8F-8ED8-331327C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A474-2A6D-4998-BD65-C5A4193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263BF-ADA4-40DF-8F0D-D0BDC3D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F253-2FDC-42DF-98E3-E8B90DD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4CB9-4D1A-4C87-AFAD-8F6FCAF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EBB-1312-4D96-BA97-C14CFAD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C69F-86C2-492C-B5E7-AF3D575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3BD9-543B-4A43-80D5-272A3F54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9DA0-D4AB-4B71-8702-7A8672D1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016D0-6408-4916-B342-CF1BE2A1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2B0D3-741C-4D26-BC44-039DF87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76935-DA7A-4C9D-9D1A-E0254B9C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D3DE-04A0-4F67-B01F-E745496D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3899-A0DE-40D7-822F-A31706A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D320-93CA-4816-ADBD-A1889B1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C13B-22D2-451E-AC89-A83BB833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3F7-B8D6-4AF4-AD06-64A84B9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34D0-293C-4F4F-A8A8-4475C2D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39F3-B4FF-4216-9633-8AAA292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EF95-AA06-402C-B231-DF5A994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10435-E7E9-4949-BB33-9A8B1AF8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4082-4993-49F6-A048-6D233C40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2DA3-461C-4E1D-8180-0A609C49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A4ED5-90B2-4EAE-8907-93BD6B0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C3E8-13F6-4BAD-A8E6-7A75668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7216-93B0-40E2-98CC-E21F3DAA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1274-797B-4992-A92A-F75F3AA7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7AE-757D-407C-BE54-03DECC2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4DE1-5992-47A6-BE3D-2F47C90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C4792-A340-4AFB-B3BC-33FC146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A124F-24CB-4D6B-A0BB-BA4D49F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D4A2-CB05-48BE-862A-8E6C17C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589C-6F94-49B8-8CFD-C35FF73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839B-BE1D-40FC-AC0D-EB1070E7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2475-2977-4BE5-AF35-D64307F3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C99F9-4C2A-468E-9F0E-F357960D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07F79-2DD0-4D0D-A9AA-A2C00907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85D37-CB12-40EA-B6D8-22BAC23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5C8-5706-4AF2-9666-284CF511A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56C-48A6-4830-BDC4-FFFB7C169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0B5-FDFF-4013-96B9-BA359FF1B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4AA-0CE7-4B91-A3AE-CC405F7A9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761A-D941-4D84-91F9-BE9650D49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2104-5627-43B0-B7EA-30E573163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E8E1-DE74-4509-A2D2-C542A73FD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067-6B0F-461B-916A-AE13A8D1A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A517-4F0A-4080-8634-90FB75065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6E22-B7AB-40E8-AEF6-BC7E8CF9A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3A4-8C19-489E-8F1A-02E6C6655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42E-5AF5-496D-803F-4E40CE2B4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Track3m53s01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Afbeelding 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814560" cy="1023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  <p:sndAc>
      <p:stSnd>
        <p:snd r:embed="rId4" name="Track3m53s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Afbeelding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img15114sz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lus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Afbeelding 1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543640" cy="43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cumulus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7" descr="0ieluh4i"/>
          <p:cNvPicPr/>
          <p:nvPr/>
        </p:nvPicPr>
        <p:blipFill>
          <a:blip r:embed="rId2"/>
          <a:stretch/>
        </p:blipFill>
        <p:spPr>
          <a:xfrm>
            <a:off x="1116000" y="1268280"/>
            <a:ext cx="3527280" cy="4273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20060622-sarahkz1"/>
          <p:cNvPicPr/>
          <p:nvPr/>
        </p:nvPicPr>
        <p:blipFill>
          <a:blip r:embed="rId3"/>
          <a:stretch/>
        </p:blipFill>
        <p:spPr>
          <a:xfrm>
            <a:off x="4643280" y="1268280"/>
            <a:ext cx="3660840" cy="42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Afbeelding 2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p:transition advTm="4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aeitepzx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4680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1xi9zfkb"/>
          <p:cNvPicPr/>
          <p:nvPr/>
        </p:nvPicPr>
        <p:blipFill>
          <a:blip r:embed="rId2"/>
          <a:stretch/>
        </p:blipFill>
        <p:spPr>
          <a:xfrm>
            <a:off x="522360" y="549360"/>
            <a:ext cx="8082000" cy="5759280"/>
          </a:xfrm>
          <a:prstGeom prst="rect">
            <a:avLst/>
          </a:prstGeom>
          <a:ln w="0">
            <a:noFill/>
          </a:ln>
        </p:spPr>
      </p:pic>
      <p:pic>
        <p:nvPicPr>
          <p:cNvPr id="523" name="Afbeelding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Afbeelding 3" descr=""/>
          <p:cNvPicPr/>
          <p:nvPr/>
        </p:nvPicPr>
        <p:blipFill>
          <a:blip r:embed="rId2"/>
          <a:stretch/>
        </p:blipFill>
        <p:spPr>
          <a:xfrm>
            <a:off x="1262160" y="2567160"/>
            <a:ext cx="1011240" cy="1223640"/>
          </a:xfrm>
          <a:prstGeom prst="rect">
            <a:avLst/>
          </a:prstGeom>
          <a:ln w="0">
            <a:noFill/>
          </a:ln>
        </p:spPr>
      </p:pic>
      <p:pic>
        <p:nvPicPr>
          <p:cNvPr id="525" name="Afbeelding 4" descr=""/>
          <p:cNvPicPr/>
          <p:nvPr/>
        </p:nvPicPr>
        <p:blipFill>
          <a:blip r:embed="rId3"/>
          <a:stretch/>
        </p:blipFill>
        <p:spPr>
          <a:xfrm>
            <a:off x="2700360" y="234648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5" descr="34h9xgpp"/>
          <p:cNvPicPr/>
          <p:nvPr/>
        </p:nvPicPr>
        <p:blipFill>
          <a:blip r:embed="rId2"/>
          <a:stretch/>
        </p:blipFill>
        <p:spPr>
          <a:xfrm>
            <a:off x="755640" y="1125360"/>
            <a:ext cx="7524720" cy="460872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1195468755_harvestmoonblessingsba9"/>
          <p:cNvPicPr/>
          <p:nvPr/>
        </p:nvPicPr>
        <p:blipFill>
          <a:blip r:embed="rId2"/>
          <a:stretch/>
        </p:blipFill>
        <p:spPr>
          <a:xfrm>
            <a:off x="1295280" y="1114560"/>
            <a:ext cx="6553440" cy="462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6" descr="feu_chemine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mangeoi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Présentation1"/>
          <p:cNvPicPr/>
          <p:nvPr/>
        </p:nvPicPr>
        <p:blipFill>
          <a:blip r:embed="rId2"/>
          <a:srcRect l="19291" t="16415" r="25591" b="14304"/>
          <a:stretch/>
        </p:blipFill>
        <p:spPr>
          <a:xfrm>
            <a:off x="1763640" y="1125360"/>
            <a:ext cx="5040360" cy="4751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Présentation1"/>
          <p:cNvPicPr/>
          <p:nvPr/>
        </p:nvPicPr>
        <p:blipFill>
          <a:blip r:embed="rId3"/>
          <a:srcRect l="19291" t="16415" r="25591" b="14304"/>
          <a:stretch/>
        </p:blipFill>
        <p:spPr>
          <a:xfrm>
            <a:off x="1763640" y="1125360"/>
            <a:ext cx="5040360" cy="4751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Présentation1"/>
          <p:cNvPicPr/>
          <p:nvPr/>
        </p:nvPicPr>
        <p:blipFill>
          <a:blip r:embed="rId4"/>
          <a:srcRect l="19689" t="16415" r="25972" b="14304"/>
          <a:stretch/>
        </p:blipFill>
        <p:spPr>
          <a:xfrm>
            <a:off x="1763640" y="1125360"/>
            <a:ext cx="4969080" cy="4751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Présentation1"/>
          <p:cNvPicPr/>
          <p:nvPr/>
        </p:nvPicPr>
        <p:blipFill>
          <a:blip r:embed="rId5"/>
          <a:srcRect l="19291" t="16808" r="25591" b="13911"/>
          <a:stretch/>
        </p:blipFill>
        <p:spPr>
          <a:xfrm>
            <a:off x="1835280" y="1052640"/>
            <a:ext cx="50403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8" descr="5uftzv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homme-triste-de-dos-lar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f6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jardin-blanc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Feu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plus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Afbeelding 1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advTm="19000">
    <p:plus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8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Afbeelding 6" descr=""/>
          <p:cNvPicPr/>
          <p:nvPr/>
        </p:nvPicPr>
        <p:blipFill>
          <a:blip r:embed="rId2"/>
          <a:stretch/>
        </p:blipFill>
        <p:spPr>
          <a:xfrm>
            <a:off x="725400" y="79200"/>
            <a:ext cx="7296120" cy="6778800"/>
          </a:xfrm>
          <a:prstGeom prst="rect">
            <a:avLst/>
          </a:prstGeom>
          <a:ln w="0">
            <a:noFill/>
          </a:ln>
        </p:spPr>
      </p:pic>
      <p:pic>
        <p:nvPicPr>
          <p:cNvPr id="536" name="Afbeelding 2" descr=""/>
          <p:cNvPicPr/>
          <p:nvPr/>
        </p:nvPicPr>
        <p:blipFill>
          <a:blip r:embed="rId3"/>
          <a:stretch/>
        </p:blipFill>
        <p:spPr>
          <a:xfrm>
            <a:off x="5948280" y="907920"/>
            <a:ext cx="2766960" cy="493920"/>
          </a:xfrm>
          <a:prstGeom prst="rect">
            <a:avLst/>
          </a:prstGeom>
          <a:ln w="0">
            <a:noFill/>
          </a:ln>
        </p:spPr>
      </p:pic>
      <p:pic>
        <p:nvPicPr>
          <p:cNvPr id="537" name="Afbeelding 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539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5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cumul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louds-and-sun-4a71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12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catalpa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printemps-arbre-fleurs-gr1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habaud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598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arbres-enneiges"/>
          <p:cNvPicPr/>
          <p:nvPr/>
        </p:nvPicPr>
        <p:blipFill>
          <a:blip r:embed="rId5"/>
          <a:stretch/>
        </p:blipFill>
        <p:spPr>
          <a:xfrm>
            <a:off x="4572000" y="3500280"/>
            <a:ext cx="4572000" cy="3600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bahia-magdalena-pelicans"/>
          <p:cNvPicPr/>
          <p:nvPr/>
        </p:nvPicPr>
        <p:blipFill>
          <a:blip r:embed="rId6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1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x1pcjqddvowrnx4fghkce7ji0sp04y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76360" y="119700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x1ppUPyqopddk7I0ZNtDPVCjZ8F9_gGliCCkL6d_rcGh5grk8jF-9n5u2KhDagnF3GFndqgJE2mw0UXd_t9LUVZSof3ZAjC1kADWXAsGsj1cfvpGCtpD-WHvaxUFv2AvonlNn8RpHGXYPFIGxk6rnXwZA"/>
          <p:cNvPicPr/>
          <p:nvPr/>
        </p:nvPicPr>
        <p:blipFill>
          <a:blip r:embed="rId2"/>
          <a:stretch/>
        </p:blipFill>
        <p:spPr>
          <a:xfrm>
            <a:off x="1476360" y="1125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Afbeelding 1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3384360" cy="287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conc-GillesLebrun62-2400m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6" presetSubtype="32">
                                  <p:stCondLst>
                                    <p:cond delay="2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4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20:56:31Z</dcterms:created>
  <dc:creator>de liefde</dc:creator>
  <dc:description/>
  <dc:language>en-US</dc:language>
  <cp:lastModifiedBy>Smets</cp:lastModifiedBy>
  <dcterms:modified xsi:type="dcterms:W3CDTF">2012-07-14T04:30:48Z</dcterms:modified>
  <cp:revision>37</cp:revision>
  <dc:subject/>
  <dc:title>pps</dc:title>
</cp:coreProperties>
</file>