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43.jpeg" ContentType="image/jpeg"/>
  <Override PartName="/ppt/media/Track3m53s01.wav" ContentType="audio/x-wav"/>
  <Override PartName="/ppt/media/image3.png" ContentType="image/png"/>
  <Override PartName="/ppt/media/image17.jpeg" ContentType="image/jpeg"/>
  <Override PartName="/ppt/media/image9.jpeg" ContentType="image/jpeg"/>
  <Override PartName="/ppt/media/image40.png" ContentType="image/png"/>
  <Override PartName="/ppt/media/image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59.gif" ContentType="image/gif"/>
  <Override PartName="/ppt/media/image18.jpeg" ContentType="image/jpeg"/>
  <Override PartName="/ppt/media/image22.gif" ContentType="image/gif"/>
  <Override PartName="/ppt/media/image24.jpeg" ContentType="image/jpeg"/>
  <Override PartName="/ppt/media/image19.jpeg" ContentType="image/jpeg"/>
  <Override PartName="/ppt/media/image42.jpeg" ContentType="image/jpeg"/>
  <Override PartName="/ppt/media/image21.jpeg" ContentType="image/jpeg"/>
  <Override PartName="/ppt/media/image16.jpeg" ContentType="image/jpeg"/>
  <Override PartName="/ppt/media/image54.jpeg" ContentType="image/jpeg"/>
  <Override PartName="/ppt/media/image25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.gif" ContentType="image/gif"/>
  <Override PartName="/ppt/media/image7.jpeg" ContentType="image/jpeg"/>
  <Override PartName="/ppt/media/image38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7.png" ContentType="image/png"/>
  <Override PartName="/ppt/media/image44.gif" ContentType="image/gif"/>
  <Override PartName="/ppt/media/image35.jpeg" ContentType="image/jpeg"/>
  <Override PartName="/ppt/media/image39.png" ContentType="image/png"/>
  <Override PartName="/ppt/media/image45.jpeg" ContentType="image/jpeg"/>
  <Override PartName="/ppt/media/image55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20.gif" ContentType="image/gif"/>
  <Override PartName="/ppt/media/image53.jpeg" ContentType="image/jpeg"/>
  <Override PartName="/ppt/media/image56.png" ContentType="image/png"/>
  <Override PartName="/ppt/media/image60.gif" ContentType="image/gif"/>
  <Override PartName="/ppt/media/image5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ACB9-1142-4149-BCBF-6880B21D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B75C-C842-45CB-A83B-49A46707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CCF2F-EE20-47A3-A2A7-89E43232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5FC18-914E-4B54-932F-E3B17736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69842-3843-4637-980B-9028CFB8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69DFE-70DC-47E5-8BB4-B46C1535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FABF0-FDB9-40D8-B9A2-AE17F58A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F9154-94CB-48FB-8C8D-BA08355C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9DEA0-F90A-470D-856B-210C2082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80026-CD42-4B47-A990-A1E4F378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F2ACF-E0B2-4E0A-AA2B-0063552F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052D5-CCA9-44E5-BF3D-5AC9489A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BAEC-29D4-4491-9F92-A41FC942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6208F-5EE0-41D8-93DC-8375D477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EEB07-5483-42B1-A88E-C0F86ED2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BCF2F-1C5A-4029-AAF1-7A3318F3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7AC1B-54D0-4A92-A848-669D8508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0CC82-6208-4E9F-B1C0-ABA60487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6A973-9F64-4797-832C-04D92CFD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366E3-F852-455C-9A4F-0D347181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4728D-D553-4434-8364-01DDFD77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341E5-31B7-44BE-916D-7AEA359E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93E87-AD20-4B62-ABEF-D3F02D7C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D187-7D29-4B43-B9A3-4A180B2A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AFF65-924E-4DF8-9532-F76D34CD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9B054-D783-48DD-84F6-4C99E18B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42AAD-ABD6-4F14-854D-8B4A427C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9D0C9-F1E7-4393-B3B1-E9D793E5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F74CA-2A05-4421-8739-B3035883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FB9A1-808D-42B1-BA06-6FE746E5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E7001-3A24-484A-A04F-A516A8BB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25048-FE53-47BC-87DF-968AA807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97BE5-792F-4A2F-9A60-5316E87A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DCF0D-D894-4913-A0A5-654DB52A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1A46-66A2-4714-B804-D66BE4A5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216A2-0083-4EBB-A1CE-6EF461C8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B483C-C44B-4A7F-9F08-C36E73A7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FB458-9E66-425C-95BD-6DD322C8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6AD73-D31C-4E0E-BEA2-6FAF2FE6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102C4-AD7D-4528-9FF4-444AF851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23A94-8419-4CE9-9AE0-1C987858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04127-E709-482A-A41B-9E1EF0FB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4D6DF2-9743-49CC-9AC6-55FD46E8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6242D-3BD9-457B-AE30-D772CF4C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9C070-31B5-4B4F-A4CD-2C1A49A1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095B-50F4-4539-B801-F5E4A138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8D9B4-548B-45E5-9374-F02DB42F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0039F-1603-46E2-8283-7CA030B8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AE839-2EC1-497E-A243-46479BFF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E7AF7-5554-4558-87BE-66CF0190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6F00B-2B42-43D3-A296-22BD8E93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7FD4-FC1B-4F41-BF3E-9830747D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C9B8-E892-43A7-82CF-3E4F5FBB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83FB-EA67-425B-8529-76B0682A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C224-2F53-4F73-8EA5-CDFB44E0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2B19-82D1-4A72-9447-7FEE43D9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2656-3F02-49CD-8FE5-F93B2EB1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04F7-5300-4793-9550-497A9606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F8FB-3EFB-4D48-B9AC-3F1A4855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AED6-F643-48BC-883F-418142F6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738E-7A28-46F4-812A-F9A92571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6539-936B-411A-B841-BBB08924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FDCCB-B6C8-4D91-92B2-4F135A3E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C74B3-0C85-4115-A6AE-D52F6F78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A2101-426A-4C85-A7D9-1981E5EC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7F990-3444-4746-9EAB-9593D7FB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A4E58-7EC8-4F92-BAFA-078BE082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6779-BA4A-4168-AF9D-E099BB02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31359-41C8-4B3A-B09A-EFD8DB80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30171-B9E3-423C-880F-43861079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B8344-1899-4A28-B206-74430C15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B4B41-03CD-4E12-9BF3-92B2E00D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0EF98-9BEE-4DE5-9FFB-6F9C1BB9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C9F7A-DE4F-419D-8997-6F2AF149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76752-5802-4272-9923-0FE1300D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69088-62BE-4884-8C4B-04CD2100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B7C87-7872-4B28-BB6E-AF6B122B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82AF3-8312-4C8B-92F5-660522EA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E721-4A62-43C4-93ED-4DD7850D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0FDC0-A7A1-4949-9DAD-194F5D02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EC395-E0F2-48C3-9DBA-483FDFEB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7C498-410A-475A-8131-E2D05623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BAD92-214C-431E-8229-0E59F883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2DBAB-64FF-40DC-BF94-E2701B2D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FD995-8768-41C9-ACCB-1DD8927F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C6D9C-48A1-45E2-8A9C-C8BF6C91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791F9-827A-4587-8041-A4A5F700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8D3ED-1CF8-4298-9832-130A12FD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06C6B-A38C-43A6-B5F8-699C5670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830B-DFFF-45D7-86AF-2F74EF92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9EEB0-AB24-4838-90DA-A684C270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E0C9C-48D9-42EC-A206-C25EB193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D3BA2-F159-4F99-A882-08F03497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B027F-7147-40E0-AC85-9D842524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BFC00-E7E3-4486-B27A-BAAB740B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BEC4A-0378-4CEB-956D-E3AEF135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BCCE7-6350-4AE5-A280-E85DA91E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9CCAD-894E-4EAC-A343-411DD853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4C4FE-65EC-4B1F-B702-4EF46330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673B0-D54B-46A2-9820-67A029A3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0A4D-F4D9-4077-BF35-BE9E58C0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5EE41-CD8E-4FB7-A537-5A7C5785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2CE63-EC3F-465A-A1A3-9D1E9D08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690F8-BDF3-4871-8748-584D5362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CCAD8-9E3B-4921-98CB-5777AF8F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063AD-10C7-4745-BFE9-A451FBBD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46260-9B25-4A80-8D48-1D251F94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FC3D4-83DE-4E2E-8676-1054002A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D95A1-C6DB-4380-89E0-A23D6DBD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F4D64-68A7-4F0D-9F10-F21E56BD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4FE6B-6493-4B94-873F-33E07A26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92C9-8A5C-4E9B-B37B-87201637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E41CC-CA72-4D3D-BE1E-C2F2EFBB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F5D8E-F577-4783-9F0B-A0A87296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A3148-1722-4D8A-9443-C997F32E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6AED0-8CD0-4F13-A063-B3C277CC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A3A2D-D3D4-4143-A029-550F81D7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983C9-4368-4746-8AD0-FF0C2748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1CCA2-1CC2-4462-810F-D5AD0911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8F066-38FC-4BA8-B59B-44F09E95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F04FE-8C5A-408C-A27B-784094DA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23CA4-B071-4A36-B009-B1229C30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7C74-A93F-4061-94CD-D83E11E2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D25B3-48BC-4F11-B1CF-E974B481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F9F59-A1A1-41EE-BE1B-B9D15A16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B9593-7B32-403A-8170-7C54884C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44EDB-3E92-4109-A836-2CC7E0BD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22593-9AF6-4A75-8F77-E5A46CBA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781E8-0636-4AB8-8D66-39A9A2C0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57145-7969-4753-ACA6-4077D31E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E5DC2-3EE6-419B-AE83-C78B2062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1DE8D-19DA-4931-BC21-F1B55EAB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75EBC-F112-461D-A0E3-56AF51E2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5F4D-C418-4260-85BB-2FEEB2E8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2B8C9-FBD7-4295-A947-F9C77B42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6B781-60A9-4BE5-8CA6-8F06E571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27409-4B9E-4B20-BF26-19141416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B4F15-68FF-4069-A3DF-87037A3B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BF43E-E550-4BC8-8E6D-6267611B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239EE-E487-4CD9-9A8D-103C22DE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707C0-98AC-4F83-BE29-10894466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A7B5E-BF8C-4970-92CF-D0342633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85AAC-0872-41C3-8E95-B017EB16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B24ED-078B-4964-980D-73695C69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C3B9-A2EB-4FEB-AE4D-36BA4DEE7E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D2A5-977D-4226-A179-FC249429B9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B131-F577-4D5A-831D-1990F2417D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2BDE-CE8D-4C55-8FC1-279C0DE4C8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C888-EBA3-440C-929C-841B57408F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EC8C-197A-46BB-A3A6-FE0AD63AF0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D951-120A-4D2D-A7FC-46CF3CEF18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E569-F13A-46D6-B7A7-061BEBC6AA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1AFB-B1A0-4D97-9784-6BA051845E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5275-4EB7-4630-99B3-C4054613F3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10F0-9BD2-4EA3-B2D0-D67A240E62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5292-71E2-44F2-B7EF-7F6731C583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Track3m53s01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jpeg"/><Relationship Id="rId5" Type="http://schemas.openxmlformats.org/officeDocument/2006/relationships/image" Target="../media/image58.png"/><Relationship Id="rId6" Type="http://schemas.openxmlformats.org/officeDocument/2006/relationships/image" Target="../media/image59.gif"/><Relationship Id="rId7" Type="http://schemas.openxmlformats.org/officeDocument/2006/relationships/image" Target="../media/image59.gif"/><Relationship Id="rId8" Type="http://schemas.openxmlformats.org/officeDocument/2006/relationships/image" Target="../media/image60.gif"/><Relationship Id="rId9" Type="http://schemas.openxmlformats.org/officeDocument/2006/relationships/image" Target="../media/image60.gif"/><Relationship Id="rId10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3" name="Afbeelding 1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3814560" cy="10238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  <p:sndAc>
      <p:stSnd>
        <p:snd r:embed="rId4" name="Track3m53s0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6" presetSubtype="21">
                                  <p:stCondLst>
                                    <p:cond delay="150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" dur="5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Afbeelding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6" descr="img15114sz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lus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1" dur="5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Afbeelding 1" descr=""/>
          <p:cNvPicPr/>
          <p:nvPr/>
        </p:nvPicPr>
        <p:blipFill>
          <a:blip r:embed="rId2"/>
          <a:stretch/>
        </p:blipFill>
        <p:spPr>
          <a:xfrm>
            <a:off x="1908000" y="1413000"/>
            <a:ext cx="5543640" cy="43923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cumulus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7" descr="0ieluh4i"/>
          <p:cNvPicPr/>
          <p:nvPr/>
        </p:nvPicPr>
        <p:blipFill>
          <a:blip r:embed="rId2"/>
          <a:stretch/>
        </p:blipFill>
        <p:spPr>
          <a:xfrm>
            <a:off x="1116000" y="1268280"/>
            <a:ext cx="3527280" cy="42735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9" descr="20060622-sarahkz1"/>
          <p:cNvPicPr/>
          <p:nvPr/>
        </p:nvPicPr>
        <p:blipFill>
          <a:blip r:embed="rId3"/>
          <a:stretch/>
        </p:blipFill>
        <p:spPr>
          <a:xfrm>
            <a:off x="4643280" y="1268280"/>
            <a:ext cx="3660840" cy="427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6" dur="5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9" dur="5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Afbeelding 2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8136000" cy="5832360"/>
          </a:xfrm>
          <a:prstGeom prst="rect">
            <a:avLst/>
          </a:prstGeom>
          <a:ln w="0">
            <a:noFill/>
          </a:ln>
        </p:spPr>
      </p:pic>
    </p:spTree>
  </p:cSld>
  <p:transition advTm="4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5" descr="aeitepzx"/>
          <p:cNvPicPr/>
          <p:nvPr/>
        </p:nvPicPr>
        <p:blipFill>
          <a:blip r:embed="rId2"/>
          <a:stretch/>
        </p:blipFill>
        <p:spPr>
          <a:xfrm>
            <a:off x="1476360" y="1125360"/>
            <a:ext cx="6191280" cy="4680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plus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5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5" descr="1xi9zfkb"/>
          <p:cNvPicPr/>
          <p:nvPr/>
        </p:nvPicPr>
        <p:blipFill>
          <a:blip r:embed="rId2"/>
          <a:stretch/>
        </p:blipFill>
        <p:spPr>
          <a:xfrm>
            <a:off x="522360" y="549360"/>
            <a:ext cx="8082000" cy="5759280"/>
          </a:xfrm>
          <a:prstGeom prst="rect">
            <a:avLst/>
          </a:prstGeom>
          <a:ln w="0">
            <a:noFill/>
          </a:ln>
        </p:spPr>
      </p:pic>
      <p:pic>
        <p:nvPicPr>
          <p:cNvPr id="523" name="Afbeelding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ull dir="l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2000" fill="hold"/>
                                        <p:tgtEl>
                                          <p:spTgt spid="5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Afbeelding 3" descr=""/>
          <p:cNvPicPr/>
          <p:nvPr/>
        </p:nvPicPr>
        <p:blipFill>
          <a:blip r:embed="rId2"/>
          <a:stretch/>
        </p:blipFill>
        <p:spPr>
          <a:xfrm>
            <a:off x="1262160" y="2567160"/>
            <a:ext cx="1011240" cy="1223640"/>
          </a:xfrm>
          <a:prstGeom prst="rect">
            <a:avLst/>
          </a:prstGeom>
          <a:ln w="0">
            <a:noFill/>
          </a:ln>
        </p:spPr>
      </p:pic>
      <p:pic>
        <p:nvPicPr>
          <p:cNvPr id="525" name="Afbeelding 4" descr=""/>
          <p:cNvPicPr/>
          <p:nvPr/>
        </p:nvPicPr>
        <p:blipFill>
          <a:blip r:embed="rId3"/>
          <a:stretch/>
        </p:blipFill>
        <p:spPr>
          <a:xfrm>
            <a:off x="2700360" y="2346480"/>
            <a:ext cx="987480" cy="1152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5" descr="34h9xgpp"/>
          <p:cNvPicPr/>
          <p:nvPr/>
        </p:nvPicPr>
        <p:blipFill>
          <a:blip r:embed="rId2"/>
          <a:stretch/>
        </p:blipFill>
        <p:spPr>
          <a:xfrm>
            <a:off x="755640" y="1125360"/>
            <a:ext cx="7524720" cy="4608720"/>
          </a:xfrm>
          <a:prstGeom prst="rect">
            <a:avLst/>
          </a:prstGeom>
          <a:ln w="0">
            <a:noFill/>
          </a:ln>
        </p:spPr>
      </p:pic>
    </p:spTree>
  </p:cSld>
  <p:transition advTm="6000">
    <p:randomBar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4" descr="1195468755_harvestmoonblessingsba9"/>
          <p:cNvPicPr/>
          <p:nvPr/>
        </p:nvPicPr>
        <p:blipFill>
          <a:blip r:embed="rId2"/>
          <a:stretch/>
        </p:blipFill>
        <p:spPr>
          <a:xfrm>
            <a:off x="1295280" y="1114560"/>
            <a:ext cx="6553440" cy="4628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7" dur="2000" fill="hold"/>
                                        <p:tgtEl>
                                          <p:spTgt spid="5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6" descr="feu_chemine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ircl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4" descr="mangeoi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Présentation1"/>
          <p:cNvPicPr/>
          <p:nvPr/>
        </p:nvPicPr>
        <p:blipFill>
          <a:blip r:embed="rId2"/>
          <a:srcRect l="19291" t="16415" r="25591" b="14304"/>
          <a:stretch/>
        </p:blipFill>
        <p:spPr>
          <a:xfrm>
            <a:off x="1763640" y="1125360"/>
            <a:ext cx="5040360" cy="47516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Présentation1"/>
          <p:cNvPicPr/>
          <p:nvPr/>
        </p:nvPicPr>
        <p:blipFill>
          <a:blip r:embed="rId3"/>
          <a:srcRect l="19291" t="16415" r="25591" b="14304"/>
          <a:stretch/>
        </p:blipFill>
        <p:spPr>
          <a:xfrm>
            <a:off x="1763640" y="1125360"/>
            <a:ext cx="5040360" cy="47516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7" descr="Présentation1"/>
          <p:cNvPicPr/>
          <p:nvPr/>
        </p:nvPicPr>
        <p:blipFill>
          <a:blip r:embed="rId4"/>
          <a:srcRect l="19689" t="16415" r="25972" b="14304"/>
          <a:stretch/>
        </p:blipFill>
        <p:spPr>
          <a:xfrm>
            <a:off x="1763640" y="1125360"/>
            <a:ext cx="4969080" cy="47516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8" descr="Présentation1"/>
          <p:cNvPicPr/>
          <p:nvPr/>
        </p:nvPicPr>
        <p:blipFill>
          <a:blip r:embed="rId5"/>
          <a:srcRect l="19291" t="16808" r="25591" b="13911"/>
          <a:stretch/>
        </p:blipFill>
        <p:spPr>
          <a:xfrm>
            <a:off x="1835280" y="1052640"/>
            <a:ext cx="50403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8" descr="5uftzvm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9" descr="homme-triste-de-dos-larg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0" descr="f67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3" descr="jardin-blanc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4" descr="Feu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4000">
    <p:plus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2500" autoRev="1" fill="hold"/>
                                        <p:tgtEl>
                                          <p:spTgt spid="5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" nodeType="afterEffect" fill="hold" presetClass="entr" presetID="2" presetSubtype="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Afbeelding 1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p:transition advTm="19000">
    <p:plus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xit" presetID="16" presetSubtype="21">
                                  <p:stCondLst>
                                    <p:cond delay="300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88" dur="5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Afbeelding 6" descr=""/>
          <p:cNvPicPr/>
          <p:nvPr/>
        </p:nvPicPr>
        <p:blipFill>
          <a:blip r:embed="rId2"/>
          <a:stretch/>
        </p:blipFill>
        <p:spPr>
          <a:xfrm>
            <a:off x="725400" y="79200"/>
            <a:ext cx="7296120" cy="6778800"/>
          </a:xfrm>
          <a:prstGeom prst="rect">
            <a:avLst/>
          </a:prstGeom>
          <a:ln w="0">
            <a:noFill/>
          </a:ln>
        </p:spPr>
      </p:pic>
      <p:pic>
        <p:nvPicPr>
          <p:cNvPr id="536" name="Afbeelding 2" descr=""/>
          <p:cNvPicPr/>
          <p:nvPr/>
        </p:nvPicPr>
        <p:blipFill>
          <a:blip r:embed="rId3"/>
          <a:stretch/>
        </p:blipFill>
        <p:spPr>
          <a:xfrm>
            <a:off x="5948280" y="907920"/>
            <a:ext cx="2766960" cy="493920"/>
          </a:xfrm>
          <a:prstGeom prst="rect">
            <a:avLst/>
          </a:prstGeom>
          <a:ln w="0">
            <a:noFill/>
          </a:ln>
        </p:spPr>
      </p:pic>
      <p:pic>
        <p:nvPicPr>
          <p:cNvPr id="537" name="Afbeelding 1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8" name=""/>
          <p:cNvGrpSpPr/>
          <p:nvPr/>
        </p:nvGrpSpPr>
        <p:grpSpPr>
          <a:xfrm>
            <a:off x="1403280" y="5921280"/>
            <a:ext cx="6337440" cy="936720"/>
            <a:chOff x="1403280" y="5921280"/>
            <a:chExt cx="6337440" cy="936720"/>
          </a:xfrm>
        </p:grpSpPr>
        <p:sp>
          <p:nvSpPr>
            <p:cNvPr id="539" name=""/>
            <p:cNvSpPr/>
            <p:nvPr/>
          </p:nvSpPr>
          <p:spPr>
            <a:xfrm>
              <a:off x="1403280" y="5921280"/>
              <a:ext cx="6337440" cy="936720"/>
            </a:xfrm>
            <a:prstGeom prst="octagon">
              <a:avLst>
                <a:gd name="adj" fmla="val 29287"/>
              </a:avLst>
            </a:prstGeom>
            <a:blipFill rotWithShape="0">
              <a:blip r:embed="rId5">
                <a:alphaModFix amt="48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 txBox="1"/>
            <p:nvPr/>
          </p:nvSpPr>
          <p:spPr>
            <a:xfrm>
              <a:off x="2556000" y="6308640"/>
              <a:ext cx="4533840" cy="343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blipFill rotWithShape="0">
                    <a:blip r:embed="rId6"/>
                    <a:srcRect/>
                    <a:stretch/>
                  </a:blipFill>
                  <a:latin typeface="Poor Richard"/>
                </a:rPr>
                <a:t>www.free-powerpoints.goedbegin.be</a:t>
              </a:r>
              <a:endParaRPr b="1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Poor Richard"/>
                <a:ea typeface="Poor Richard"/>
              </a:endParaRPr>
            </a:p>
          </p:txBody>
        </p:sp>
        <p:sp>
          <p:nvSpPr>
            <p:cNvPr id="541" name=""/>
            <p:cNvSpPr txBox="1"/>
            <p:nvPr/>
          </p:nvSpPr>
          <p:spPr>
            <a:xfrm>
              <a:off x="1692360" y="6093000"/>
              <a:ext cx="5952960" cy="199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stretch/>
                  </a:blipFill>
                  <a:latin typeface="Bookman Old Style"/>
                </a:rPr>
                <a:t>voor meer dan 2500 Powerpoints, click op onderstaande hyperlink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Bookman Old Style"/>
                <a:ea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5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4" descr="cumulu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" descr="clouds-and-sun-4a71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7" descr="124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Afbeelding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4" descr="catalpa"/>
          <p:cNvPicPr/>
          <p:nvPr/>
        </p:nvPicPr>
        <p:blipFill>
          <a:blip r:embed="rId2"/>
          <a:stretch/>
        </p:blipFill>
        <p:spPr>
          <a:xfrm>
            <a:off x="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" descr="printemps-arbre-fleurs-gr1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6" descr="chabaud"/>
          <p:cNvPicPr/>
          <p:nvPr/>
        </p:nvPicPr>
        <p:blipFill>
          <a:blip r:embed="rId4"/>
          <a:stretch/>
        </p:blipFill>
        <p:spPr>
          <a:xfrm>
            <a:off x="0" y="3500280"/>
            <a:ext cx="4572000" cy="35989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" descr="arbres-enneiges"/>
          <p:cNvPicPr/>
          <p:nvPr/>
        </p:nvPicPr>
        <p:blipFill>
          <a:blip r:embed="rId5"/>
          <a:stretch/>
        </p:blipFill>
        <p:spPr>
          <a:xfrm>
            <a:off x="4572000" y="3500280"/>
            <a:ext cx="4572000" cy="36007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9" descr="bahia-magdalena-pelicans"/>
          <p:cNvPicPr/>
          <p:nvPr/>
        </p:nvPicPr>
        <p:blipFill>
          <a:blip r:embed="rId6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plus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xit" presetID="2" presetSubtype="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" presetSubtype="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2" presetSubtype="1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" presetSubtype="6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ntr" presetID="2" presetSubtype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5" descr="x1pcjqddvowrnx4fghkce7ji0sp04y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476360" y="1197000"/>
            <a:ext cx="6264360" cy="4537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5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4" descr="x1ppUPyqopddk7I0ZNtDPVCjZ8F9_gGliCCkL6d_rcGh5grk8jF-9n5u2KhDagnF3GFndqgJE2mw0UXd_t9LUVZSof3ZAjC1kADWXAsGsj1cfvpGCtpD-WHvaxUFv2AvonlNn8RpHGXYPFIGxk6rnXwZA"/>
          <p:cNvPicPr/>
          <p:nvPr/>
        </p:nvPicPr>
        <p:blipFill>
          <a:blip r:embed="rId2"/>
          <a:stretch/>
        </p:blipFill>
        <p:spPr>
          <a:xfrm>
            <a:off x="1476360" y="1125360"/>
            <a:ext cx="6264360" cy="4680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5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Afbeelding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2" name="Afbeelding 1" descr=""/>
          <p:cNvPicPr/>
          <p:nvPr/>
        </p:nvPicPr>
        <p:blipFill>
          <a:blip r:embed="rId3"/>
          <a:stretch/>
        </p:blipFill>
        <p:spPr>
          <a:xfrm>
            <a:off x="2843280" y="1844640"/>
            <a:ext cx="3384360" cy="2870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5" descr="conc-GillesLebrun62-2400m2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xit" presetID="6" presetSubtype="32">
                                  <p:stCondLst>
                                    <p:cond delay="25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94" dur="5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8T20:56:31Z</dcterms:created>
  <dc:creator>de liefde</dc:creator>
  <dc:description/>
  <dc:language>en-US</dc:language>
  <cp:lastModifiedBy>Smets</cp:lastModifiedBy>
  <dcterms:modified xsi:type="dcterms:W3CDTF">2012-07-14T04:30:48Z</dcterms:modified>
  <cp:revision>37</cp:revision>
  <dc:subject/>
  <dc:title>pps</dc:title>
</cp:coreProperties>
</file>