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F5E9D-1F01-4A36-9A95-1FC8A5B86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219320" y="1055520"/>
            <a:ext cx="77724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1219320" y="3569040"/>
            <a:ext cx="77724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232C4-FFB3-44E7-8BD6-507696CF4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19320" y="1055520"/>
            <a:ext cx="37926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202000" y="1055520"/>
            <a:ext cx="37926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1219320" y="3569040"/>
            <a:ext cx="37926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5202000" y="3569040"/>
            <a:ext cx="37926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882B2-838B-463E-B57E-2BB5430E2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19320" y="1055520"/>
            <a:ext cx="250236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847320" y="1055520"/>
            <a:ext cx="250236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474960" y="1055520"/>
            <a:ext cx="250236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1219320" y="3569040"/>
            <a:ext cx="250236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847320" y="3569040"/>
            <a:ext cx="250236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6474960" y="3569040"/>
            <a:ext cx="250236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6C525-8ACA-42A4-90FC-C3A76B391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46FFC-D316-46B0-B238-C73D1EF56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219320" y="1055520"/>
            <a:ext cx="77724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EDE0F-CC2B-4876-9B99-01C463958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055520"/>
            <a:ext cx="77724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8DF3D-A244-40FF-8CD4-0AC4FD118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19320" y="1055520"/>
            <a:ext cx="37926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202000" y="1055520"/>
            <a:ext cx="37926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11A3E-4D0D-47F5-94EE-7BC66AA95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8515F-FF40-4C81-9662-1612E4296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1219320" y="-360"/>
            <a:ext cx="7772400" cy="354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0CCCC-B79E-465B-9BAB-269F61136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19320" y="1055520"/>
            <a:ext cx="37926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202000" y="1055520"/>
            <a:ext cx="37926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219320" y="3569040"/>
            <a:ext cx="37926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CE695-D93E-4BB6-AB3A-58BDB3B3F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1219320" y="1055520"/>
            <a:ext cx="77724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7E7A1-BCDF-43C4-AA85-36FD5FB16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1055520"/>
            <a:ext cx="37926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202000" y="1055520"/>
            <a:ext cx="37926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202000" y="3569040"/>
            <a:ext cx="37926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1B5D2-2F8E-428F-8A66-68ED26CBC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19320" y="1055520"/>
            <a:ext cx="37926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202000" y="1055520"/>
            <a:ext cx="37926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1219320" y="3569040"/>
            <a:ext cx="77724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6D012-5131-49E4-9360-89DA355B0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055520"/>
            <a:ext cx="77724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1219320" y="3569040"/>
            <a:ext cx="77724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874A2-D08E-45B9-BFBA-981AC61BA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055520"/>
            <a:ext cx="37926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202000" y="1055520"/>
            <a:ext cx="37926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1219320" y="3569040"/>
            <a:ext cx="37926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5202000" y="3569040"/>
            <a:ext cx="37926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576D3-3C88-4D77-952E-952E4C95C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055520"/>
            <a:ext cx="250236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847320" y="1055520"/>
            <a:ext cx="250236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474960" y="1055520"/>
            <a:ext cx="250236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1219320" y="3569040"/>
            <a:ext cx="250236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847320" y="3569040"/>
            <a:ext cx="250236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474960" y="3569040"/>
            <a:ext cx="250236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90799-DFDB-42E7-8EAA-660E8DE20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19320" y="1055520"/>
            <a:ext cx="77724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176C1-5057-4F47-B270-F3B5F5D5E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055520"/>
            <a:ext cx="37926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02000" y="1055520"/>
            <a:ext cx="37926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8111F-1DC2-4A36-94F8-EE935A891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5B002-FD23-488F-B8CB-D39CA1941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1219320" y="-360"/>
            <a:ext cx="7772400" cy="354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325B1-8320-4162-A444-D852359D3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19320" y="1055520"/>
            <a:ext cx="37926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202000" y="1055520"/>
            <a:ext cx="37926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219320" y="3569040"/>
            <a:ext cx="37926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38534-56B0-45A5-89EA-5191277C9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19320" y="1055520"/>
            <a:ext cx="37926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202000" y="1055520"/>
            <a:ext cx="37926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202000" y="3569040"/>
            <a:ext cx="37926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BECD9-5135-4F54-8F3F-F32FBAFF0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219320" y="1055520"/>
            <a:ext cx="37926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202000" y="1055520"/>
            <a:ext cx="37926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219320" y="3569040"/>
            <a:ext cx="77724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D798D-BD8D-4583-9C15-A053ECB2F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5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765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1932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Rounded MT Bold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19320" y="1055520"/>
            <a:ext cx="77724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ccffff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spcBef>
                <a:spcPts val="901"/>
              </a:spcBef>
              <a:buClr>
                <a:srgbClr val="cc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901"/>
              </a:spcBef>
              <a:buClr>
                <a:srgbClr val="ffffff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901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901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901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63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2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 Narrow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D756F-10A0-4328-9EDF-A4C37A53BD28}" type="slidenum">
              <a:rPr b="0" lang="ar-SA" sz="1400" spc="-1" strike="noStrike">
                <a:solidFill>
                  <a:srgbClr val="ffffff"/>
                </a:solidFill>
                <a:latin typeface="Arial Narrow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51920" y="313920"/>
            <a:ext cx="848160" cy="6543720"/>
            <a:chOff x="151920" y="313920"/>
            <a:chExt cx="848160" cy="6543720"/>
          </a:xfrm>
        </p:grpSpPr>
        <p:sp>
          <p:nvSpPr>
            <p:cNvPr id="6" name=""/>
            <p:cNvSpPr/>
            <p:nvPr/>
          </p:nvSpPr>
          <p:spPr>
            <a:xfrm flipH="1" rot="5400000">
              <a:off x="129240" y="31658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 flipH="1" rot="5400000">
              <a:off x="129240" y="410868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flipH="1" rot="5400000">
              <a:off x="126720" y="505008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flipH="1" rot="5400000">
              <a:off x="131400" y="5991480"/>
              <a:ext cx="885960" cy="846360"/>
            </a:xfrm>
            <a:prstGeom prst="parallelogram">
              <a:avLst>
                <a:gd name="adj" fmla="val 554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5400000">
              <a:off x="129240" y="33840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 rot="5400000">
              <a:off x="126720" y="1275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 flipH="1" rot="5400000">
              <a:off x="126720" y="222120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>
            <a:off x="463680" y="1913040"/>
            <a:ext cx="190440" cy="46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>
            <a:off x="457200" y="173988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" name="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17" name="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155520" y="0"/>
              <a:ext cx="84456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150840" y="6445080"/>
              <a:ext cx="72540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" name=""/>
          <p:cNvSpPr/>
          <p:nvPr/>
        </p:nvSpPr>
        <p:spPr>
          <a:xfrm flipH="1">
            <a:off x="546840" y="776160"/>
            <a:ext cx="8596440" cy="25416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4160"/>
              <a:gd name="textAreaBottom" fmla="*/ 254520 h 254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5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47480" y="2443320"/>
            <a:ext cx="7543800" cy="264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Rounded MT Bold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dt" idx="4"/>
          </p:nvPr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ftr" idx="5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sldNum" idx="6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 Narrow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ED269-433D-4EB3-9111-C1FAF4C6D71C}" type="slidenum">
              <a:rPr b="0" lang="ar-SA" sz="1400" spc="-1" strike="noStrike">
                <a:solidFill>
                  <a:srgbClr val="ffffff"/>
                </a:solidFill>
                <a:latin typeface="Arial Narrow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151920" y="313920"/>
            <a:ext cx="848160" cy="6543720"/>
            <a:chOff x="151920" y="313920"/>
            <a:chExt cx="848160" cy="6543720"/>
          </a:xfrm>
        </p:grpSpPr>
        <p:sp>
          <p:nvSpPr>
            <p:cNvPr id="67" name=""/>
            <p:cNvSpPr/>
            <p:nvPr/>
          </p:nvSpPr>
          <p:spPr>
            <a:xfrm flipH="1" rot="5400000">
              <a:off x="129240" y="31658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 rot="5400000">
              <a:off x="129240" y="410868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H="1" rot="5400000">
              <a:off x="126720" y="505008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H="1" rot="5400000">
              <a:off x="131400" y="5991480"/>
              <a:ext cx="885960" cy="846360"/>
            </a:xfrm>
            <a:prstGeom prst="parallelogram">
              <a:avLst>
                <a:gd name="adj" fmla="val 554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 rot="5400000">
              <a:off x="129240" y="33840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H="1" rot="5400000">
              <a:off x="126720" y="1275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 rot="5400000">
              <a:off x="126720" y="222120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546840" y="1676520"/>
            <a:ext cx="8596440" cy="25380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3800"/>
              <a:gd name="textAreaBottom" fmla="*/ 254160 h 253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33440" y="167652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63680" y="2700360"/>
            <a:ext cx="161640" cy="41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236160" y="16765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4200" y="276084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81" name="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55520" y="0"/>
              <a:ext cx="84456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50840" y="6445080"/>
              <a:ext cx="72540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 Rounded MT Bold"/>
              </a:rPr>
              <a:t>Click to edit the outline text format</a:t>
            </a:r>
            <a:endParaRPr b="1" lang="en-US" sz="6000" spc="-1" strike="noStrike">
              <a:solidFill>
                <a:srgbClr val="ffffff"/>
              </a:solidFill>
              <a:latin typeface="Arial Rounded MT Bold"/>
            </a:endParaRPr>
          </a:p>
          <a:p>
            <a:pPr lvl="1" marL="30168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2" marL="603360" algn="ctr">
              <a:spcBef>
                <a:spcPts val="901"/>
              </a:spcBef>
              <a:buClr>
                <a:srgbClr val="ccffff"/>
              </a:buClr>
              <a:buSzPct val="80000"/>
              <a:buFont typeface="Wingdings" charset="2"/>
              <a:buChar char="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3" marL="905040" algn="ctr">
              <a:spcBef>
                <a:spcPts val="950"/>
              </a:spcBef>
              <a:buClr>
                <a:srgbClr val="ffffff"/>
              </a:buClr>
              <a:buFont typeface="Impact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Impact"/>
              </a:rPr>
              <a:t>Fourth Outline Level</a:t>
            </a:r>
            <a:endParaRPr b="0" lang="en-US" sz="3800" spc="-1" strike="noStrike">
              <a:solidFill>
                <a:srgbClr val="ffffff"/>
              </a:solidFill>
              <a:latin typeface="Impact"/>
            </a:endParaRPr>
          </a:p>
          <a:p>
            <a:pPr lvl="4" marL="1206720" algn="ctr">
              <a:spcBef>
                <a:spcPts val="950"/>
              </a:spcBef>
              <a:buClr>
                <a:srgbClr val="ffffff"/>
              </a:buClr>
              <a:buFont typeface="Impact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Impact"/>
              </a:rPr>
              <a:t>Fifth Outline Level</a:t>
            </a:r>
            <a:endParaRPr b="0" lang="en-US" sz="3800" spc="-1" strike="noStrike">
              <a:solidFill>
                <a:srgbClr val="ffffff"/>
              </a:solidFill>
              <a:latin typeface="Impact"/>
            </a:endParaRPr>
          </a:p>
          <a:p>
            <a:pPr lvl="5" marL="1206720">
              <a:spcBef>
                <a:spcPts val="950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Impact"/>
              </a:rPr>
              <a:t>Sixth Outline Level</a:t>
            </a:r>
            <a:endParaRPr b="0" lang="en-US" sz="3800" spc="-1" strike="noStrike">
              <a:solidFill>
                <a:srgbClr val="ffffff"/>
              </a:solidFill>
              <a:latin typeface="Impact"/>
            </a:endParaRPr>
          </a:p>
          <a:p>
            <a:pPr lvl="6" marL="1206720">
              <a:spcBef>
                <a:spcPts val="950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Impact"/>
              </a:rPr>
              <a:t>Seventh Outline Level</a:t>
            </a:r>
            <a:endParaRPr b="0" lang="en-US" sz="38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5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6" name=""/>
          <p:cNvGraphicFramePr/>
          <p:nvPr/>
        </p:nvGraphicFramePr>
        <p:xfrm>
          <a:off x="4944960" y="1981080"/>
          <a:ext cx="3646440" cy="346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44960" y="1981080"/>
                    <a:ext cx="3646440" cy="346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1292400" y="379080"/>
            <a:ext cx="75355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 Rounded MT Bold"/>
              </a:rPr>
              <a:t>Ch. 12 &amp; 13 - Gases</a:t>
            </a:r>
            <a:endParaRPr b="1" lang="en-US" sz="6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1091880" y="1898280"/>
            <a:ext cx="4032360" cy="33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Rounded MT Bold"/>
              </a:rPr>
              <a:t>III. Two More Laws</a:t>
            </a:r>
            <a:br>
              <a:rPr sz="4800"/>
            </a:br>
            <a:endParaRPr b="1" lang="en-US" sz="48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30" name=""/>
          <p:cNvSpPr/>
          <p:nvPr/>
        </p:nvSpPr>
        <p:spPr>
          <a:xfrm>
            <a:off x="1558800" y="5389560"/>
            <a:ext cx="5624640" cy="14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Rounded MT Bold"/>
              </a:rPr>
              <a:t>Ideal Gas Law</a:t>
            </a:r>
            <a:br>
              <a:rPr sz="4400"/>
            </a:br>
            <a:r>
              <a:rPr b="0" lang="en-US" sz="4000" spc="-1" strike="noStrike">
                <a:solidFill>
                  <a:srgbClr val="ffffff"/>
                </a:solidFill>
                <a:latin typeface="Arial Rounded MT Bold"/>
              </a:rPr>
              <a:t>&amp; Dalton’s Law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5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0" y="3333600"/>
            <a:ext cx="9131400" cy="3284640"/>
          </a:xfrm>
          <a:prstGeom prst="rect">
            <a:avLst/>
          </a:prstGeom>
          <a:solidFill>
            <a:srgbClr val="17597d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0" y="3325680"/>
            <a:ext cx="3773520" cy="35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IVE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H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= 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tota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= 94.4 kP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H2O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= 2.72 kP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011480" y="3325680"/>
            <a:ext cx="5132520" cy="33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ORK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tota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= P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H2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 P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H2O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94.4 kPa = P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H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+ 2.72 kP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H2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= 91.7 kP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765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1932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Rounded MT Bold"/>
              </a:rPr>
              <a:t>D. Dalton’s Law</a:t>
            </a:r>
            <a:endParaRPr b="1" lang="en-US" sz="4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095480" y="1077840"/>
            <a:ext cx="7896240" cy="15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0"/>
              </a:spcBef>
              <a:buClr>
                <a:srgbClr val="ccffff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ydrogen gas is collected over water at 22.5°C.  Find the pressure of the dry gas if the atmospheric pressure is 94.4 kP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786120" y="3333600"/>
            <a:ext cx="0" cy="32846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3894120"/>
            <a:ext cx="91440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95120" y="5940360"/>
            <a:ext cx="3838680" cy="789120"/>
          </a:xfrm>
          <a:prstGeom prst="wedgeRectCallout">
            <a:avLst>
              <a:gd name="adj1" fmla="val -4050"/>
              <a:gd name="adj2" fmla="val -94870"/>
            </a:avLst>
          </a:prstGeom>
          <a:solidFill>
            <a:srgbClr val="99ffcc"/>
          </a:solidFill>
          <a:ln w="9360">
            <a:solidFill>
              <a:srgbClr val="0019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1932"/>
                </a:solidFill>
                <a:latin typeface="Arial"/>
              </a:rPr>
              <a:t>Look up water-vapor pressure on p.899 for 22.5</a:t>
            </a:r>
            <a:r>
              <a:rPr b="0" lang="en-US" sz="2000" spc="-1" strike="noStrike">
                <a:solidFill>
                  <a:srgbClr val="001932"/>
                </a:solidFill>
                <a:latin typeface="Arial"/>
                <a:ea typeface="Times New Roman"/>
              </a:rPr>
              <a:t>°C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892760" y="5940360"/>
            <a:ext cx="3838320" cy="789120"/>
          </a:xfrm>
          <a:prstGeom prst="wedgeRectCallout">
            <a:avLst>
              <a:gd name="adj1" fmla="val -34740"/>
              <a:gd name="adj2" fmla="val -70324"/>
            </a:avLst>
          </a:prstGeom>
          <a:solidFill>
            <a:srgbClr val="99ffcc"/>
          </a:solidFill>
          <a:ln w="9360">
            <a:solidFill>
              <a:srgbClr val="0019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1932"/>
                </a:solidFill>
                <a:latin typeface="Arial"/>
              </a:rPr>
              <a:t>Sig Figs: Round to least number of decimal plac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00160" y="2482920"/>
            <a:ext cx="8729640" cy="788760"/>
          </a:xfrm>
          <a:prstGeom prst="wedgeRectCallout">
            <a:avLst>
              <a:gd name="adj1" fmla="val -32467"/>
              <a:gd name="adj2" fmla="val -47384"/>
            </a:avLst>
          </a:prstGeom>
          <a:solidFill>
            <a:srgbClr val="99ffcc"/>
          </a:solidFill>
          <a:ln w="9360">
            <a:solidFill>
              <a:srgbClr val="0019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1932"/>
                </a:solidFill>
                <a:latin typeface="Arial"/>
              </a:rPr>
              <a:t>The total pressure in the collection bottle is equal to atmospheric pressure and is a mixture of H</a:t>
            </a:r>
            <a:r>
              <a:rPr b="0" lang="en-US" sz="2200" spc="-1" strike="noStrike" baseline="-25000">
                <a:solidFill>
                  <a:srgbClr val="001932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001932"/>
                </a:solidFill>
                <a:latin typeface="Arial"/>
              </a:rPr>
              <a:t> and water vapor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0" dur="5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" dur="500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0" dur="500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5" dur="500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500"/>
                            </p:stCondLst>
                            <p:childTnLst>
                              <p:par>
                                <p:cTn id="2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9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4" dur="5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9" dur="500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4" dur="500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9" dur="500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500"/>
                            </p:stCondLst>
                            <p:childTnLst>
                              <p:par>
                                <p:cTn id="2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3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5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0" y="3333600"/>
            <a:ext cx="9131400" cy="3284640"/>
          </a:xfrm>
          <a:prstGeom prst="rect">
            <a:avLst/>
          </a:prstGeom>
          <a:solidFill>
            <a:srgbClr val="17597d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0" y="3325680"/>
            <a:ext cx="3773520" cy="35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IVE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ga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= 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tota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= 742.0 tor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H2O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= 42.2 tor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011480" y="3325680"/>
            <a:ext cx="5132520" cy="33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ORK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tota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= P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gas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 P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H2O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742.0 torr = P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H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+ 42.2 tor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gas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= 700. tor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887040" y="1077840"/>
            <a:ext cx="8256600" cy="15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501"/>
              </a:spcBef>
              <a:buClr>
                <a:srgbClr val="ccffff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gas is collected over water at a temp of 35.0°C when the barometric pressure is 742.0 torr.  What is the partial pressure of the dry gas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786120" y="3333600"/>
            <a:ext cx="0" cy="32846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0" y="3894120"/>
            <a:ext cx="91440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95120" y="5940360"/>
            <a:ext cx="3838680" cy="789120"/>
          </a:xfrm>
          <a:prstGeom prst="wedgeRectCallout">
            <a:avLst>
              <a:gd name="adj1" fmla="val -4050"/>
              <a:gd name="adj2" fmla="val -94870"/>
            </a:avLst>
          </a:prstGeom>
          <a:solidFill>
            <a:srgbClr val="99ffcc"/>
          </a:solidFill>
          <a:ln w="9360">
            <a:solidFill>
              <a:srgbClr val="0019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1932"/>
                </a:solidFill>
                <a:latin typeface="Arial"/>
              </a:rPr>
              <a:t>Look up water-vapor pressure on p.899 for 35.0</a:t>
            </a:r>
            <a:r>
              <a:rPr b="0" lang="en-US" sz="2000" spc="-1" strike="noStrike">
                <a:solidFill>
                  <a:srgbClr val="001932"/>
                </a:solidFill>
                <a:latin typeface="Arial"/>
                <a:ea typeface="Times New Roman"/>
              </a:rPr>
              <a:t>°C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892760" y="5940360"/>
            <a:ext cx="3838320" cy="789120"/>
          </a:xfrm>
          <a:prstGeom prst="wedgeRectCallout">
            <a:avLst>
              <a:gd name="adj1" fmla="val -34740"/>
              <a:gd name="adj2" fmla="val -70324"/>
            </a:avLst>
          </a:prstGeom>
          <a:solidFill>
            <a:srgbClr val="99ffcc"/>
          </a:solidFill>
          <a:ln w="9360">
            <a:solidFill>
              <a:srgbClr val="0019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1932"/>
                </a:solidFill>
                <a:latin typeface="Arial"/>
              </a:rPr>
              <a:t>Sig Figs: Round to least number of decimal plac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765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1932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Rounded MT Bold"/>
              </a:rPr>
              <a:t>D. Dalton’s Law</a:t>
            </a:r>
            <a:endParaRPr b="1" lang="en-US" sz="4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19" name=""/>
          <p:cNvSpPr/>
          <p:nvPr/>
        </p:nvSpPr>
        <p:spPr>
          <a:xfrm>
            <a:off x="200160" y="2482920"/>
            <a:ext cx="8729640" cy="788760"/>
          </a:xfrm>
          <a:prstGeom prst="wedgeRectCallout">
            <a:avLst>
              <a:gd name="adj1" fmla="val -32467"/>
              <a:gd name="adj2" fmla="val -47384"/>
            </a:avLst>
          </a:prstGeom>
          <a:solidFill>
            <a:srgbClr val="99ffcc"/>
          </a:solidFill>
          <a:ln w="9360">
            <a:solidFill>
              <a:srgbClr val="0019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1932"/>
                </a:solidFill>
                <a:latin typeface="Arial"/>
              </a:rPr>
              <a:t>The total pressure in the collection bottle is equal to barometric pressure and is a mixture of the “gas” and water vapor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0" dur="5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5" dur="50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0" dur="500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5" dur="500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500"/>
                            </p:stCondLst>
                            <p:childTnLst>
                              <p:par>
                                <p:cTn id="2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9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4" dur="5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9" dur="500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4" dur="500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9" dur="500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500"/>
                            </p:stCondLst>
                            <p:childTnLst>
                              <p:par>
                                <p:cTn id="29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5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" name=""/>
          <p:cNvGrpSpPr/>
          <p:nvPr/>
        </p:nvGrpSpPr>
        <p:grpSpPr>
          <a:xfrm>
            <a:off x="4475160" y="3773520"/>
            <a:ext cx="4041720" cy="2597040"/>
            <a:chOff x="4475160" y="3773520"/>
            <a:chExt cx="4041720" cy="2597040"/>
          </a:xfrm>
        </p:grpSpPr>
        <p:sp>
          <p:nvSpPr>
            <p:cNvPr id="132" name=""/>
            <p:cNvSpPr/>
            <p:nvPr/>
          </p:nvSpPr>
          <p:spPr>
            <a:xfrm>
              <a:off x="4475160" y="3773520"/>
              <a:ext cx="4041720" cy="2597040"/>
            </a:xfrm>
            <a:prstGeom prst="ellipse">
              <a:avLst/>
            </a:prstGeom>
            <a:solidFill>
              <a:srgbClr val="99ff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3" name=""/>
                <p:cNvSpPr txBox="1"/>
                <p:nvPr/>
              </p:nvSpPr>
              <p:spPr>
                <a:xfrm>
                  <a:off x="5291280" y="3973320"/>
                  <a:ext cx="2409840" cy="2196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V</m:t>
                          </m:r>
                        </m:num>
                        <m:den>
                          <m:r>
                            <m:t xml:space="preserve">n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k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34" name=""/>
          <p:cNvGrpSpPr/>
          <p:nvPr/>
        </p:nvGrpSpPr>
        <p:grpSpPr>
          <a:xfrm>
            <a:off x="1136520" y="4189320"/>
            <a:ext cx="3020400" cy="2668320"/>
            <a:chOff x="1136520" y="4189320"/>
            <a:chExt cx="3020400" cy="2668320"/>
          </a:xfrm>
        </p:grpSpPr>
        <p:sp>
          <p:nvSpPr>
            <p:cNvPr id="135" name=""/>
            <p:cNvSpPr/>
            <p:nvPr/>
          </p:nvSpPr>
          <p:spPr>
            <a:xfrm>
              <a:off x="1136520" y="4982040"/>
              <a:ext cx="489960" cy="59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633040" y="6263640"/>
              <a:ext cx="488520" cy="59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37" name=""/>
            <p:cNvGrpSpPr/>
            <p:nvPr/>
          </p:nvGrpSpPr>
          <p:grpSpPr>
            <a:xfrm>
              <a:off x="1626480" y="4189320"/>
              <a:ext cx="2530440" cy="2089800"/>
              <a:chOff x="1626480" y="4189320"/>
              <a:chExt cx="2530440" cy="2089800"/>
            </a:xfrm>
          </p:grpSpPr>
          <p:sp>
            <p:nvSpPr>
              <p:cNvPr id="138" name=""/>
              <p:cNvSpPr/>
              <p:nvPr/>
            </p:nvSpPr>
            <p:spPr>
              <a:xfrm>
                <a:off x="1626480" y="4189320"/>
                <a:ext cx="0" cy="208980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626480" y="6279120"/>
                <a:ext cx="2530440" cy="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 flipV="1">
                <a:off x="1626480" y="4685400"/>
                <a:ext cx="2111040" cy="144792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765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1932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Rounded MT Bold"/>
              </a:rPr>
              <a:t>A. Avogadro’s Principle</a:t>
            </a:r>
            <a:endParaRPr b="1" lang="en-US" sz="4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877840" y="1214280"/>
            <a:ext cx="6265800" cy="19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501"/>
              </a:spcBef>
              <a:buClr>
                <a:srgbClr val="ccffff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qual volumes of gases contain equal numbers of mo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t constant temp &amp; press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ue for any g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214280" y="1214280"/>
            <a:ext cx="1462320" cy="1773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" dur="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5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3257640" y="1368360"/>
            <a:ext cx="1631880" cy="24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ffff99"/>
                </a:solidFill>
                <a:latin typeface="Arial"/>
              </a:rPr>
              <a:t>PV</a:t>
            </a:r>
            <a:endParaRPr b="0" lang="en-US" sz="6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ffff99"/>
                </a:solidFill>
                <a:latin typeface="Arial"/>
              </a:rPr>
              <a:t>T</a:t>
            </a:r>
            <a:endParaRPr b="0" lang="en-US" sz="6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3257280" y="1368360"/>
            <a:ext cx="1631880" cy="24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ffff99"/>
                </a:solidFill>
                <a:latin typeface="Arial"/>
              </a:rPr>
              <a:t>V</a:t>
            </a: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ffff99"/>
                </a:solidFill>
                <a:latin typeface="Arial"/>
              </a:rPr>
              <a:t>n</a:t>
            </a: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249720" y="1374840"/>
            <a:ext cx="1631880" cy="2417760"/>
          </a:xfrm>
          <a:prstGeom prst="rect">
            <a:avLst/>
          </a:prstGeom>
          <a:solidFill>
            <a:srgbClr val="175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ffff99"/>
                </a:solidFill>
                <a:latin typeface="Arial"/>
              </a:rPr>
              <a:t>PV</a:t>
            </a:r>
            <a:endParaRPr b="0" lang="en-US" sz="6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ffff99"/>
                </a:solidFill>
                <a:latin typeface="Arial"/>
              </a:rPr>
              <a:t>nT</a:t>
            </a:r>
            <a:endParaRPr b="0" lang="en-US" sz="6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765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1932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Rounded MT Bold"/>
              </a:rPr>
              <a:t>B. Ideal Gas Law</a:t>
            </a:r>
            <a:endParaRPr b="1" lang="en-US" sz="4000" spc="-1" strike="noStrike">
              <a:solidFill>
                <a:srgbClr val="ffffff"/>
              </a:solidFill>
              <a:latin typeface="Arial Rounded MT Bold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3335400" y="1954080"/>
            <a:ext cx="3230280" cy="1293840"/>
            <a:chOff x="3335400" y="1954080"/>
            <a:chExt cx="3230280" cy="1293840"/>
          </a:xfrm>
        </p:grpSpPr>
        <p:sp>
          <p:nvSpPr>
            <p:cNvPr id="149" name=""/>
            <p:cNvSpPr/>
            <p:nvPr/>
          </p:nvSpPr>
          <p:spPr>
            <a:xfrm>
              <a:off x="4933800" y="1954080"/>
              <a:ext cx="1631880" cy="1293840"/>
            </a:xfrm>
            <a:prstGeom prst="rect">
              <a:avLst/>
            </a:prstGeom>
            <a:solidFill>
              <a:srgbClr val="175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 algn="ctr">
                <a:lnSpc>
                  <a:spcPct val="100000"/>
                </a:lnSpc>
                <a:spcBef>
                  <a:spcPts val="15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400" spc="-1" strike="noStrike">
                  <a:solidFill>
                    <a:srgbClr val="ffff99"/>
                  </a:solidFill>
                  <a:latin typeface="Arial"/>
                </a:rPr>
                <a:t>= k</a:t>
              </a:r>
              <a:endParaRPr b="0" lang="en-US" sz="6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335400" y="2460600"/>
              <a:ext cx="1476360" cy="1440"/>
            </a:xfrm>
            <a:prstGeom prst="line">
              <a:avLst/>
            </a:prstGeom>
            <a:ln w="12708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1268280" y="3350880"/>
            <a:ext cx="7196400" cy="3075480"/>
          </a:xfrm>
          <a:prstGeom prst="roundRect">
            <a:avLst>
              <a:gd name="adj" fmla="val 16667"/>
            </a:avLst>
          </a:prstGeom>
          <a:solidFill>
            <a:srgbClr val="99ffcc"/>
          </a:solidFill>
          <a:ln w="28440">
            <a:solidFill>
              <a:srgbClr val="0019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1932"/>
                </a:solidFill>
                <a:latin typeface="DomCasual BT"/>
              </a:rPr>
              <a:t>UNIVERSAL GAS CONSTAN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1932"/>
                </a:solidFill>
                <a:latin typeface="DomCasual BT"/>
              </a:rPr>
              <a:t>R=0.0821 L</a:t>
            </a:r>
            <a:r>
              <a:rPr b="0" lang="en-US" sz="4400" spc="-1" strike="noStrike">
                <a:solidFill>
                  <a:srgbClr val="001932"/>
                </a:solidFill>
                <a:latin typeface="Symbol"/>
                <a:ea typeface="Symbol"/>
              </a:rPr>
              <a:t></a:t>
            </a:r>
            <a:r>
              <a:rPr b="0" lang="en-US" sz="4400" spc="-1" strike="noStrike">
                <a:solidFill>
                  <a:srgbClr val="001932"/>
                </a:solidFill>
                <a:latin typeface="DomCasual BT"/>
              </a:rPr>
              <a:t>atm/mol</a:t>
            </a:r>
            <a:r>
              <a:rPr b="0" lang="en-US" sz="4400" spc="-1" strike="noStrike">
                <a:solidFill>
                  <a:srgbClr val="001932"/>
                </a:solidFill>
                <a:latin typeface="Symbol"/>
                <a:ea typeface="Symbol"/>
              </a:rPr>
              <a:t></a:t>
            </a:r>
            <a:r>
              <a:rPr b="0" lang="en-US" sz="4400" spc="-1" strike="noStrike">
                <a:solidFill>
                  <a:srgbClr val="001932"/>
                </a:solidFill>
                <a:latin typeface="DomCasual BT"/>
              </a:rPr>
              <a:t>K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1932"/>
                </a:solidFill>
                <a:latin typeface="DomCasual BT"/>
              </a:rPr>
              <a:t>R=8.315 dm</a:t>
            </a:r>
            <a:r>
              <a:rPr b="0" lang="en-US" sz="4400" spc="-1" strike="noStrike" baseline="30000">
                <a:solidFill>
                  <a:srgbClr val="001932"/>
                </a:solidFill>
                <a:latin typeface="DomCasual BT"/>
              </a:rPr>
              <a:t>3</a:t>
            </a:r>
            <a:r>
              <a:rPr b="0" lang="en-US" sz="4400" spc="-1" strike="noStrike">
                <a:solidFill>
                  <a:srgbClr val="001932"/>
                </a:solidFill>
                <a:latin typeface="Symbol"/>
                <a:ea typeface="Symbol"/>
              </a:rPr>
              <a:t></a:t>
            </a:r>
            <a:r>
              <a:rPr b="0" lang="en-US" sz="4400" spc="-1" strike="noStrike">
                <a:solidFill>
                  <a:srgbClr val="001932"/>
                </a:solidFill>
                <a:latin typeface="DomCasual BT"/>
              </a:rPr>
              <a:t>kPa/mol</a:t>
            </a:r>
            <a:r>
              <a:rPr b="0" lang="en-US" sz="4400" spc="-1" strike="noStrike">
                <a:solidFill>
                  <a:srgbClr val="001932"/>
                </a:solidFill>
                <a:latin typeface="Symbol"/>
                <a:ea typeface="Symbol"/>
              </a:rPr>
              <a:t></a:t>
            </a:r>
            <a:r>
              <a:rPr b="0" lang="en-US" sz="4400" spc="-1" strike="noStrike">
                <a:solidFill>
                  <a:srgbClr val="001932"/>
                </a:solidFill>
                <a:latin typeface="DomCasual BT"/>
              </a:rPr>
              <a:t>K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rot="5400000">
            <a:off x="7004160" y="2060640"/>
            <a:ext cx="906480" cy="1627200"/>
          </a:xfrm>
          <a:custGeom>
            <a:avLst/>
            <a:gdLst>
              <a:gd name="textAreaLeft" fmla="*/ 0 w 906480"/>
              <a:gd name="textAreaRight" fmla="*/ 906840 w 90648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7740" stAng="10800000" swAng="5400000"/>
                <a:lnTo>
                  <a:pt x="16364" y="4420"/>
                </a:lnTo>
                <a:lnTo>
                  <a:pt x="16364" y="0"/>
                </a:lnTo>
                <a:lnTo>
                  <a:pt x="21600" y="6079"/>
                </a:lnTo>
                <a:lnTo>
                  <a:pt x="16364" y="12158"/>
                </a:lnTo>
                <a:lnTo>
                  <a:pt x="16364" y="7738"/>
                </a:lnTo>
                <a:lnTo>
                  <a:pt x="12427" y="7738"/>
                </a:lnTo>
                <a:arcTo wR="9109" hR="4422" stAng="16200000" swAng="-5400000"/>
                <a:lnTo>
                  <a:pt x="3318" y="21600"/>
                </a:lnTo>
                <a:close/>
              </a:path>
            </a:pathLst>
          </a:custGeom>
          <a:solidFill>
            <a:srgbClr val="99ffcc"/>
          </a:solidFill>
          <a:ln w="19080">
            <a:solidFill>
              <a:srgbClr val="0019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813200" y="1960560"/>
            <a:ext cx="1998720" cy="1293840"/>
          </a:xfrm>
          <a:prstGeom prst="rect">
            <a:avLst/>
          </a:prstGeom>
          <a:solidFill>
            <a:srgbClr val="175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ffff99"/>
                </a:solidFill>
                <a:latin typeface="Arial"/>
              </a:rPr>
              <a:t>= R</a:t>
            </a:r>
            <a:endParaRPr b="0" lang="en-US" sz="6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170440" y="6400800"/>
            <a:ext cx="587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ou don’t need to memorize these values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218600" y="1093680"/>
            <a:ext cx="78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rge the Combined Gas Law with Avogadro’s Princip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000"/>
                            </p:stCondLst>
                            <p:childTnLst>
                              <p:par>
                                <p:cTn id="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500"/>
                            </p:stCondLst>
                            <p:childTnLst>
                              <p:par>
                                <p:cTn id="5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5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765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1932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Rounded MT Bold"/>
              </a:rPr>
              <a:t>B. Ideal Gas Law</a:t>
            </a:r>
            <a:endParaRPr b="1" lang="en-US" sz="4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57" name=""/>
          <p:cNvSpPr/>
          <p:nvPr/>
        </p:nvSpPr>
        <p:spPr>
          <a:xfrm>
            <a:off x="1336680" y="3470040"/>
            <a:ext cx="7450200" cy="3075480"/>
          </a:xfrm>
          <a:prstGeom prst="roundRect">
            <a:avLst>
              <a:gd name="adj" fmla="val 16667"/>
            </a:avLst>
          </a:prstGeom>
          <a:solidFill>
            <a:srgbClr val="99ffcc"/>
          </a:solidFill>
          <a:ln w="28440">
            <a:solidFill>
              <a:srgbClr val="0019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1932"/>
                </a:solidFill>
                <a:latin typeface="DomCasual BT"/>
              </a:rPr>
              <a:t>UNIVERSAL GAS CONSTAN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1932"/>
                </a:solidFill>
                <a:latin typeface="DomCasual BT"/>
              </a:rPr>
              <a:t>R=0.0821 L</a:t>
            </a:r>
            <a:r>
              <a:rPr b="0" lang="en-US" sz="4400" spc="-1" strike="noStrike">
                <a:solidFill>
                  <a:srgbClr val="001932"/>
                </a:solidFill>
                <a:latin typeface="Symbol"/>
                <a:ea typeface="Symbol"/>
              </a:rPr>
              <a:t></a:t>
            </a:r>
            <a:r>
              <a:rPr b="0" lang="en-US" sz="4400" spc="-1" strike="noStrike">
                <a:solidFill>
                  <a:srgbClr val="001932"/>
                </a:solidFill>
                <a:latin typeface="DomCasual BT"/>
              </a:rPr>
              <a:t>atm/mol</a:t>
            </a:r>
            <a:r>
              <a:rPr b="0" lang="en-US" sz="4400" spc="-1" strike="noStrike">
                <a:solidFill>
                  <a:srgbClr val="001932"/>
                </a:solidFill>
                <a:latin typeface="Symbol"/>
                <a:ea typeface="Symbol"/>
              </a:rPr>
              <a:t></a:t>
            </a:r>
            <a:r>
              <a:rPr b="0" lang="en-US" sz="4400" spc="-1" strike="noStrike">
                <a:solidFill>
                  <a:srgbClr val="001932"/>
                </a:solidFill>
                <a:latin typeface="DomCasual BT"/>
              </a:rPr>
              <a:t>K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1932"/>
                </a:solidFill>
                <a:latin typeface="DomCasual BT"/>
              </a:rPr>
              <a:t>R=8.315 dm</a:t>
            </a:r>
            <a:r>
              <a:rPr b="0" lang="en-US" sz="4400" spc="-1" strike="noStrike" baseline="30000">
                <a:solidFill>
                  <a:srgbClr val="001932"/>
                </a:solidFill>
                <a:latin typeface="DomCasual BT"/>
              </a:rPr>
              <a:t>3</a:t>
            </a:r>
            <a:r>
              <a:rPr b="0" lang="en-US" sz="4400" spc="-1" strike="noStrike">
                <a:solidFill>
                  <a:srgbClr val="001932"/>
                </a:solidFill>
                <a:latin typeface="Symbol"/>
                <a:ea typeface="Symbol"/>
              </a:rPr>
              <a:t></a:t>
            </a:r>
            <a:r>
              <a:rPr b="0" lang="en-US" sz="4400" spc="-1" strike="noStrike">
                <a:solidFill>
                  <a:srgbClr val="001932"/>
                </a:solidFill>
                <a:latin typeface="DomCasual BT"/>
              </a:rPr>
              <a:t>kPa/mol</a:t>
            </a:r>
            <a:r>
              <a:rPr b="0" lang="en-US" sz="4400" spc="-1" strike="noStrike">
                <a:solidFill>
                  <a:srgbClr val="001932"/>
                </a:solidFill>
                <a:latin typeface="Symbol"/>
                <a:ea typeface="Symbol"/>
              </a:rPr>
              <a:t></a:t>
            </a:r>
            <a:r>
              <a:rPr b="0" lang="en-US" sz="4400" spc="-1" strike="noStrike">
                <a:solidFill>
                  <a:srgbClr val="001932"/>
                </a:solidFill>
                <a:latin typeface="DomCasual BT"/>
              </a:rPr>
              <a:t>K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100240" y="944640"/>
            <a:ext cx="5835600" cy="2808360"/>
          </a:xfrm>
          <a:prstGeom prst="horizontalScrol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19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1932"/>
                </a:solidFill>
                <a:latin typeface="Arial"/>
              </a:rPr>
              <a:t>PV=nRT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170440" y="6407280"/>
            <a:ext cx="587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ou don’t need to memorize these values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5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0" y="2698920"/>
            <a:ext cx="9131400" cy="3846240"/>
          </a:xfrm>
          <a:prstGeom prst="rect">
            <a:avLst/>
          </a:prstGeom>
          <a:solidFill>
            <a:srgbClr val="17597d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2690640"/>
            <a:ext cx="3773520" cy="35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IVE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P = ? atm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n = 0.412 mol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T = 16°C = 289 K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V = 3.25 L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R = 0.0821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L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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atm/mol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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778200" y="2690640"/>
            <a:ext cx="5365800" cy="35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ORK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PV = nRT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3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P(3.25)=(0.412)(0.0821)(289)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L            mol    L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</a:t>
            </a: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atm/mol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</a:t>
            </a: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K     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Arial"/>
              </a:rPr>
              <a:t>P = 3.01 atm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765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1932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Rounded MT Bold"/>
              </a:rPr>
              <a:t>C. Ideal Gas Law Problems</a:t>
            </a:r>
            <a:endParaRPr b="1" lang="en-US" sz="4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046160" y="1012320"/>
            <a:ext cx="8097840" cy="13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4249"/>
              </a:spcBef>
              <a:buClr>
                <a:srgbClr val="ccffff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Calculate the pressure in atmospheres of 0.412 mol of He at 16°C &amp; occupying 3.25 L. 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786120" y="2698920"/>
            <a:ext cx="0" cy="38336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3259080"/>
            <a:ext cx="91440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5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" dur="5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" dur="500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" dur="500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5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0" y="2698920"/>
            <a:ext cx="9131400" cy="4159080"/>
          </a:xfrm>
          <a:prstGeom prst="rect">
            <a:avLst/>
          </a:prstGeom>
          <a:solidFill>
            <a:srgbClr val="17597d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2690640"/>
            <a:ext cx="3824280" cy="35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IVE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85 g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25°C = 298 K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104.5 kPa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8.315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 dm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 Narrow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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kPa/mol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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765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1932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Rounded MT Bold"/>
              </a:rPr>
              <a:t>C. Ideal Gas Law Problems</a:t>
            </a:r>
            <a:endParaRPr b="1" lang="en-US" sz="4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041480" y="1014480"/>
            <a:ext cx="7756560" cy="14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249"/>
              </a:spcBef>
              <a:buClr>
                <a:srgbClr val="ccffff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Find the volume of 85 g of O</a:t>
            </a:r>
            <a:r>
              <a:rPr b="0" lang="en-US" sz="3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 at 25°C and 104.5 kPa. 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786120" y="2698920"/>
            <a:ext cx="0" cy="41590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3259080"/>
            <a:ext cx="91440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625040" y="3930480"/>
            <a:ext cx="202176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= 2.7 mol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3778200" y="2690640"/>
            <a:ext cx="5365800" cy="1924200"/>
            <a:chOff x="3778200" y="2690640"/>
            <a:chExt cx="5365800" cy="1924200"/>
          </a:xfrm>
        </p:grpSpPr>
        <p:sp>
          <p:nvSpPr>
            <p:cNvPr id="175" name=""/>
            <p:cNvSpPr/>
            <p:nvPr/>
          </p:nvSpPr>
          <p:spPr>
            <a:xfrm>
              <a:off x="3778200" y="2690640"/>
              <a:ext cx="5365800" cy="192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WORK: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500" spc="-1" strike="noStrike">
                  <a:solidFill>
                    <a:srgbClr val="ffffff"/>
                  </a:solidFill>
                  <a:latin typeface="Arial"/>
                </a:rPr>
                <a:t>85 g   1 mol    = 2.7 mol</a:t>
              </a:r>
              <a:endParaRPr b="0" lang="en-US" sz="35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500" spc="-1" strike="noStrike">
                  <a:solidFill>
                    <a:srgbClr val="ffffff"/>
                  </a:solidFill>
                  <a:latin typeface="Arial"/>
                </a:rPr>
                <a:t>         </a:t>
              </a:r>
              <a:r>
                <a:rPr b="0" lang="en-US" sz="3500" spc="-1" strike="noStrike">
                  <a:solidFill>
                    <a:srgbClr val="ffffff"/>
                  </a:solidFill>
                  <a:latin typeface="Arial"/>
                </a:rPr>
                <a:t>32.00 g</a:t>
              </a:r>
              <a:endParaRPr b="0" lang="en-US" sz="3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835440" y="3933720"/>
              <a:ext cx="27702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873680" y="3402000"/>
              <a:ext cx="0" cy="1039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8" name=""/>
          <p:cNvSpPr/>
          <p:nvPr/>
        </p:nvSpPr>
        <p:spPr>
          <a:xfrm>
            <a:off x="3809880" y="4651200"/>
            <a:ext cx="5322600" cy="221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PV = nRT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(104.5)V=(2.7)  (8.315)  (298)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kPa             mol  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dm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 Narrow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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kPa/mol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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K</a:t>
            </a: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     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Arial"/>
              </a:rPr>
              <a:t>V = 64 dm</a:t>
            </a:r>
            <a:r>
              <a:rPr b="1" lang="en-US" sz="35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" dur="5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" dur="5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" dur="500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5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765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1932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Rounded MT Bold"/>
              </a:rPr>
              <a:t>D. Dalton’s Law</a:t>
            </a:r>
            <a:endParaRPr b="1" lang="en-US" sz="4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877840" y="1055520"/>
            <a:ext cx="6102360" cy="29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01"/>
              </a:spcBef>
              <a:buClr>
                <a:srgbClr val="ccffff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total pressure of a mixture of gases equals the sum of the partial pressures of the individual gase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1555920" y="4840200"/>
            <a:ext cx="6495480" cy="1107720"/>
            <a:chOff x="1555920" y="4840200"/>
            <a:chExt cx="6495480" cy="1107720"/>
          </a:xfrm>
        </p:grpSpPr>
        <p:sp>
          <p:nvSpPr>
            <p:cNvPr id="182" name=""/>
            <p:cNvSpPr/>
            <p:nvPr/>
          </p:nvSpPr>
          <p:spPr>
            <a:xfrm>
              <a:off x="1555920" y="4840200"/>
              <a:ext cx="6330600" cy="1008000"/>
            </a:xfrm>
            <a:prstGeom prst="roundRect">
              <a:avLst>
                <a:gd name="adj" fmla="val 16667"/>
              </a:avLst>
            </a:prstGeom>
            <a:solidFill>
              <a:srgbClr val="99ff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680480" y="4917600"/>
              <a:ext cx="6370920" cy="103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5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i="1" lang="en-US" sz="5400" spc="-1" strike="noStrike" baseline="-25000">
                  <a:solidFill>
                    <a:srgbClr val="000000"/>
                  </a:solidFill>
                  <a:latin typeface="Times New Roman"/>
                </a:rPr>
                <a:t>total</a:t>
              </a:r>
              <a:r>
                <a:rPr b="1" lang="en-US" sz="54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en-US" sz="5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i="1" lang="en-US" sz="5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5400" spc="-1" strike="noStrike">
                  <a:solidFill>
                    <a:srgbClr val="000000"/>
                  </a:solidFill>
                  <a:latin typeface="Times New Roman"/>
                </a:rPr>
                <a:t> + </a:t>
              </a:r>
              <a:r>
                <a:rPr b="1" i="1" lang="en-US" sz="5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i="1" lang="en-US" sz="5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5400" spc="-1" strike="noStrike">
                  <a:solidFill>
                    <a:srgbClr val="000000"/>
                  </a:solidFill>
                  <a:latin typeface="Times New Roman"/>
                </a:rPr>
                <a:t> + ...</a:t>
              </a:r>
              <a:endParaRPr b="0" lang="en-US" sz="5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84" name="" descr=""/>
          <p:cNvPicPr/>
          <p:nvPr/>
        </p:nvPicPr>
        <p:blipFill>
          <a:blip r:embed="rId1"/>
          <a:srcRect l="22558" t="4460" r="34025" b="48710"/>
          <a:stretch/>
        </p:blipFill>
        <p:spPr>
          <a:xfrm>
            <a:off x="1214280" y="1211400"/>
            <a:ext cx="1582920" cy="17841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5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0" y="3333600"/>
            <a:ext cx="9131400" cy="3284640"/>
          </a:xfrm>
          <a:prstGeom prst="rect">
            <a:avLst/>
          </a:prstGeom>
          <a:solidFill>
            <a:srgbClr val="17597d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0" y="3325680"/>
            <a:ext cx="3773520" cy="35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IVE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O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= 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tota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= 1 at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CO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= 0.285 torr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N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= 593.525 tor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011480" y="3325680"/>
            <a:ext cx="5132520" cy="33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ORK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tota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= P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CO2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 P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N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+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O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 atm = 0.000375 atm + .780954 atm + P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O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O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= 0.219 at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765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1932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Rounded MT Bold"/>
              </a:rPr>
              <a:t>D. Dalton’s Law</a:t>
            </a:r>
            <a:endParaRPr b="1" lang="en-US" sz="4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095480" y="1077840"/>
            <a:ext cx="789624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3501"/>
              </a:spcBef>
              <a:buClr>
                <a:srgbClr val="ccffff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ree of the primary components of air are C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N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and 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  In a sample containing only these three gases at a pressure of 1.00 atm, P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CO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= 0.285 torr and P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N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= 593.525 torr.  What is the partial pressure of 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786120" y="3333600"/>
            <a:ext cx="0" cy="32846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0" y="3894120"/>
            <a:ext cx="91440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928800" y="5092560"/>
            <a:ext cx="2801880" cy="1323000"/>
          </a:xfrm>
          <a:prstGeom prst="rect">
            <a:avLst/>
          </a:prstGeom>
          <a:solidFill>
            <a:srgbClr val="175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= .000375 at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= .780954 at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" dur="5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1" dur="5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500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5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765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1932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Rounded MT Bold"/>
              </a:rPr>
              <a:t>D. Dalton’s Law</a:t>
            </a:r>
            <a:endParaRPr b="1" lang="en-US" sz="4000" spc="-1" strike="noStrike">
              <a:solidFill>
                <a:srgbClr val="ffffff"/>
              </a:solidFill>
              <a:latin typeface="Arial Rounded MT Bold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1243080" y="1143000"/>
            <a:ext cx="3821040" cy="2411280"/>
          </a:xfrm>
          <a:prstGeom prst="rect">
            <a:avLst/>
          </a:prstGeom>
          <a:ln w="28440">
            <a:solidFill>
              <a:srgbClr val="001932"/>
            </a:solidFill>
            <a:miter/>
          </a:ln>
        </p:spPr>
      </p:pic>
      <p:sp>
        <p:nvSpPr>
          <p:cNvPr id="195" name=""/>
          <p:cNvSpPr/>
          <p:nvPr/>
        </p:nvSpPr>
        <p:spPr>
          <a:xfrm>
            <a:off x="5240160" y="1241280"/>
            <a:ext cx="3711600" cy="20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gas is collected by water displacement, the gas in the collection bottle is actually a mixture of 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nd water vapor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301760" y="3557520"/>
            <a:ext cx="6759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ter exerts a pressure known as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water-vapor pressu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, to determine total pressure of gas and water vapor inside a container, make total pressure inside bottle = atmosphere and use this formula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1339920" y="5850000"/>
            <a:ext cx="6495480" cy="1107720"/>
            <a:chOff x="1339920" y="5850000"/>
            <a:chExt cx="6495480" cy="1107720"/>
          </a:xfrm>
        </p:grpSpPr>
        <p:sp>
          <p:nvSpPr>
            <p:cNvPr id="198" name=""/>
            <p:cNvSpPr/>
            <p:nvPr/>
          </p:nvSpPr>
          <p:spPr>
            <a:xfrm>
              <a:off x="1339920" y="5850000"/>
              <a:ext cx="6330600" cy="1008000"/>
            </a:xfrm>
            <a:prstGeom prst="roundRect">
              <a:avLst>
                <a:gd name="adj" fmla="val 16667"/>
              </a:avLst>
            </a:prstGeom>
            <a:solidFill>
              <a:srgbClr val="99ff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464480" y="5927400"/>
              <a:ext cx="6370920" cy="103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5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i="1" lang="en-US" sz="5400" spc="-1" strike="noStrike" baseline="-25000">
                  <a:solidFill>
                    <a:srgbClr val="000000"/>
                  </a:solidFill>
                  <a:latin typeface="Times New Roman"/>
                </a:rPr>
                <a:t>atm</a:t>
              </a:r>
              <a:r>
                <a:rPr b="1" lang="en-US" sz="54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en-US" sz="5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i="1" lang="en-US" sz="5400" spc="-1" strike="noStrike" baseline="-25000">
                  <a:solidFill>
                    <a:srgbClr val="000000"/>
                  </a:solidFill>
                  <a:latin typeface="Times New Roman"/>
                </a:rPr>
                <a:t>gas</a:t>
              </a:r>
              <a:r>
                <a:rPr b="1" lang="en-US" sz="5400" spc="-1" strike="noStrike">
                  <a:solidFill>
                    <a:srgbClr val="000000"/>
                  </a:solidFill>
                  <a:latin typeface="Times New Roman"/>
                </a:rPr>
                <a:t> + </a:t>
              </a:r>
              <a:r>
                <a:rPr b="1" i="1" lang="en-US" sz="5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i="1" lang="en-US" sz="5400" spc="-1" strike="noStrike" baseline="-25000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1" i="1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i="1" lang="en-US" sz="5400" spc="-1" strike="noStrike" baseline="-25000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5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7T20:14:20Z</dcterms:created>
  <dc:creator>Robert E. Johannesson</dc:creator>
  <dc:description/>
  <dc:language>en-US</dc:language>
  <cp:lastModifiedBy>dell</cp:lastModifiedBy>
  <cp:lastPrinted>2000-02-27T23:02:41Z</cp:lastPrinted>
  <dcterms:modified xsi:type="dcterms:W3CDTF">2014-11-16T17:37:26Z</dcterms:modified>
  <cp:revision>178</cp:revision>
  <dc:subject/>
  <dc:title>V. Two More Gas Law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677230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geocities.com/CollegePark/Locker/3195</vt:lpwstr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4</vt:r8>
  </property>
  <property fmtid="{D5CDD505-2E9C-101B-9397-08002B2CF9AE}" pid="12" name="Other">
    <vt:lpwstr/>
  </property>
  <property fmtid="{D5CDD505-2E9C-101B-9397-08002B2CF9AE}" pid="13" name="OutputDir">
    <vt:lpwstr>C:\Data\Christy's Stuff\Teaching Stuff\99-00 School Year\Lessons\Stoichiometry</vt:lpwstr>
  </property>
  <property fmtid="{D5CDD505-2E9C-101B-9397-08002B2CF9AE}" pid="14" name="ScreenSize">
    <vt:r8>1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0</vt:bool>
  </property>
  <property fmtid="{D5CDD505-2E9C-101B-9397-08002B2CF9AE}" pid="21" name="VisitedColor">
    <vt:r8>10040268</vt:r8>
  </property>
</Properties>
</file>