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68E-4B5D-47A5-B260-8EF589C8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19320" y="356904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028-4059-46C0-8565-97E5064F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20200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2FD-FF56-4B11-8F2F-B621C4D5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4732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7496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1932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4732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7496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DEB-D345-4DBD-B06D-DAE3C064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237A-1B5A-4B9E-83AE-122AE31E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42BE-7DF1-4BDB-A677-E6AAAE4E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4238-B254-475E-943B-F0CD6258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52A0-9C51-42C3-AF1B-02AE7550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2400-34E4-47BC-9EDB-F014485A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B18A-36D4-4D21-9918-363379B3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31EC-CBCE-4887-94F6-76C4050A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9BA-05CA-480B-8198-B283C075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0200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F9E3-B2B9-4620-9438-133C9BF1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424C-A7F9-4D57-85EA-81BDFE3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19320" y="356904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71F9-897C-4061-8303-F8C0F47E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0200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FD83-E946-4341-B035-F3267C18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4732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7496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1932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4732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7496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0849-327A-4C0C-8A9A-33406406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8B9-E30A-4656-9A5B-60F174A1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964-2FA8-46EA-8A6A-262A2BAB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6DE-190E-494D-BAD2-E8EEE59E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AA2-F764-4A7D-9987-0A6B3F45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1F7-4D44-4D99-B37B-7F1BCBA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0200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7C8-525A-4102-AE97-E742ACAF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BDA-F7D5-478F-84E4-858DFFB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901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Narrow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D818-00E6-43E1-957C-2A28A4B4D192}" type="slidenum">
              <a:rPr b="0" lang="ar-SA" sz="1400" spc="-1" strike="noStrike">
                <a:solidFill>
                  <a:srgbClr val="fffff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7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" name=""/>
          <p:cNvSpPr/>
          <p:nvPr/>
        </p:nvSpPr>
        <p:spPr>
          <a:xfrm flipH="1">
            <a:off x="546840" y="77616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47480" y="2443320"/>
            <a:ext cx="75438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Narrow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0176-5B10-4464-9250-8C573E4E85CF}" type="slidenum">
              <a:rPr b="0" lang="ar-SA" sz="1400" spc="-1" strike="noStrike">
                <a:solidFill>
                  <a:srgbClr val="fffff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7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6840" y="1676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3440" y="16765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236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1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30168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603360" algn="ctr">
              <a:spcBef>
                <a:spcPts val="901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905040" algn="ctr">
              <a:spcBef>
                <a:spcPts val="950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  <a:p>
            <a:pPr lvl="4" marL="1206720" algn="ctr">
              <a:spcBef>
                <a:spcPts val="950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  <a:p>
            <a:pPr lvl="5" marL="1206720">
              <a:spcBef>
                <a:spcPts val="950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  <a:p>
            <a:pPr lvl="6" marL="1206720">
              <a:spcBef>
                <a:spcPts val="950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944960" y="1981080"/>
          <a:ext cx="3646440" cy="34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4960" y="1981080"/>
                    <a:ext cx="364644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292400" y="379080"/>
            <a:ext cx="7535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Rounded MT Bold"/>
              </a:rPr>
              <a:t>Ch. 12 &amp; 13 - Gases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91880" y="1898280"/>
            <a:ext cx="403236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III. Two More Law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" name=""/>
          <p:cNvSpPr/>
          <p:nvPr/>
        </p:nvSpPr>
        <p:spPr>
          <a:xfrm>
            <a:off x="1558800" y="5389560"/>
            <a:ext cx="56246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deal Gas Law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&amp; Dalton’s La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333600"/>
            <a:ext cx="9131400" cy="328464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25680"/>
            <a:ext cx="3773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94.4 k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2.72 k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1480" y="3325680"/>
            <a:ext cx="51325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4.4 kPa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.72 k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H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91.7 k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5480" y="1077840"/>
            <a:ext cx="78962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gas is collected over water at 22.5°C.  Find the pressure of the dry gas if the atmospheric pressure is 94.4 k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6120" y="3333600"/>
            <a:ext cx="0" cy="328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8941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5120" y="5940360"/>
            <a:ext cx="3838680" cy="789120"/>
          </a:xfrm>
          <a:prstGeom prst="wedgeRectCallout">
            <a:avLst>
              <a:gd name="adj1" fmla="val -4050"/>
              <a:gd name="adj2" fmla="val -94870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</a:rPr>
              <a:t>Look up water-vapor pressure on p.899 for 22.5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Times New Roman"/>
              </a:rPr>
              <a:t>°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92760" y="5940360"/>
            <a:ext cx="3838320" cy="789120"/>
          </a:xfrm>
          <a:prstGeom prst="wedgeRectCallout">
            <a:avLst>
              <a:gd name="adj1" fmla="val -34740"/>
              <a:gd name="adj2" fmla="val -70324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</a:rPr>
              <a:t>Sig Figs: Round to least number of decimal pla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0160" y="2482920"/>
            <a:ext cx="8729640" cy="788760"/>
          </a:xfrm>
          <a:prstGeom prst="wedgeRectCallout">
            <a:avLst>
              <a:gd name="adj1" fmla="val -32467"/>
              <a:gd name="adj2" fmla="val -47384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2"/>
                </a:solidFill>
                <a:latin typeface="Arial"/>
              </a:rPr>
              <a:t>The total pressure in the collection bottle is equal to atmospheric pressure and is a mixture of H</a:t>
            </a:r>
            <a:r>
              <a:rPr b="0" lang="en-US" sz="2200" spc="-1" strike="noStrike" baseline="-25000">
                <a:solidFill>
                  <a:srgbClr val="001932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1932"/>
                </a:solidFill>
                <a:latin typeface="Arial"/>
              </a:rPr>
              <a:t> and water vapo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3333600"/>
            <a:ext cx="9131400" cy="328464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25680"/>
            <a:ext cx="3773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742.0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42.2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11480" y="3325680"/>
            <a:ext cx="51325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42.0 torr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2.2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700.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87040" y="1077840"/>
            <a:ext cx="8256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 is collected over water at a temp of 35.0°C when the barometric pressure is 742.0 torr.  What is the partial pressure of the dry ga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6120" y="3333600"/>
            <a:ext cx="0" cy="328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8941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5120" y="5940360"/>
            <a:ext cx="3838680" cy="789120"/>
          </a:xfrm>
          <a:prstGeom prst="wedgeRectCallout">
            <a:avLst>
              <a:gd name="adj1" fmla="val -4050"/>
              <a:gd name="adj2" fmla="val -94870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</a:rPr>
              <a:t>Look up water-vapor pressure on p.899 for 35.0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Times New Roman"/>
              </a:rPr>
              <a:t>°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92760" y="5940360"/>
            <a:ext cx="3838320" cy="789120"/>
          </a:xfrm>
          <a:prstGeom prst="wedgeRectCallout">
            <a:avLst>
              <a:gd name="adj1" fmla="val -34740"/>
              <a:gd name="adj2" fmla="val -70324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</a:rPr>
              <a:t>Sig Figs: Round to least number of decimal pla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"/>
          <p:cNvSpPr/>
          <p:nvPr/>
        </p:nvSpPr>
        <p:spPr>
          <a:xfrm>
            <a:off x="200160" y="2482920"/>
            <a:ext cx="8729640" cy="788760"/>
          </a:xfrm>
          <a:prstGeom prst="wedgeRectCallout">
            <a:avLst>
              <a:gd name="adj1" fmla="val -32467"/>
              <a:gd name="adj2" fmla="val -47384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2"/>
                </a:solidFill>
                <a:latin typeface="Arial"/>
              </a:rPr>
              <a:t>The total pressure in the collection bottle is equal to barometric pressure and is a mixture of the “gas” and water vapo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475160" y="3773520"/>
            <a:ext cx="4041720" cy="2597040"/>
            <a:chOff x="4475160" y="3773520"/>
            <a:chExt cx="4041720" cy="2597040"/>
          </a:xfrm>
        </p:grpSpPr>
        <p:sp>
          <p:nvSpPr>
            <p:cNvPr id="132" name=""/>
            <p:cNvSpPr/>
            <p:nvPr/>
          </p:nvSpPr>
          <p:spPr>
            <a:xfrm>
              <a:off x="4475160" y="3773520"/>
              <a:ext cx="4041720" cy="2597040"/>
            </a:xfrm>
            <a:prstGeom prst="ellips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5291280" y="3973320"/>
                  <a:ext cx="2409840" cy="21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"/>
          <p:cNvGrpSpPr/>
          <p:nvPr/>
        </p:nvGrpSpPr>
        <p:grpSpPr>
          <a:xfrm>
            <a:off x="1136520" y="4189320"/>
            <a:ext cx="3020400" cy="2668320"/>
            <a:chOff x="1136520" y="4189320"/>
            <a:chExt cx="3020400" cy="2668320"/>
          </a:xfrm>
        </p:grpSpPr>
        <p:sp>
          <p:nvSpPr>
            <p:cNvPr id="135" name=""/>
            <p:cNvSpPr/>
            <p:nvPr/>
          </p:nvSpPr>
          <p:spPr>
            <a:xfrm>
              <a:off x="1136520" y="4982040"/>
              <a:ext cx="4899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33040" y="6263640"/>
              <a:ext cx="4885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626480" y="4189320"/>
              <a:ext cx="2530440" cy="2089800"/>
              <a:chOff x="1626480" y="4189320"/>
              <a:chExt cx="2530440" cy="2089800"/>
            </a:xfrm>
          </p:grpSpPr>
          <p:sp>
            <p:nvSpPr>
              <p:cNvPr id="138" name=""/>
              <p:cNvSpPr/>
              <p:nvPr/>
            </p:nvSpPr>
            <p:spPr>
              <a:xfrm>
                <a:off x="1626480" y="4189320"/>
                <a:ext cx="0" cy="2089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26480" y="6279120"/>
                <a:ext cx="2530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1626480" y="4685400"/>
                <a:ext cx="2111040" cy="144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A. Avogadro’s Principle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77840" y="1214280"/>
            <a:ext cx="62658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 volumes of gases contain equal numbers of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constant temp &amp;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for any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14623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57640" y="1368360"/>
            <a:ext cx="163188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PV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57280" y="1368360"/>
            <a:ext cx="163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Arial"/>
              </a:rPr>
              <a:t>V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Arial"/>
              </a:rPr>
              <a:t>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9720" y="1374840"/>
            <a:ext cx="1631880" cy="2417760"/>
          </a:xfrm>
          <a:prstGeom prst="rect">
            <a:avLst/>
          </a:prstGeom>
          <a:solidFill>
            <a:srgbClr val="175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PV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nT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B. Ideal Ga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335400" y="1954080"/>
            <a:ext cx="3230280" cy="1293840"/>
            <a:chOff x="3335400" y="1954080"/>
            <a:chExt cx="3230280" cy="1293840"/>
          </a:xfrm>
        </p:grpSpPr>
        <p:sp>
          <p:nvSpPr>
            <p:cNvPr id="149" name=""/>
            <p:cNvSpPr/>
            <p:nvPr/>
          </p:nvSpPr>
          <p:spPr>
            <a:xfrm>
              <a:off x="4933800" y="1954080"/>
              <a:ext cx="1631880" cy="1293840"/>
            </a:xfrm>
            <a:prstGeom prst="rect">
              <a:avLst/>
            </a:prstGeom>
            <a:solidFill>
              <a:srgbClr val="17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ffff99"/>
                  </a:solidFill>
                  <a:latin typeface="Arial"/>
                </a:rPr>
                <a:t>= k</a:t>
              </a:r>
              <a:endParaRPr b="0" lang="en-US" sz="6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35400" y="2460600"/>
              <a:ext cx="1476360" cy="1440"/>
            </a:xfrm>
            <a:prstGeom prst="line">
              <a:avLst/>
            </a:prstGeom>
            <a:ln w="127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68280" y="3350880"/>
            <a:ext cx="7196400" cy="30754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284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UNIVERSAL GAS CONST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R=0.0821 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atm/mo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R=8.315 dm</a:t>
            </a:r>
            <a:r>
              <a:rPr b="0" lang="en-US" sz="4400" spc="-1" strike="noStrike" baseline="30000">
                <a:solidFill>
                  <a:srgbClr val="001932"/>
                </a:solidFill>
                <a:latin typeface="DomCasual BT"/>
              </a:rPr>
              <a:t>3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Pa/mo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004160" y="2060640"/>
            <a:ext cx="906480" cy="1627200"/>
          </a:xfrm>
          <a:custGeom>
            <a:avLst/>
            <a:gdLst>
              <a:gd name="textAreaLeft" fmla="*/ 0 w 906480"/>
              <a:gd name="textAreaRight" fmla="*/ 906840 w 90648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40" stAng="10800000" swAng="5400000"/>
                <a:lnTo>
                  <a:pt x="16364" y="4420"/>
                </a:lnTo>
                <a:lnTo>
                  <a:pt x="16364" y="0"/>
                </a:lnTo>
                <a:lnTo>
                  <a:pt x="21600" y="6079"/>
                </a:lnTo>
                <a:lnTo>
                  <a:pt x="16364" y="12158"/>
                </a:lnTo>
                <a:lnTo>
                  <a:pt x="16364" y="7738"/>
                </a:lnTo>
                <a:lnTo>
                  <a:pt x="12427" y="7738"/>
                </a:lnTo>
                <a:arcTo wR="9109" hR="4422" stAng="16200000" swAng="-5400000"/>
                <a:lnTo>
                  <a:pt x="3318" y="21600"/>
                </a:lnTo>
                <a:close/>
              </a:path>
            </a:pathLst>
          </a:custGeom>
          <a:solidFill>
            <a:srgbClr val="99ffcc"/>
          </a:solidFill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13200" y="1960560"/>
            <a:ext cx="1998720" cy="1293840"/>
          </a:xfrm>
          <a:prstGeom prst="rect">
            <a:avLst/>
          </a:prstGeom>
          <a:solidFill>
            <a:srgbClr val="175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= R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70440" y="640080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don’t need to memorize these valu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8600" y="1093680"/>
            <a:ext cx="78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ge the Combined Gas Law with Avogadro’s Princi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B. Ideal Ga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" name=""/>
          <p:cNvSpPr/>
          <p:nvPr/>
        </p:nvSpPr>
        <p:spPr>
          <a:xfrm>
            <a:off x="1336680" y="3470040"/>
            <a:ext cx="7450200" cy="30754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284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UNIVERSAL GAS CONST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R=0.0821 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atm/mo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R=8.315 dm</a:t>
            </a:r>
            <a:r>
              <a:rPr b="0" lang="en-US" sz="4400" spc="-1" strike="noStrike" baseline="30000">
                <a:solidFill>
                  <a:srgbClr val="001932"/>
                </a:solidFill>
                <a:latin typeface="DomCasual BT"/>
              </a:rPr>
              <a:t>3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Pa/mo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00240" y="944640"/>
            <a:ext cx="5835600" cy="280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1932"/>
                </a:solidFill>
                <a:latin typeface="Arial"/>
              </a:rPr>
              <a:t>PV=nR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70440" y="640728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don’t need to memorize these valu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698920"/>
            <a:ext cx="9131400" cy="384624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690640"/>
            <a:ext cx="3773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 = ? at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 = 0.412 mo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 = 16°C = 289 K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V = 3.25 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 = 0.0821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tm/mol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78200" y="2690640"/>
            <a:ext cx="536580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V = nR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(3.25)=(0.412)(0.0821)(289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            mol    L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tm/mol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P = 3.01 at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. Ideal Gas Law Problems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6160" y="1012320"/>
            <a:ext cx="80978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249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culate the pressure in atmospheres of 0.412 mol of He at 16°C &amp; occupying 3.25 L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6120" y="2698920"/>
            <a:ext cx="0" cy="383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59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698920"/>
            <a:ext cx="9131400" cy="415908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90640"/>
            <a:ext cx="38242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85 g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25°C = 298 K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104.5 kP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8.315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Pa/mol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. Ideal Gas Law Problems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1480" y="1014480"/>
            <a:ext cx="775656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49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nd the volume of 85 g of 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t 25°C and 104.5 kPa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6120" y="2698920"/>
            <a:ext cx="0" cy="415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59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5040" y="3930480"/>
            <a:ext cx="202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 2.7 mo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778200" y="2690640"/>
            <a:ext cx="5365800" cy="1924200"/>
            <a:chOff x="3778200" y="2690640"/>
            <a:chExt cx="5365800" cy="1924200"/>
          </a:xfrm>
        </p:grpSpPr>
        <p:sp>
          <p:nvSpPr>
            <p:cNvPr id="175" name=""/>
            <p:cNvSpPr/>
            <p:nvPr/>
          </p:nvSpPr>
          <p:spPr>
            <a:xfrm>
              <a:off x="3778200" y="2690640"/>
              <a:ext cx="5365800" cy="19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WORK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"/>
                </a:rPr>
                <a:t>85 g   1 mol    = 2.7 mol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0" lang="en-US" sz="3500" spc="-1" strike="noStrike">
                  <a:solidFill>
                    <a:srgbClr val="ffffff"/>
                  </a:solidFill>
                  <a:latin typeface="Arial"/>
                </a:rPr>
                <a:t>32.00 g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35440" y="3933720"/>
              <a:ext cx="277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73680" y="3402000"/>
              <a:ext cx="0" cy="103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809880" y="4651200"/>
            <a:ext cx="53226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V = nR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104.5)V=(2.7)  (8.315)  (298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Pa             mol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Pa/mol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V = 64 dm</a:t>
            </a:r>
            <a:r>
              <a:rPr b="1" lang="en-US" sz="35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77840" y="1055520"/>
            <a:ext cx="610236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otal pressure of a mixture of gases equals the sum of the partial pressures of the individual ga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55920" y="4840200"/>
            <a:ext cx="6495480" cy="1107720"/>
            <a:chOff x="1555920" y="4840200"/>
            <a:chExt cx="6495480" cy="1107720"/>
          </a:xfrm>
        </p:grpSpPr>
        <p:sp>
          <p:nvSpPr>
            <p:cNvPr id="182" name=""/>
            <p:cNvSpPr/>
            <p:nvPr/>
          </p:nvSpPr>
          <p:spPr>
            <a:xfrm>
              <a:off x="1555920" y="4840200"/>
              <a:ext cx="6330600" cy="1008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80480" y="4917600"/>
              <a:ext cx="637092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+ ...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rcRect l="22558" t="4460" r="34025" b="48710"/>
          <a:stretch/>
        </p:blipFill>
        <p:spPr>
          <a:xfrm>
            <a:off x="1214280" y="1211400"/>
            <a:ext cx="1582920" cy="1784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333600"/>
            <a:ext cx="9131400" cy="328464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25680"/>
            <a:ext cx="3773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CO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285 tor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= 593.525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11480" y="3325680"/>
            <a:ext cx="51325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CO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atm = 0.000375 atm + .780954 atm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219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95480" y="1077840"/>
            <a:ext cx="78962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5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of the primary components of air ar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In a sample containing only these three gases at a pressure of 1.00 atm,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O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285 torr and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593.525 torr.  What is the partial pressure of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6120" y="3333600"/>
            <a:ext cx="0" cy="328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8941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8800" y="5092560"/>
            <a:ext cx="2801880" cy="1323000"/>
          </a:xfrm>
          <a:prstGeom prst="rect">
            <a:avLst/>
          </a:prstGeom>
          <a:solidFill>
            <a:srgbClr val="175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.000375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.780954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43080" y="1143000"/>
            <a:ext cx="3821040" cy="2411280"/>
          </a:xfrm>
          <a:prstGeom prst="rect">
            <a:avLst/>
          </a:prstGeom>
          <a:ln w="28440">
            <a:solidFill>
              <a:srgbClr val="001932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5240160" y="1241280"/>
            <a:ext cx="37116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as is collected by water displacement, the gas in the collection bottle is actually a mixture of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water vap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01760" y="3557520"/>
            <a:ext cx="675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exerts a pressure known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ter-vapor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, to determine total pressure of gas and water vapor inside a container, make total pressure inside bottle = atmosphere and use this formu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339920" y="5850000"/>
            <a:ext cx="6495480" cy="1107720"/>
            <a:chOff x="1339920" y="5850000"/>
            <a:chExt cx="6495480" cy="1107720"/>
          </a:xfrm>
        </p:grpSpPr>
        <p:sp>
          <p:nvSpPr>
            <p:cNvPr id="198" name=""/>
            <p:cNvSpPr/>
            <p:nvPr/>
          </p:nvSpPr>
          <p:spPr>
            <a:xfrm>
              <a:off x="1339920" y="5850000"/>
              <a:ext cx="6330600" cy="1008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64480" y="5927400"/>
              <a:ext cx="637092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atm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gas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20:14:20Z</dcterms:created>
  <dc:creator>Robert E. Johannesson</dc:creator>
  <dc:description/>
  <dc:language>en-US</dc:language>
  <cp:lastModifiedBy>dell</cp:lastModifiedBy>
  <cp:lastPrinted>2000-02-27T23:02:41Z</cp:lastPrinted>
  <dcterms:modified xsi:type="dcterms:W3CDTF">2014-11-16T17:37:26Z</dcterms:modified>
  <cp:revision>178</cp:revision>
  <dc:subject/>
  <dc:title>V. Two More Gas Law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230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geocities.com/CollegePark/Locker/3195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Data\Christy's Stuff\Teaching Stuff\99-00 School Year\Lessons\Stoichiometry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