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ngel.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F15C9-51DC-48CD-B5DA-7FCE138EC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CDB23-3810-455B-A677-431F92ED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BE0AB-DA5B-4914-ACCD-5590E9C2F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5694C-7A6F-43A9-9A8A-EFB5640C7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1AFE2-3F8C-4A37-B98B-480D1DFB6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7B848-B632-41EF-818A-439C839D8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AD7BB-8694-477C-BB04-5229DE6F3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95588-2FD9-43C9-8E12-F9569E0D8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BC73D-5DB1-4FC0-99A0-485E95E7A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FC716-6B2A-48AF-A19B-A98917962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BBDB0-E083-4D42-86A2-319335F16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94EE-D95F-480A-907B-B8A676800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AE65A-95C7-4EB9-A1F5-CCC9ACC19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FECA-E652-4AE0-8D0F-FCEFA5CFB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BCA11-4056-4FAD-B15D-8B204C63F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F605A-4D5B-4FC4-AB5F-429BC7F4D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9656C-5B4D-4224-B856-C88863354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664D-647C-4CEB-A847-B444539BC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B6098-9527-4861-ACC8-B11121B7D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13DF1-ACBB-43F9-9FF1-7EC78336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B372-BCB6-49BF-86AA-27E584845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E5F1F-48F2-4AFA-82B0-40FFE880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41D8B-DDED-4A3F-B500-815E0C433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5D8BC-4905-4F60-B120-F6E4C9DEA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Unicode MS"/>
              </a:rPr>
              <a:t>Click to edit the title text format</a:t>
            </a:r>
            <a:endParaRPr b="1" lang="en-US" sz="4400" spc="-1" strike="noStrike">
              <a:solidFill>
                <a:srgbClr val="feec94"/>
              </a:solidFill>
              <a:latin typeface="Arial Unicode MS"/>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1292-1F6A-4C5B-A127-08B6224E6FDA}" type="slidenum">
              <a:rPr b="0" lang="en-US" sz="1400" spc="-1" strike="noStrike">
                <a:solidFill>
                  <a:srgbClr val="ffffff"/>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Unicode MS"/>
              </a:rPr>
              <a:t>Click to edit the title text format</a:t>
            </a:r>
            <a:endParaRPr b="1" lang="en-US" sz="5400" spc="-1" strike="noStrike">
              <a:solidFill>
                <a:srgbClr val="feec94"/>
              </a:solidFill>
              <a:latin typeface="Arial Unicode MS"/>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20F0-281B-49E2-B053-9D912AFECFE1}" type="slidenum">
              <a:rPr b="0" lang="en-US" sz="1400" spc="-1" strike="noStrike">
                <a:solidFill>
                  <a:srgbClr val="ffffff"/>
                </a:solidFill>
                <a:latin typeface="Arial Unicode MS"/>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nge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Arial Unicode MS"/>
              </a:rPr>
              <a:t>WANITA</a:t>
            </a:r>
            <a:endParaRPr b="1" lang="en-US" sz="4800" spc="-1" strike="noStrike">
              <a:solidFill>
                <a:srgbClr val="feec94"/>
              </a:solidFill>
              <a:latin typeface="Arial Unicode MS"/>
            </a:endParaRPr>
          </a:p>
        </p:txBody>
      </p:sp>
      <p:sp>
        <p:nvSpPr>
          <p:cNvPr id="121" name="PlaceHolder 2"/>
          <p:cNvSpPr>
            <a:spLocks noGrp="1"/>
          </p:cNvSpPr>
          <p:nvPr>
            <p:ph type="subTitle"/>
          </p:nvPr>
        </p:nvSpPr>
        <p:spPr>
          <a:xfrm>
            <a:off x="539640" y="1939680"/>
            <a:ext cx="7920000" cy="40100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Ketika Tuhan menciptakan wanita, DIA lembur pada hari ke-enam.</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Malaikat datang dan bertanya,”Mengapa begitu lama, Tuhan?”</a:t>
            </a:r>
            <a:r>
              <a:rPr b="0" lang="es-MX" sz="2800" spc="-1" strike="noStrike">
                <a:solidFill>
                  <a:srgbClr val="ffffcc"/>
                </a:solidFill>
                <a:latin typeface="Arial Unicode MS"/>
              </a:rPr>
              <a:t> </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Tuhan menjawab:</a:t>
            </a:r>
            <a:br>
              <a:rPr sz="2800"/>
            </a:br>
            <a:r>
              <a:rPr b="0" lang="es-MX" sz="2800" spc="-1" strike="noStrike">
                <a:solidFill>
                  <a:srgbClr val="100800"/>
                </a:solidFill>
                <a:latin typeface="Arial Unicode MS"/>
              </a:rPr>
              <a:t>“Sudahkan engkau lihat semua detail yang saya buat untuk menciptakan mereka?"</a:t>
            </a:r>
            <a:endParaRPr b="0" lang="en-US" sz="2800" spc="-1" strike="noStrike">
              <a:solidFill>
                <a:srgbClr val="ffffff"/>
              </a:solidFill>
              <a:latin typeface="Arial Unicode MS"/>
            </a:endParaRPr>
          </a:p>
        </p:txBody>
      </p:sp>
    </p:spTree>
  </p:cSld>
  <p:transition spd="slow" advTm="15000">
    <p:push dir="d"/>
    <p:sndAc>
      <p:stSnd>
        <p:snd r:embed="rId1" name="ange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887480"/>
            <a:ext cx="8229600" cy="2765520"/>
          </a:xfrm>
          <a:prstGeom prst="rect">
            <a:avLst/>
          </a:prstGeom>
          <a:noFill/>
          <a:ln w="0">
            <a:noFill/>
          </a:ln>
        </p:spPr>
        <p:txBody>
          <a:bodyPr lIns="90000" rIns="90000" tIns="46800" bIns="46800" anchor="t">
            <a:normAutofit fontScale="76000"/>
          </a:bodyPr>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enangis saat melihat anaknya adalah pemenang. </a:t>
            </a: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girang dan bersorak saat melihat kawannya tertawa . </a:t>
            </a: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begitu bahagia mendengar kelahiran.</a:t>
            </a:r>
            <a:endParaRPr b="0" lang="en-US" sz="3200" spc="-1" strike="noStrike">
              <a:solidFill>
                <a:srgbClr val="ffffff"/>
              </a:solidFill>
              <a:latin typeface="Arial Unicode MS"/>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Hatinya begitu sedih mendengar berita sakit dan kematian.</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Tetapi dia selalu punya kekuatan untuk mengatasi hidup.</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tahu bahwa sebuah ciuman dan pelukan dapat menyembuhkan luka. </a:t>
            </a:r>
            <a:endParaRPr b="0" lang="en-US" sz="3200" spc="-1" strike="noStrike">
              <a:solidFill>
                <a:srgbClr val="ffffff"/>
              </a:solidFill>
              <a:latin typeface="Arial Unicode MS"/>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520" y="1371240"/>
            <a:ext cx="8229600" cy="10256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Hanya ada satu hal yang kurang dari wanita:</a:t>
            </a:r>
            <a:endParaRPr b="0" lang="en-US" sz="3200" spc="-1" strike="noStrike">
              <a:solidFill>
                <a:srgbClr val="ffffff"/>
              </a:solidFill>
              <a:latin typeface="Arial Unicode MS"/>
            </a:endParaRPr>
          </a:p>
        </p:txBody>
      </p:sp>
      <p:sp>
        <p:nvSpPr>
          <p:cNvPr id="133" name=""/>
          <p:cNvSpPr/>
          <p:nvPr/>
        </p:nvSpPr>
        <p:spPr>
          <a:xfrm>
            <a:off x="324000" y="299736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cc66"/>
                </a:solidFill>
                <a:latin typeface="Arial Unicode MS"/>
              </a:rPr>
              <a:t>Dia lupa betapa berharganya dia...</a:t>
            </a:r>
            <a:endParaRPr b="0" lang="en-US" sz="54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50560" y="691920"/>
            <a:ext cx="8497800" cy="554508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 </a:t>
            </a:r>
            <a:r>
              <a:rPr b="0" lang="es-MX" sz="3200" spc="-1" strike="noStrike">
                <a:solidFill>
                  <a:srgbClr val="100800"/>
                </a:solidFill>
                <a:latin typeface="Arial Unicode MS"/>
              </a:rPr>
              <a:t>2 Tangan ini harus bisa dibersihkan, tetapi bahannya bukan dari plastik. Setidaknya terdiri dari 200 bagian yang bisa digerakkan dan berfungsi baik untuk segala jenis makanan. Mampu menjaga banyak anak saat yang bersamaan. Punya pelukan yang dapat menyembuhkan sakit hati dan keterpurukan… , dan semua dilakukannya cukup dengan dua tangan ini ”</a:t>
            </a:r>
            <a:endParaRPr b="0" lang="en-US" sz="3200" spc="-1" strike="noStrike">
              <a:solidFill>
                <a:srgbClr val="ffffff"/>
              </a:solidFill>
              <a:latin typeface="Arial Unicode MS"/>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360"/>
            <a:ext cx="8229600" cy="5400720"/>
          </a:xfrm>
          <a:prstGeom prst="rect">
            <a:avLst/>
          </a:prstGeom>
          <a:noFill/>
          <a:ln w="0">
            <a:noFill/>
          </a:ln>
        </p:spPr>
        <p:txBody>
          <a:bodyPr lIns="90000" rIns="90000" tIns="46800" bIns="46800" anchor="t">
            <a:normAutofit fontScale="98000"/>
          </a:bodyPr>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Unicode MS"/>
              </a:rPr>
              <a:t>Malaikat itu takjub.</a:t>
            </a:r>
            <a:endParaRPr b="0" lang="en-US" sz="4400" spc="-1" strike="noStrike">
              <a:solidFill>
                <a:srgbClr val="ffffff"/>
              </a:solidFill>
              <a:latin typeface="Arial Unicode MS"/>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Hanya dengan dua tangan?....impossible!“</a:t>
            </a:r>
            <a:endParaRPr b="0" lang="en-US" sz="3200" spc="-1" strike="noStrike">
              <a:solidFill>
                <a:srgbClr val="ffffff"/>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an itu model standard?! </a:t>
            </a:r>
            <a:endParaRPr b="0" lang="en-US" sz="3200" spc="-1" strike="noStrike">
              <a:solidFill>
                <a:srgbClr val="ffffff"/>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Sudahlah TUHAN, cukup dulu untuk hari ini, besok kita lanjutkan lagi untuk menyempurnakannya“.</a:t>
            </a:r>
            <a:endParaRPr b="0" lang="en-US" sz="3200" spc="-1" strike="noStrike">
              <a:solidFill>
                <a:srgbClr val="ffffff"/>
              </a:solidFill>
              <a:latin typeface="Arial Unicode MS"/>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835200"/>
            <a:ext cx="8229600" cy="4681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Oh.. Tidak, SAYA akan menyelesaikan ciptaan ini, karena ini adalah ciptaan favorit SAYA”. </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O yah… Dia juga akan mampu menyembuhkan dirinya sendiri, dan bisa bekerja 18 jam sehari”. </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Malaikat mendekat dan mengamati bentuk wanita-ciptaan TUHAN itu. </a:t>
            </a:r>
            <a:endParaRPr b="0" lang="en-US" sz="2800" spc="-1" strike="noStrike">
              <a:solidFill>
                <a:srgbClr val="ffffff"/>
              </a:solidFill>
              <a:latin typeface="Arial Unicode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a:t>
            </a:r>
            <a:r>
              <a:rPr b="0" lang="es-MX" sz="2800" spc="-1" strike="noStrike">
                <a:solidFill>
                  <a:srgbClr val="ffffff"/>
                </a:solidFill>
                <a:latin typeface="Arial Unicode MS"/>
              </a:rPr>
              <a:t>Tapi ENGKAU membuatnya begitu lembut TUHAN ?” </a:t>
            </a:r>
            <a:br>
              <a:rPr sz="2800"/>
            </a:br>
            <a:br>
              <a:rPr sz="2800"/>
            </a:br>
            <a:r>
              <a:rPr b="0" lang="es-MX" sz="2800" spc="-1" strike="noStrike">
                <a:solidFill>
                  <a:srgbClr val="100800"/>
                </a:solidFill>
                <a:latin typeface="Arial Unicode MS"/>
              </a:rPr>
              <a:t>“Yah.. SAYA membuatnya lembut. Tapi ENGKAU belum bisa bayangkan kekuatan yang SAYA berikan agar mereka dapat mengatasi banyak hal yang luar biasa.“</a:t>
            </a: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Dia bisa berpikir?”, tanya malaikat.</a:t>
            </a:r>
            <a:r>
              <a:rPr b="0" lang="es-MX" sz="2800" spc="-1" strike="noStrike">
                <a:solidFill>
                  <a:srgbClr val="ffffff"/>
                </a:solidFill>
                <a:latin typeface="Arial Unicode MS"/>
              </a:rPr>
              <a:t>  </a:t>
            </a: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Tuhan menjawab:</a:t>
            </a: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Tidak hanya berpikir, dia mampu bernegosiasi."</a:t>
            </a:r>
            <a:endParaRPr b="0" lang="en-US" sz="2800" spc="-1" strike="noStrike">
              <a:solidFill>
                <a:srgbClr val="ffffff"/>
              </a:solidFill>
              <a:latin typeface="Arial Unicode MS"/>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66560" y="1052280"/>
            <a:ext cx="8282160" cy="5113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Malaikat itu menyentuh dagunya....</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Arial Unicode MS"/>
              </a:rPr>
              <a:t>“</a:t>
            </a:r>
            <a:r>
              <a:rPr b="0" lang="es-MX" sz="3200" spc="-1" strike="noStrike">
                <a:solidFill>
                  <a:srgbClr val="ffffff"/>
                </a:solidFill>
                <a:latin typeface="Arial Unicode MS"/>
              </a:rPr>
              <a:t>TUHAN, ENGKAU buat ciptaan ini kelihatan lelah &amp; rapuh! Seolah terlalu banyak beban baginya.”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Itu bukan lelah atau rapuh....itu air mata”, koreksi TUHAN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Untuk apa?”, tanya malaikat</a:t>
            </a:r>
            <a:endParaRPr b="0" lang="en-US" sz="3200" spc="-1" strike="noStrike">
              <a:solidFill>
                <a:srgbClr val="ffffff"/>
              </a:solidFill>
              <a:latin typeface="Arial Unicode MS"/>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268280"/>
            <a:ext cx="8229600" cy="4530960"/>
          </a:xfrm>
          <a:prstGeom prst="rect">
            <a:avLst/>
          </a:prstGeom>
          <a:no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TUHAN melanjutkan: </a:t>
            </a:r>
            <a:endParaRPr b="0" lang="en-US" sz="2800" spc="-1" strike="noStrike">
              <a:solidFill>
                <a:srgbClr val="ffffff"/>
              </a:solidFill>
              <a:latin typeface="Arial Unicode MS"/>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Air mata adalah salah satu cara dia mengekspressikan kegembiraan, kegalauan, cinta, kesepian, penderitaan dan kebanggaan.”</a:t>
            </a:r>
            <a:endParaRPr b="0" lang="en-US" sz="2800" spc="-1" strike="noStrike">
              <a:solidFill>
                <a:srgbClr val="ffffff"/>
              </a:solidFill>
              <a:latin typeface="Arial Unicode MS"/>
            </a:endParaRPr>
          </a:p>
          <a:p>
            <a:pPr marL="31896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Luar biasa, ENGKAU jenius TUHAN” kata malaikat.</a:t>
            </a:r>
            <a:endParaRPr b="0" lang="en-US" sz="2800" spc="-1" strike="noStrike">
              <a:solidFill>
                <a:srgbClr val="ffffff"/>
              </a:solidFill>
              <a:latin typeface="Arial Unicode MS"/>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ENGKAU memikirkan segala sesuatunya, wanita- ciptaanMU ini akan sungguh menakjubkan!"</a:t>
            </a:r>
            <a:endParaRPr b="0" lang="en-US" sz="2800" spc="-1" strike="noStrike">
              <a:solidFill>
                <a:srgbClr val="ffffff"/>
              </a:solidFill>
              <a:latin typeface="Arial Unicode MS"/>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Ya mestii…!</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Wanita ini akan mempunyai kekuatan mempesona laki-laki. Dia dapat mengatasi beban bahkan melebihi laki-laki.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ampu menyimpan kebahagiaan dan pendapatnya sendiri.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ampu tersenyum bahkan saat hatinya menjerit.</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Mampu menyanyi saat menangis, menangis saat terharu, bahkan tertawa saat ketakutan. </a:t>
            </a:r>
            <a:endParaRPr b="0" lang="en-US" sz="3200" spc="-1" strike="noStrike">
              <a:solidFill>
                <a:srgbClr val="ffffff"/>
              </a:solidFill>
              <a:latin typeface="Arial Unicode MS"/>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836280"/>
            <a:ext cx="8229600" cy="504036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berkorban demi orang yang dicintainya.</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Mampu berdiri melawan ketidakadilan.</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tidak menolak kalau melihat yang lebih baik.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enerjunkan dirinya untuk keluarganya. Dia membawa temannya yang sakit untuk berobat.</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e020d"/>
                </a:solidFill>
                <a:latin typeface="Arial Unicode MS"/>
              </a:rPr>
              <a:t>Cintanya tanpa syarat.</a:t>
            </a:r>
            <a:r>
              <a:rPr b="0" lang="es-MX" sz="3200" spc="-1" strike="noStrike">
                <a:solidFill>
                  <a:srgbClr val="100800"/>
                </a:solidFill>
                <a:latin typeface="Arial Unicode MS"/>
              </a:rPr>
              <a:t> </a:t>
            </a:r>
            <a:endParaRPr b="0" lang="en-US" sz="3200" spc="-1" strike="noStrike">
              <a:solidFill>
                <a:srgbClr val="ffffff"/>
              </a:solidFill>
              <a:latin typeface="Arial Unicode MS"/>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9T15:36:13Z</dcterms:created>
  <dc:creator>Tusse Fant</dc:creator>
  <dc:description/>
  <dc:language>en-US</dc:language>
  <cp:lastModifiedBy>ACER</cp:lastModifiedBy>
  <dcterms:modified xsi:type="dcterms:W3CDTF">2006-10-09T06:20:30Z</dcterms:modified>
  <cp:revision>15</cp:revision>
  <dc:subject/>
  <dc:title>Feilen med kvinner</dc:title>
</cp:coreProperties>
</file>