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047-ECC9-45D3-A9F7-1C08AE7B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41F-A98E-4884-8B60-75A25F9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565-2DD2-4450-8509-F952AF8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5F4-574C-416B-9CB6-98D81C35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EFB-ED0E-4F07-81AA-1359ACAF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68D-7349-4D90-B567-B8FE5A76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349-2BB6-416C-B6A7-DE311FA6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175-C316-42CF-845C-45C12A5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481-36E3-48A8-846B-41DD2B0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9FA-DC9B-4BEC-BE3A-D8E7CFA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757-D97C-4A4E-84E7-FE7AB86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239-4F46-4186-8EE7-367311D3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32B-193D-4777-8A49-FD9AB7384D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5:12:41Z</dcterms:modified>
  <cp:revision>24</cp:revision>
  <dc:subject/>
  <dc:title>슬라이드 1</dc:title>
</cp:coreProperties>
</file>