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531-54FB-4B75-963E-852517F4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61B-A232-4B73-B153-A53E9D97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6FA-54AF-4A75-9A1E-FFF47957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B40-F369-4826-A94E-33FCD0CE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8AC-D081-4906-8F0E-5E8B056B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4FE-F3AC-4B2D-AD28-A373ADC3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55A-D4C0-46E7-AF9E-F77C64B0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C9A-FE4A-4021-9915-C599F47C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248-4879-4238-841B-C8F54D62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8B9-DB07-48F7-A5BD-3EBC59B3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5D5-7E35-43E3-9C61-92DC9307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8DB-928D-4859-96CA-B73326DD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3DF0-2D76-4A92-84C2-CF8582AF16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5:12:41Z</dcterms:modified>
  <cp:revision>24</cp:revision>
  <dc:subject/>
  <dc:title>슬라이드 1</dc:title>
</cp:coreProperties>
</file>