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49C-D941-4704-873A-D21610E3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E3A-92DB-4CC0-9A3C-B3D99CD3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5E7-FE5A-4234-8FC0-2091A1EE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AAD-1565-476D-9E9F-AE81E6DF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1F4F-485D-4A47-B639-10897A0E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6EDD-E742-4891-BEA3-9A3673D1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90ED-6752-4AC5-8983-14679530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96EE-D2EA-470A-9C99-06BE9594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87C5-F63C-41BA-8900-16655D6E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8DD5-7088-4A11-9944-A6CC9050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28E7-CECF-4D12-9EC8-265817B9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E6E-3003-4BD8-94B6-3048AFBD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942C-68CE-44EC-AF3E-3B780F67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2B0B-C0DC-49DA-810B-4B02C195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DB0E-525D-4BD1-B432-61CFC6E4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995F-D2E7-4723-8326-2367A0B7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C8E4-1A86-4C8A-8922-048CDA23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D53-1B3C-4FB4-AC46-107DB8C3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DA5-E642-4407-B0BE-C3A4B769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31E-A1A8-4F13-BACB-FE18D6F8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168-4425-4BCB-80D7-BF141107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886-4AB8-4977-8CA8-A266BB4D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49F-1D7A-4E3D-ABF3-CB2EF0DB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741-F928-4AE3-9F3E-C964F487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C270-3619-4211-8D98-3D251BA58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AD0E-0BB7-433E-A438-A544AC671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3.jpeg"/><Relationship Id="rId7" Type="http://schemas.openxmlformats.org/officeDocument/2006/relationships/slide" Target="slide6.xml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3.jpeg"/><Relationship Id="rId11" Type="http://schemas.openxmlformats.org/officeDocument/2006/relationships/hyperlink" Target="file:///../&#1601;&#1607;&#1585;&#1587;%20&#1575;&#1604;&#1578;&#1585;&#1575;&#1606;&#1610;&#1605;.pps" TargetMode="External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360" y="1527120"/>
            <a:ext cx="9540720" cy="14702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وقت شكوكي الاقيك بتجيني </a:t>
            </a:r>
            <a:br>
              <a:rPr sz="6800"/>
            </a:b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اصرخ ليك وأنت تنجيني</a:t>
            </a:r>
            <a:endParaRPr b="0" lang="en-US" sz="6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60000" y="3357720"/>
            <a:ext cx="8388360" cy="22320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القى مشاعر دافية في حضنك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م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أ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نت الحصن اللي بيحميني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للي بتسمع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لي انا ب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ندهلك</a:t>
            </a:r>
            <a:br>
              <a:rPr sz="6800"/>
            </a:b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ي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حمايتي باصرخ محتاجلك</a:t>
            </a:r>
            <a:endParaRPr b="0" lang="en-US" sz="6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3384360"/>
            <a:ext cx="9144000" cy="12682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تبقى معايا والقى حماية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تحفظ قلبي اللي بيشتاقلك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155412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73964" dir="7263564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دايما شهواتي بتخدعني</a:t>
            </a:r>
            <a:br>
              <a:rPr sz="6800"/>
            </a:b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ماتسبنيش يا ابويا ارفعني</a:t>
            </a:r>
            <a:endParaRPr b="0" lang="en-US" sz="6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920" y="3311640"/>
            <a:ext cx="9144000" cy="1557360"/>
          </a:xfrm>
          <a:prstGeom prst="rect">
            <a:avLst/>
          </a:prstGeom>
          <a:noFill/>
          <a:ln w="0">
            <a:noFill/>
          </a:ln>
          <a:effectLst>
            <a:outerShdw dist="73964" dir="7263564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وقت الضعف بلاقي ايديك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من قلب الطين بتطلعني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360" y="165564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للي بتسمع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لي انا بندهلك </a:t>
            </a:r>
            <a:br>
              <a:rPr sz="6800"/>
            </a:b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حمايتي باصرخ محتاجلك</a:t>
            </a:r>
            <a:endParaRPr b="0" lang="en-US" sz="6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1080" y="3960720"/>
            <a:ext cx="9144000" cy="126864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تبقى معايا و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القى حماية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تحفظ قلبي اللي بيشتاقلك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48248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52300" dir="6236435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كل جيوش ابليس حوالي</a:t>
            </a:r>
            <a:br>
              <a:rPr sz="6800"/>
            </a:b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لكن ربي ماسك بايدي</a:t>
            </a:r>
            <a:endParaRPr b="0" lang="en-US" sz="6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1484280"/>
          </a:xfrm>
          <a:prstGeom prst="rect">
            <a:avLst/>
          </a:prstGeom>
          <a:noFill/>
          <a:ln w="0">
            <a:noFill/>
          </a:ln>
          <a:effectLst>
            <a:outerShdw dist="52300" dir="6236435" blurRad="0" rotWithShape="0">
              <a:srgbClr val="ff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انا مش خايف لكن شايف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ربي حبيبي فتح لي عن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ي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ي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5708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للي بتسمع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لي انا بندهلك </a:t>
            </a:r>
            <a:br>
              <a:rPr sz="6800"/>
            </a:b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يا</a:t>
            </a:r>
            <a:r>
              <a:rPr b="1" lang="ar-SA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حمايتي باصرخ محتاجلك</a:t>
            </a:r>
            <a:endParaRPr b="0" lang="en-US" sz="6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8000" y="3960720"/>
            <a:ext cx="9144000" cy="126864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تبقى معايا والقى حماية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6800" spc="-1" strike="noStrike">
                <a:solidFill>
                  <a:srgbClr val="ffff00"/>
                </a:solidFill>
                <a:latin typeface="Arial"/>
              </a:rPr>
              <a:t>تحفظ قلبي اللي بيشتاقلك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ايما شهوات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جيو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7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يا للى بتسمع</a:t>
            </a: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9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وقت شكوك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92">
            <a:hlinkClick r:id="rId11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b7e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5:52:52Z</dcterms:created>
  <dc:creator>MAHER</dc:creator>
  <dc:description/>
  <dc:language>en-US</dc:language>
  <cp:lastModifiedBy>Sp2</cp:lastModifiedBy>
  <dcterms:modified xsi:type="dcterms:W3CDTF">2008-09-13T23:36:36Z</dcterms:modified>
  <cp:revision>8</cp:revision>
  <dc:subject/>
  <dc:title>وقت شكوكي الاقيك بتجيني اصرخ ليك وانت تنجيني</dc:title>
</cp:coreProperties>
</file>