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A836-72C1-4298-BA69-390B0F01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5788-9B6C-40BA-B6FB-0DE3CB5D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A033-FA15-484C-BD9F-61C65C22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3117-B96B-49C8-86AB-A7C85BE3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29C8-AF7A-4A8A-B908-A0CCBE2B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E63C-F0D2-405B-BE27-38467CC3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76E3-EB33-43D6-9676-375F341E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DB05-3EEE-4F97-94C3-36B60F4E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C783-4BEA-4EC9-A868-7C046203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4C9B-BF93-4E2D-972F-13C88EEE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92D3-84EB-45C4-A61C-AC470D75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93B3-29EC-42B7-870E-E32C2626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7394-DAF2-4F87-8B98-C1436F53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33E1-F4E2-4CFA-9768-50AA8DF5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5A3C-C14B-4B35-8F7E-320A3F83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5E74-39A5-4FC8-9E32-3B61F87D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FC80-D868-4145-871D-93B50161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3736-6B17-401B-962E-D856A6C6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A79A-E5C8-4DAE-8C21-B9F539B1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13CC-CF4E-4057-9E15-C55F56E3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9858-0B00-452A-B55E-55338AE3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D0D9-181F-4EC3-8E52-917A497C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98DA-C5D5-4F90-8825-AB8730FD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E29D-5962-4A5B-8580-764530F5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5D66-F1EF-4162-A237-C578ACE5C2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9D82-41A9-4391-ABFD-B123787E9C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image" Target="../media/image3.jpeg"/><Relationship Id="rId5" Type="http://schemas.openxmlformats.org/officeDocument/2006/relationships/slide" Target="slide5.xml"/><Relationship Id="rId6" Type="http://schemas.openxmlformats.org/officeDocument/2006/relationships/image" Target="../media/image3.jpeg"/><Relationship Id="rId7" Type="http://schemas.openxmlformats.org/officeDocument/2006/relationships/slide" Target="slide6.xml"/><Relationship Id="rId8" Type="http://schemas.openxmlformats.org/officeDocument/2006/relationships/image" Target="../media/image4.jpeg"/><Relationship Id="rId9" Type="http://schemas.openxmlformats.org/officeDocument/2006/relationships/slide" Target="slide1.xml"/><Relationship Id="rId10" Type="http://schemas.openxmlformats.org/officeDocument/2006/relationships/image" Target="../media/image3.jpeg"/><Relationship Id="rId11" Type="http://schemas.openxmlformats.org/officeDocument/2006/relationships/hyperlink" Target="file:///../&#1601;&#1607;&#1585;&#1587;%20&#1575;&#1604;&#1578;&#1585;&#1575;&#1606;&#1610;&#1605;.pps" TargetMode="External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360" y="1527120"/>
            <a:ext cx="9540720" cy="147024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وقت شكوكي الاقيك بتجيني </a:t>
            </a:r>
            <a:br>
              <a:rPr sz="6800"/>
            </a:b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اصرخ ليك وأنت تنجيني</a:t>
            </a:r>
            <a:endParaRPr b="0" lang="en-US" sz="6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60000" y="3357720"/>
            <a:ext cx="8388360" cy="223200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القى مشاعر دافية في حضنك</a:t>
            </a:r>
            <a:r>
              <a:rPr b="1" lang="ar-SA" sz="6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ما</a:t>
            </a:r>
            <a:r>
              <a:rPr b="1" lang="ar-SA" sz="6800" spc="-1" strike="noStrike">
                <a:solidFill>
                  <a:srgbClr val="ffff00"/>
                </a:solidFill>
                <a:latin typeface="Arial"/>
              </a:rPr>
              <a:t> أ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نت الحصن اللي بيحميني</a:t>
            </a: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يا</a:t>
            </a:r>
            <a:r>
              <a:rPr b="1" lang="ar-SA" sz="6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للي بتسمع</a:t>
            </a:r>
            <a:r>
              <a:rPr b="1" lang="ar-SA" sz="6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لي انا ب</a:t>
            </a:r>
            <a:r>
              <a:rPr b="1" lang="ar-SA" sz="6800" spc="-1" strike="noStrike">
                <a:solidFill>
                  <a:srgbClr val="ffff00"/>
                </a:solidFill>
                <a:latin typeface="Arial"/>
              </a:rPr>
              <a:t>ا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ندهلك</a:t>
            </a:r>
            <a:br>
              <a:rPr sz="6800"/>
            </a:b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 يا</a:t>
            </a:r>
            <a:r>
              <a:rPr b="1" lang="ar-SA" sz="6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حمايتي باصرخ محتاجلك</a:t>
            </a:r>
            <a:endParaRPr b="0" lang="en-US" sz="6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3384360"/>
            <a:ext cx="9144000" cy="12682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تبقى معايا والقى حماية</a:t>
            </a: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تحفظ قلبي اللي بيشتاقلك</a:t>
            </a: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0" y="1554120"/>
            <a:ext cx="9144000" cy="1470240"/>
          </a:xfrm>
          <a:prstGeom prst="rect">
            <a:avLst/>
          </a:prstGeom>
          <a:noFill/>
          <a:ln w="0">
            <a:noFill/>
          </a:ln>
          <a:effectLst>
            <a:outerShdw dist="73964" dir="7263564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دايما شهواتي بتخدعني</a:t>
            </a:r>
            <a:br>
              <a:rPr sz="6800"/>
            </a:b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 ماتسبنيش يا ابويا ارفعني</a:t>
            </a:r>
            <a:endParaRPr b="0" lang="en-US" sz="6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920" y="3311640"/>
            <a:ext cx="9144000" cy="1557360"/>
          </a:xfrm>
          <a:prstGeom prst="rect">
            <a:avLst/>
          </a:prstGeom>
          <a:noFill/>
          <a:ln w="0">
            <a:noFill/>
          </a:ln>
          <a:effectLst>
            <a:outerShdw dist="73964" dir="7263564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وقت الضعف بلاقي ايديك</a:t>
            </a: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من قلب الطين بتطلعني</a:t>
            </a: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360" y="1655640"/>
            <a:ext cx="9144000" cy="147024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يا</a:t>
            </a:r>
            <a:r>
              <a:rPr b="1" lang="ar-SA" sz="6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للي بتسمع</a:t>
            </a:r>
            <a:r>
              <a:rPr b="1" lang="ar-SA" sz="6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لي انا بندهلك </a:t>
            </a:r>
            <a:br>
              <a:rPr sz="6800"/>
            </a:b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يا</a:t>
            </a:r>
            <a:r>
              <a:rPr b="1" lang="ar-SA" sz="6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حمايتي باصرخ محتاجلك</a:t>
            </a:r>
            <a:endParaRPr b="0" lang="en-US" sz="6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81080" y="3960720"/>
            <a:ext cx="9144000" cy="126864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تبقى معايا و</a:t>
            </a:r>
            <a:r>
              <a:rPr b="1" lang="ar-SA" sz="6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القى حماية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تحفظ قلبي اللي بيشتاقلك</a:t>
            </a: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48248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52300" dir="6236435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كل جيوش ابليس حوالي</a:t>
            </a:r>
            <a:br>
              <a:rPr sz="6800"/>
            </a:b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 لكن ربي ماسك بايدي</a:t>
            </a:r>
            <a:endParaRPr b="0" lang="en-US" sz="6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3428640"/>
            <a:ext cx="9144000" cy="1484280"/>
          </a:xfrm>
          <a:prstGeom prst="rect">
            <a:avLst/>
          </a:prstGeom>
          <a:noFill/>
          <a:ln w="0">
            <a:noFill/>
          </a:ln>
          <a:effectLst>
            <a:outerShdw dist="52300" dir="6236435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انا مش خايف لكن شايف</a:t>
            </a:r>
            <a:r>
              <a:rPr b="1" lang="ar-SA" sz="68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ربي حبيبي فتح لي عن</a:t>
            </a:r>
            <a:r>
              <a:rPr b="1" lang="ar-SA" sz="6800" spc="-1" strike="noStrike">
                <a:solidFill>
                  <a:srgbClr val="ffff00"/>
                </a:solidFill>
                <a:latin typeface="Arial"/>
              </a:rPr>
              <a:t>ي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ي</a:t>
            </a: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65708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يا</a:t>
            </a:r>
            <a:r>
              <a:rPr b="1" lang="ar-SA" sz="6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للي بتسمع</a:t>
            </a:r>
            <a:r>
              <a:rPr b="1" lang="ar-SA" sz="6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لي انا بندهلك </a:t>
            </a:r>
            <a:br>
              <a:rPr sz="6800"/>
            </a:b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يا</a:t>
            </a:r>
            <a:r>
              <a:rPr b="1" lang="ar-SA" sz="6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حمايتي باصرخ محتاجلك</a:t>
            </a:r>
            <a:endParaRPr b="0" lang="en-US" sz="6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8000" y="3960720"/>
            <a:ext cx="9144000" cy="126864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تبقى معايا والقى حماية</a:t>
            </a: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تحفظ قلبي اللي بيشتاقلك</a:t>
            </a: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دايما شهوات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كل جيو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7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</a:rPr>
              <a:t> القرار : </a:t>
            </a: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يا للى بتسمع</a:t>
            </a:r>
            <a:r>
              <a:rPr b="1" lang="ar-EG" sz="40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9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وقت شكوك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92">
            <a:hlinkClick r:id="rId11"/>
          </p:cNvPr>
          <p:cNvSpPr/>
          <p:nvPr/>
        </p:nvSpPr>
        <p:spPr>
          <a:xfrm>
            <a:off x="900000" y="260280"/>
            <a:ext cx="2448000" cy="11912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b7e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abic Transparent"/>
              </a:rPr>
              <a:t>فهرس التراني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5T15:52:52Z</dcterms:created>
  <dc:creator>MAHER</dc:creator>
  <dc:description/>
  <dc:language>en-US</dc:language>
  <cp:lastModifiedBy>Sp2</cp:lastModifiedBy>
  <dcterms:modified xsi:type="dcterms:W3CDTF">2008-09-13T23:36:36Z</dcterms:modified>
  <cp:revision>8</cp:revision>
  <dc:subject/>
  <dc:title>وقت شكوكي الاقيك بتجيني اصرخ ليك وانت تنجيني</dc:title>
</cp:coreProperties>
</file>