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044-EE25-4493-8E72-5B106EF5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0FC5-7CBE-4D31-A80F-366DD531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DE0-BBDF-43FB-A1A2-3B118A5E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66F-2D36-42DC-AD21-F87B24F8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E68F-98A1-44E5-AF86-4B5AC619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8FBCC-DEAB-4D77-80D5-8BE64976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806E-2E1D-4E29-83E1-C7891182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69E9-0083-42D8-B90B-A63C7987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FBAE3-A481-437D-BAF0-F9078B4B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2605-2E07-4B48-B9BC-79ADDC17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2776-0A7A-4799-8E20-B0BFF5C8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C21-8932-4D70-ACB2-43AD771E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554-C780-4275-8522-D15E4A8B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C66F-AD5E-4FEA-AB5B-C387A48D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08B7-5904-481E-99F7-F92D7D0DB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1D04-98C4-412E-901C-0D2C1B08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56D7-55EB-4E41-8E0D-67BA658C1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36E1D-44C6-40BD-B2F1-DF4E0BC3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D718F9-C9F4-4E62-BAAC-C53EED19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AE6F04-B934-4C01-B14E-6390B06A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570F8-182E-4867-A188-C294115D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9D8B82-58D9-45F6-AD70-14E85CF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C9C-8DF8-4FF4-BDC9-FAA9792E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74C1B6-F59A-45B5-B1A9-CB8747EC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2257D7-DB00-4F17-B864-4FA7C8D9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BC5E8-50A5-4CE0-BCDF-D53D8496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59371-D269-469A-A4E0-43079792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2535A5-350D-4B27-9601-397E3BE1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91DDF5-9D3A-4979-B054-734147D7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1D5BE3-755B-4376-8432-98300712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4CE63B-D170-42BC-85FF-47AB613B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6B2F7-D910-4C79-8189-DE84C32B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AC91E5-A4C0-4C3E-8D35-1C3ECEC6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DCD-D228-4AA7-9ABA-B725895A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E161B4-90FE-4C59-AA6B-201234C0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6D028-3EC5-4FB5-9114-FC8450FD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4564B4-9CF3-4758-B543-DB34E86B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4ED59-3EFD-4E87-B3FA-29FCF3D3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67E69C-138E-496D-8FBC-5258883C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9B0430-9C9B-4FFA-94CE-2CDECA2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F80F14-43AD-4941-8173-76D566A9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29CCA-E69A-4AB2-8F5B-E0E932E2E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AB41CC-36D8-495F-999A-31C80C4BE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75D184-86B7-4A0B-BFC5-890A7F24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A1F5-208E-4F70-8EE1-B18B28E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B2E4D-6826-4E6C-AEB3-EAEC447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24FE4-A572-43DD-8B91-1F1A11E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98EA89-FF49-4F77-B8BF-FB57D7B7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60D676-B26D-402B-AF98-A3DF7784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A27DD6-2FAE-46E2-A3FC-8B389B6D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1BBE0-79CA-42B5-B10D-513E510C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7FF643-2422-48E2-B451-5CF0F152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CB28A-22CD-4ECF-80EC-7A92DDF4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C6020-D8EA-422D-8E35-CB19FBD2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4E8B6-7A55-4632-87C2-0B667350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446C-B690-4E79-BC77-6A76DC3C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3A0F8-27AF-403F-BE48-B86046962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4F005-8158-4486-8308-90DA98C1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C867E-656E-48E5-B34C-2F1BB01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CA296-1F9D-44CB-B4C9-5872C9FF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AE5DA-1101-4C14-9500-DD0B8EBD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2E42F-E867-40D1-A969-E9BA8841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9C046-5E29-4759-94A0-EFA914BF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9D03B-4397-4AB3-B262-59423D36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54FE8-BF38-40DA-BC4A-C9D3B78D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46A8D-DEF7-48F5-9648-8E0108F8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0938-1894-429E-A473-51EB258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15F0F-0650-4964-BF99-F1D62F58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813ED-BE88-486E-B36A-79604EB9D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99857-3B10-4F09-8586-3F23E24B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6A7EE8-0DE2-4A0B-9E8F-7AC28799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CFC63-8177-4C18-B82D-F3C129EE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F4BF43-7C49-4E99-B6A8-EC030F42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35ABE8-3375-4512-899A-6712940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F177B-A00C-4BAC-B91D-3A3BDC4E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ADED02-298E-4A63-8AD9-3ACA80BA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7FED24-B658-423A-9896-3B0126E4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3227-1367-4A85-8419-F09591EE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0F8BCC-BF55-4E96-8C90-D94420DD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3958B-DE75-4A3F-8728-2F8C376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ABF52-0142-4125-A0F1-01589146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BB102-8289-437B-8342-A9BBAA94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9A9A42-CF57-4D7B-BE9B-76803D14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74643-F77F-4282-8319-7DFD754F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0EB4-A53D-4334-9EE8-785FC8D2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076F3-F8EC-4564-8427-47FCD2A76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CA6FF-2E4A-463F-90AE-48DA11FB5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98C27-EF40-46D2-BCE2-B44CB358F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1097-2B2C-42E6-A085-12BDDD1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DEDA5-5BEF-4698-AE81-FC422112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9B0F3-1A67-42D5-AC0F-26FDAD8C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0024BB-AA0C-483F-81D3-C0D70DBC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B5DD4-B14D-4E0C-86AA-79E85536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629FF-C7D8-4ED8-9D09-717920414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F2213-719E-4E45-897C-2E3CE97E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A0232-A95B-4AB8-96CA-9522E6CC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01E4-CC19-4146-AC13-8A9B26EA148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09BB-E2BA-425B-AABA-80ABA61A23F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128-7D77-4ACF-8F52-E60F1CA4AC13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2311-D5A8-4EC8-9877-A0FB192BA1E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0DB0-84D1-45A5-B600-F491C20BF8E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766E-ABF2-4456-BFCE-92F015BDBED8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17BDD-75C9-4497-B732-CCC63CA35BD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E82D-AD5E-4336-B42E-51A2CFD28F8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7008-CE50-49D6-ACB8-A1DFE766FEE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5A6-A197-41C1-AB01-9CFA1D22E72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49F4-1EF8-4D42-A207-AEC215E5025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6351-B82F-4D92-B6B3-EFFBC07EC579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4BE7-BE31-498C-8C04-8B2A6FE22C0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8100-B7FB-442A-93CC-6515E79CA179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F2CC-8B3F-4EF2-8992-3D3A12CA7D16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6879-3F95-48C8-9CE6-3386BD45B5A3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1450800"/>
            <a:ext cx="8199360" cy="289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w Cen MT"/>
              </a:rPr>
              <a:t>MENGUKUR VARIABEL</a:t>
            </a:r>
            <a:br>
              <a:rPr sz="4400"/>
            </a:b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600" spc="-1" strike="noStrike">
                <a:solidFill>
                  <a:srgbClr val="ffffff"/>
                </a:solidFill>
                <a:latin typeface="Tw Cen MT"/>
              </a:rPr>
              <a:t>statistika@undip.ac.id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 dan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149480" y="1728720"/>
            <a:ext cx="717552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ji validitas dan reliabilitas biasanya digunak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uk tujuan survai analitik.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51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h 1: survai tentang persepsi responden terhad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rja pemerintah, dimana responden disuru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ilai pernyataan2 yang menggambar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r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ngan skala likert: sangat tidak setuj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ai sangat setuj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1562040" y="3009960"/>
            <a:ext cx="11430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5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1149480" y="1728720"/>
            <a:ext cx="717552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ji validitas bertujuan untuk mengetahui apakah alat uk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pakai dapat mengukur variabel yang seharusny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uk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tu kuisioner yang memuat pertanyaan tidak jelas bag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dent termasuk tidak vali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ujian validasi biasanya menggunakan teknik korela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si yang diukur adalah korelasi antara skor tia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ribut/variabel/pernyataan dan total penyusun atribut/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el/pernyataan yang digunak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ipot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o : Atribut/variabel tidak mengukur aspek yang s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1 : Atribut/variabel mengukur aspek yang sama.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valid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"/>
          <p:cNvSpPr/>
          <p:nvPr/>
        </p:nvSpPr>
        <p:spPr>
          <a:xfrm>
            <a:off x="1149480" y="1728720"/>
            <a:ext cx="7175520" cy="7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elasi product momen (r): 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8"/>
          <p:cNvGrpSpPr/>
          <p:nvPr/>
        </p:nvGrpSpPr>
        <p:grpSpPr>
          <a:xfrm>
            <a:off x="3506040" y="1752480"/>
            <a:ext cx="5091120" cy="2330640"/>
            <a:chOff x="3506040" y="1752480"/>
            <a:chExt cx="5091120" cy="2330640"/>
          </a:xfrm>
        </p:grpSpPr>
        <p:grpSp>
          <p:nvGrpSpPr>
            <p:cNvPr id="484" name="Group 9"/>
            <p:cNvGrpSpPr/>
            <p:nvPr/>
          </p:nvGrpSpPr>
          <p:grpSpPr>
            <a:xfrm>
              <a:off x="3506040" y="1752480"/>
              <a:ext cx="3542760" cy="1008360"/>
              <a:chOff x="3506040" y="1752480"/>
              <a:chExt cx="3542760" cy="1008360"/>
            </a:xfrm>
          </p:grpSpPr>
          <p:sp>
            <p:nvSpPr>
              <p:cNvPr id="485" name="Rectangle 10"/>
              <p:cNvSpPr/>
              <p:nvPr/>
            </p:nvSpPr>
            <p:spPr>
              <a:xfrm>
                <a:off x="3506040" y="2037960"/>
                <a:ext cx="563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Group 11"/>
              <p:cNvGrpSpPr/>
              <p:nvPr/>
            </p:nvGrpSpPr>
            <p:grpSpPr>
              <a:xfrm>
                <a:off x="4057560" y="1752480"/>
                <a:ext cx="2991240" cy="1008360"/>
                <a:chOff x="4057560" y="1752480"/>
                <a:chExt cx="2991240" cy="1008360"/>
              </a:xfrm>
            </p:grpSpPr>
            <p:sp>
              <p:nvSpPr>
                <p:cNvPr id="487" name="Rectangle 12"/>
                <p:cNvSpPr/>
                <p:nvPr/>
              </p:nvSpPr>
              <p:spPr>
                <a:xfrm>
                  <a:off x="4090680" y="1752480"/>
                  <a:ext cx="29581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∑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2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 ∑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AU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   ∑(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1" lang="en-AU" sz="2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r>
                    <a:rPr b="1" lang="en-AU" sz="2400" spc="-1" strike="noStrike" baseline="30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13"/>
                <p:cNvSpPr/>
                <p:nvPr/>
              </p:nvSpPr>
              <p:spPr>
                <a:xfrm>
                  <a:off x="5428800" y="1945800"/>
                  <a:ext cx="14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14"/>
                <p:cNvSpPr/>
                <p:nvPr/>
              </p:nvSpPr>
              <p:spPr>
                <a:xfrm>
                  <a:off x="6244560" y="1945800"/>
                  <a:ext cx="149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15"/>
                <p:cNvSpPr/>
                <p:nvPr/>
              </p:nvSpPr>
              <p:spPr>
                <a:xfrm>
                  <a:off x="5122440" y="2403000"/>
                  <a:ext cx="148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16"/>
                <p:cNvSpPr/>
                <p:nvPr/>
              </p:nvSpPr>
              <p:spPr>
                <a:xfrm>
                  <a:off x="6608160" y="2403000"/>
                  <a:ext cx="149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17"/>
                <p:cNvSpPr/>
                <p:nvPr/>
              </p:nvSpPr>
              <p:spPr>
                <a:xfrm>
                  <a:off x="4119120" y="2333160"/>
                  <a:ext cx="1383840" cy="385560"/>
                </a:xfrm>
                <a:custGeom>
                  <a:avLst/>
                  <a:gdLst>
                    <a:gd name="textAreaLeft" fmla="*/ 0 w 1383840"/>
                    <a:gd name="textAreaRight" fmla="*/ 1384200 w 1383840"/>
                    <a:gd name="textAreaTop" fmla="*/ 0 h 385560"/>
                    <a:gd name="textAreaBottom" fmla="*/ 385920 h 385560"/>
                  </a:gdLst>
                  <a:ahLst/>
                  <a:rect l="textAreaLeft" t="textAreaTop" r="textAreaRight" b="textAreaBottom"/>
                  <a:pathLst>
                    <a:path w="872" h="243">
                      <a:moveTo>
                        <a:pt x="0" y="176"/>
                      </a:moveTo>
                      <a:lnTo>
                        <a:pt x="42" y="133"/>
                      </a:lnTo>
                      <a:lnTo>
                        <a:pt x="66" y="243"/>
                      </a:lnTo>
                      <a:lnTo>
                        <a:pt x="130" y="0"/>
                      </a:lnTo>
                      <a:lnTo>
                        <a:pt x="872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  <a:effectLst>
                  <a:outerShdw dist="17819" dir="2700000" blurRad="0" rotWithShape="0">
                    <a:srgbClr val="2222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18"/>
                <p:cNvSpPr/>
                <p:nvPr/>
              </p:nvSpPr>
              <p:spPr>
                <a:xfrm>
                  <a:off x="5592240" y="2334960"/>
                  <a:ext cx="1383840" cy="385200"/>
                </a:xfrm>
                <a:custGeom>
                  <a:avLst/>
                  <a:gdLst>
                    <a:gd name="textAreaLeft" fmla="*/ 0 w 1383840"/>
                    <a:gd name="textAreaRight" fmla="*/ 1384200 w 1383840"/>
                    <a:gd name="textAreaTop" fmla="*/ 0 h 385200"/>
                    <a:gd name="textAreaBottom" fmla="*/ 385560 h 385200"/>
                  </a:gdLst>
                  <a:ahLst/>
                  <a:rect l="textAreaLeft" t="textAreaTop" r="textAreaRight" b="textAreaBottom"/>
                  <a:pathLst>
                    <a:path w="872" h="243">
                      <a:moveTo>
                        <a:pt x="0" y="176"/>
                      </a:moveTo>
                      <a:lnTo>
                        <a:pt x="42" y="133"/>
                      </a:lnTo>
                      <a:lnTo>
                        <a:pt x="66" y="243"/>
                      </a:lnTo>
                      <a:lnTo>
                        <a:pt x="130" y="0"/>
                      </a:lnTo>
                      <a:lnTo>
                        <a:pt x="872" y="0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  <a:effectLst>
                  <a:outerShdw dist="17819" dir="2700000" blurRad="0" rotWithShape="0">
                    <a:srgbClr val="22222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19"/>
                <p:cNvSpPr/>
                <p:nvPr/>
              </p:nvSpPr>
              <p:spPr>
                <a:xfrm>
                  <a:off x="4057560" y="2273040"/>
                  <a:ext cx="2966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5" name="Group 20"/>
            <p:cNvGrpSpPr/>
            <p:nvPr/>
          </p:nvGrpSpPr>
          <p:grpSpPr>
            <a:xfrm>
              <a:off x="3712680" y="3074760"/>
              <a:ext cx="4884480" cy="1008360"/>
              <a:chOff x="3712680" y="3074760"/>
              <a:chExt cx="4884480" cy="1008360"/>
            </a:xfrm>
          </p:grpSpPr>
          <p:sp>
            <p:nvSpPr>
              <p:cNvPr id="496" name="Rectangle 21"/>
              <p:cNvSpPr/>
              <p:nvPr/>
            </p:nvSpPr>
            <p:spPr>
              <a:xfrm>
                <a:off x="3712680" y="33602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22"/>
              <p:cNvSpPr/>
              <p:nvPr/>
            </p:nvSpPr>
            <p:spPr>
              <a:xfrm>
                <a:off x="4175640" y="3074760"/>
                <a:ext cx="4390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 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 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  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 - (∑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r>
                  <a:rPr b="1" lang="en-AU" sz="24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AU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AU" sz="2400" spc="-1" strike="noStrike">
                    <a:solidFill>
                      <a:srgbClr val="000000"/>
                    </a:solidFill>
                    <a:latin typeface="Arial"/>
                  </a:rPr>
                  <a:t>/ </a:t>
                </a:r>
                <a:r>
                  <a:rPr b="1" i="1" lang="en-AU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23"/>
              <p:cNvSpPr/>
              <p:nvPr/>
            </p:nvSpPr>
            <p:spPr>
              <a:xfrm>
                <a:off x="4173120" y="3655440"/>
                <a:ext cx="2193480" cy="385200"/>
              </a:xfrm>
              <a:custGeom>
                <a:avLst/>
                <a:gdLst>
                  <a:gd name="textAreaLeft" fmla="*/ 0 w 2193480"/>
                  <a:gd name="textAreaRight" fmla="*/ 2193840 w 21934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1382" h="243">
                    <a:moveTo>
                      <a:pt x="0" y="176"/>
                    </a:moveTo>
                    <a:lnTo>
                      <a:pt x="42" y="133"/>
                    </a:lnTo>
                    <a:lnTo>
                      <a:pt x="66" y="243"/>
                    </a:lnTo>
                    <a:lnTo>
                      <a:pt x="130" y="0"/>
                    </a:lnTo>
                    <a:lnTo>
                      <a:pt x="1382" y="1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22222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24"/>
              <p:cNvSpPr/>
              <p:nvPr/>
            </p:nvSpPr>
            <p:spPr>
              <a:xfrm>
                <a:off x="6384600" y="3656880"/>
                <a:ext cx="2140920" cy="385560"/>
              </a:xfrm>
              <a:custGeom>
                <a:avLst/>
                <a:gdLst>
                  <a:gd name="textAreaLeft" fmla="*/ 0 w 2140920"/>
                  <a:gd name="textAreaRight" fmla="*/ 2141280 w 2140920"/>
                  <a:gd name="textAreaTop" fmla="*/ 0 h 385560"/>
                  <a:gd name="textAreaBottom" fmla="*/ 385920 h 385560"/>
                </a:gdLst>
                <a:ahLst/>
                <a:rect l="textAreaLeft" t="textAreaTop" r="textAreaRight" b="textAreaBottom"/>
                <a:pathLst>
                  <a:path w="1349" h="243">
                    <a:moveTo>
                      <a:pt x="0" y="176"/>
                    </a:moveTo>
                    <a:lnTo>
                      <a:pt x="42" y="133"/>
                    </a:lnTo>
                    <a:lnTo>
                      <a:pt x="66" y="243"/>
                    </a:lnTo>
                    <a:lnTo>
                      <a:pt x="130" y="0"/>
                    </a:lnTo>
                    <a:lnTo>
                      <a:pt x="13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  <a:effectLst>
                <a:outerShdw dist="17819" dir="2700000" blurRad="0" rotWithShape="0">
                  <a:srgbClr val="22222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5"/>
              <p:cNvSpPr/>
              <p:nvPr/>
            </p:nvSpPr>
            <p:spPr>
              <a:xfrm>
                <a:off x="4131720" y="3594960"/>
                <a:ext cx="446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1" name="Text Box 26"/>
          <p:cNvSpPr/>
          <p:nvPr/>
        </p:nvSpPr>
        <p:spPr>
          <a:xfrm>
            <a:off x="1604160" y="4343400"/>
            <a:ext cx="41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: skor total atribut/variabel/pernya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: skor tiap atribut/variabel/pernya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: jumlah respo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8"/>
          <p:cNvSpPr/>
          <p:nvPr/>
        </p:nvSpPr>
        <p:spPr>
          <a:xfrm>
            <a:off x="1131840" y="5345280"/>
            <a:ext cx="43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 ditolak, jika r-hitung &gt; r-tabel (alpha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149480" y="1728720"/>
            <a:ext cx="7175520" cy="44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ji realibilitas adalah bertujuan untuk menunjukk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nsistensi suatu alat ukur/kuisioner dalam menguk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jala yang s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atu alat pengukur seharusnya  memiliki kemampu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tuk memberikan hasil pengukuran yang konsi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abila alat pengukur dipakai dua hal untuk menguk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jala yang sama dan hasilnya relati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konsist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katakan alat pengukur tersebut dikataka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reliab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buClr>
                <a:srgbClr val="000000"/>
              </a:buClr>
              <a:buFont typeface="Wingdings" charset="2"/>
              <a:buChar char=""/>
              <a:tabLst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ujian reliabilitas menggunakan: Rumus Spearman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n, Rumus Flanagan, Rumus Rulon, Rumus K-R.20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K-R.21, Rumus Alph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5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5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5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5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5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1149480" y="1728720"/>
            <a:ext cx="738504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potes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o : Atribut/variabel/pernyataan tidak menghasilkan pengukuran y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ons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1 : Atribut/variabel/pernyataan menghasilkan pengukuran ya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kons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Spearman-Brow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tanyaan/atribut dibagi menjadi 2 bagian (split-half), yaitu pertanyaan ganjil dan genap sesuai nomor urut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10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3"/>
              <p:cNvSpPr txBox="1"/>
              <p:nvPr/>
            </p:nvSpPr>
            <p:spPr>
              <a:xfrm>
                <a:off x="1523880" y="4572000"/>
                <a:ext cx="2286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</m:den>
                            </m:f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4" name="Text Box 10"/>
          <p:cNvSpPr/>
          <p:nvPr/>
        </p:nvSpPr>
        <p:spPr>
          <a:xfrm>
            <a:off x="4191120" y="4724280"/>
            <a:ext cx="4359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reliabilitas instr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/2.1/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korelasi antar dua belahan ku</a:t>
            </a:r>
            <a:r>
              <a:rPr b="0" lang="id-ID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o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1"/>
          <p:cNvSpPr/>
          <p:nvPr/>
        </p:nvSpPr>
        <p:spPr>
          <a:xfrm>
            <a:off x="4115520" y="5522760"/>
            <a:ext cx="4528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atu variabel dikatakan konsisten d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el jika koefisien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r-tabel (alpha,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5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149480" y="1728720"/>
            <a:ext cx="717552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Flanaga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isioner dilakukan belah dua, sepert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rman-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Rul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uisioner dilakukan belah d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2"/>
              <p:cNvSpPr txBox="1"/>
              <p:nvPr/>
            </p:nvSpPr>
            <p:spPr>
              <a:xfrm>
                <a:off x="1981080" y="2590920"/>
                <a:ext cx="16002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Text Box 8"/>
          <p:cNvSpPr/>
          <p:nvPr/>
        </p:nvSpPr>
        <p:spPr>
          <a:xfrm>
            <a:off x="4186080" y="2322360"/>
            <a:ext cx="378936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lahan pertama (ganj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lahan kedua (gen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total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9"/>
          <p:cNvSpPr/>
          <p:nvPr/>
        </p:nvSpPr>
        <p:spPr>
          <a:xfrm>
            <a:off x="1904400" y="3389400"/>
            <a:ext cx="51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ka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r tabel, maka instrumen tersebut reli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3"/>
              <p:cNvSpPr txBox="1"/>
              <p:nvPr/>
            </p:nvSpPr>
            <p:spPr>
              <a:xfrm>
                <a:off x="2133720" y="4724280"/>
                <a:ext cx="9144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6" name="Text Box 12"/>
          <p:cNvSpPr/>
          <p:nvPr/>
        </p:nvSpPr>
        <p:spPr>
          <a:xfrm>
            <a:off x="3897360" y="4648320"/>
            <a:ext cx="4475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beda (dihitung dari selisih sk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lahan ganjil dan belahan ge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agam total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3"/>
          <p:cNvSpPr/>
          <p:nvPr/>
        </p:nvSpPr>
        <p:spPr>
          <a:xfrm>
            <a:off x="1767600" y="5715000"/>
            <a:ext cx="514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ika r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Arial"/>
              </a:rPr>
              <a:t>11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&gt; r tabel, maka instrumen tersebut reli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5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1173240" y="985680"/>
            <a:ext cx="69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nard MT Condensed"/>
              </a:rPr>
              <a:t>Uji reliabilit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"/>
          <p:cNvSpPr/>
          <p:nvPr/>
        </p:nvSpPr>
        <p:spPr>
          <a:xfrm>
            <a:off x="1149480" y="1728720"/>
            <a:ext cx="7175520" cy="39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umus Alp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mus K-R.20, dan Rumus K-R.21: tidak dilakukan pemilahan kuision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umus Alph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37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mus K-R.2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7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264"/>
              </a:spcAft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60360"/>
                <a:tab algn="l" pos="80496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next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6534000"/>
            <a:ext cx="380880" cy="18108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5"/>
          <p:cNvSpPr/>
          <p:nvPr/>
        </p:nvSpPr>
        <p:spPr>
          <a:xfrm rot="16200000">
            <a:off x="-2265840" y="3180240"/>
            <a:ext cx="52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ode &amp; Instrumen pengumpula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Object 2"/>
              <p:cNvSpPr txBox="1"/>
              <p:nvPr/>
            </p:nvSpPr>
            <p:spPr>
              <a:xfrm>
                <a:off x="1600200" y="3352680"/>
                <a:ext cx="205740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4" name="Text Box 8"/>
          <p:cNvSpPr/>
          <p:nvPr/>
        </p:nvSpPr>
        <p:spPr>
          <a:xfrm>
            <a:off x="4098960" y="293220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 : banyaknya atribut/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: ragam setiap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 : ragam total (total: penjuml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or dari setiap pertany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3"/>
              <p:cNvSpPr txBox="1"/>
              <p:nvPr/>
            </p:nvSpPr>
            <p:spPr>
              <a:xfrm>
                <a:off x="1676520" y="4648320"/>
                <a:ext cx="213336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M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7" name="Text Box 11"/>
          <p:cNvSpPr/>
          <p:nvPr/>
        </p:nvSpPr>
        <p:spPr>
          <a:xfrm>
            <a:off x="4114800" y="4419720"/>
            <a:ext cx="39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  : banyaknya atribut/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: rata</a:t>
            </a: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-r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kor setiap pertany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t : ragam total (total: penjmlah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or dari setiap pertanya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5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2" descr=""/>
          <p:cNvPicPr/>
          <p:nvPr/>
        </p:nvPicPr>
        <p:blipFill>
          <a:blip r:embed="rId1"/>
          <a:stretch/>
        </p:blipFill>
        <p:spPr>
          <a:xfrm>
            <a:off x="216000" y="231840"/>
            <a:ext cx="8815320" cy="809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5" descr=""/>
          <p:cNvPicPr/>
          <p:nvPr/>
        </p:nvPicPr>
        <p:blipFill>
          <a:blip r:embed="rId2"/>
          <a:stretch/>
        </p:blipFill>
        <p:spPr>
          <a:xfrm>
            <a:off x="633240" y="1279440"/>
            <a:ext cx="8172720" cy="440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"/>
          <p:cNvPicPr/>
          <p:nvPr/>
        </p:nvPicPr>
        <p:blipFill>
          <a:blip r:embed="rId1"/>
          <a:stretch/>
        </p:blipFill>
        <p:spPr>
          <a:xfrm>
            <a:off x="1279440" y="576360"/>
            <a:ext cx="7175520" cy="47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2" descr=""/>
          <p:cNvPicPr/>
          <p:nvPr/>
        </p:nvPicPr>
        <p:blipFill>
          <a:blip r:embed="rId1"/>
          <a:stretch/>
        </p:blipFill>
        <p:spPr>
          <a:xfrm>
            <a:off x="1154160" y="871560"/>
            <a:ext cx="6470640" cy="52196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2"/>
          <p:cNvSpPr/>
          <p:nvPr/>
        </p:nvSpPr>
        <p:spPr>
          <a:xfrm>
            <a:off x="6161040" y="4951440"/>
            <a:ext cx="2658960" cy="38088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t hitung&gt;t tabel </a:t>
            </a:r>
            <a:r>
              <a:rPr b="0" lang="id-ID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4"/>
          <p:cNvSpPr/>
          <p:nvPr/>
        </p:nvSpPr>
        <p:spPr>
          <a:xfrm>
            <a:off x="6286680" y="5624640"/>
            <a:ext cx="2657160" cy="37944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r hitung&gt;r tabel </a:t>
            </a:r>
            <a:r>
              <a:rPr b="0" lang="id-ID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id-ID" sz="1800" spc="-1" strike="noStrike">
                <a:solidFill>
                  <a:srgbClr val="ff0000"/>
                </a:solidFill>
                <a:latin typeface="Tw Cen MT"/>
              </a:rPr>
              <a:t>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174600"/>
            <a:ext cx="769644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4404"/>
                </a:solidFill>
                <a:latin typeface="Tw Cen MT"/>
              </a:rPr>
              <a:t>OUTLINE</a:t>
            </a:r>
            <a:r>
              <a:rPr b="0" lang="en-US" sz="4400" spc="-1" strike="noStrike">
                <a:solidFill>
                  <a:srgbClr val="ff9933"/>
                </a:solidFill>
                <a:latin typeface="Tw Cen MT"/>
              </a:rPr>
              <a:t> MATERI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9440" y="1724040"/>
            <a:ext cx="73292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Bagaiman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Mengukur Variabel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Definisi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Operasio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: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Dimensi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Elemen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Nomi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Ordin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Interval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kala </a:t>
            </a:r>
            <a:r>
              <a:rPr b="1" lang="en-US" sz="2800" spc="-1" strike="noStrike">
                <a:solidFill>
                  <a:srgbClr val="f7b615"/>
                </a:solidFill>
                <a:latin typeface="Tw Cen MT"/>
              </a:rPr>
              <a:t>Rasio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"/>
          <p:cNvPicPr/>
          <p:nvPr/>
        </p:nvPicPr>
        <p:blipFill>
          <a:blip r:embed="rId1"/>
          <a:stretch/>
        </p:blipFill>
        <p:spPr>
          <a:xfrm>
            <a:off x="281160" y="1308240"/>
            <a:ext cx="8651880" cy="4965480"/>
          </a:xfrm>
          <a:prstGeom prst="rect">
            <a:avLst/>
          </a:prstGeom>
          <a:ln w="0">
            <a:noFill/>
          </a:ln>
        </p:spPr>
      </p:pic>
      <p:sp>
        <p:nvSpPr>
          <p:cNvPr id="545" name="Flowchart: Alternate Process 3"/>
          <p:cNvSpPr/>
          <p:nvPr/>
        </p:nvSpPr>
        <p:spPr>
          <a:xfrm>
            <a:off x="352440" y="3559320"/>
            <a:ext cx="8467560" cy="32364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4"/>
          <p:cNvSpPr/>
          <p:nvPr/>
        </p:nvSpPr>
        <p:spPr>
          <a:xfrm>
            <a:off x="998640" y="576360"/>
            <a:ext cx="460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Perhitungan dengan SP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" descr=""/>
          <p:cNvPicPr/>
          <p:nvPr/>
        </p:nvPicPr>
        <p:blipFill>
          <a:blip r:embed="rId1"/>
          <a:stretch/>
        </p:blipFill>
        <p:spPr>
          <a:xfrm>
            <a:off x="1773360" y="674640"/>
            <a:ext cx="5837040" cy="30672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2"/>
          <p:cNvSpPr/>
          <p:nvPr/>
        </p:nvSpPr>
        <p:spPr>
          <a:xfrm>
            <a:off x="957240" y="4022640"/>
            <a:ext cx="71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800" spc="-1" strike="noStrike">
                <a:solidFill>
                  <a:srgbClr val="000000"/>
                </a:solidFill>
                <a:latin typeface="Arial"/>
              </a:rPr>
              <a:t>Cronbach”s Alpha = 0,875 &gt; 0,50 , instrument penelitian reliab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731880" y="746280"/>
            <a:ext cx="7989840" cy="5176800"/>
          </a:xfrm>
          <a:prstGeom prst="rect">
            <a:avLst/>
          </a:prstGeom>
          <a:ln w="0">
            <a:noFill/>
          </a:ln>
        </p:spPr>
      </p:pic>
      <p:sp>
        <p:nvSpPr>
          <p:cNvPr id="550" name="Flowchart: Alternate Process 2"/>
          <p:cNvSpPr/>
          <p:nvPr/>
        </p:nvSpPr>
        <p:spPr>
          <a:xfrm>
            <a:off x="801720" y="3559320"/>
            <a:ext cx="7765920" cy="266400"/>
          </a:xfrm>
          <a:prstGeom prst="flowChartAlternateProcess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Box 1"/>
          <p:cNvSpPr/>
          <p:nvPr/>
        </p:nvSpPr>
        <p:spPr>
          <a:xfrm>
            <a:off x="1082520" y="760320"/>
            <a:ext cx="657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Arial"/>
              </a:rPr>
              <a:t>Bagaimana Bila Butir X5 Dihapus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731880" y="1392120"/>
            <a:ext cx="800424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1730520" y="1336680"/>
            <a:ext cx="5781600" cy="33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477720" y="703440"/>
            <a:ext cx="8188560" cy="51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24000" y="174600"/>
            <a:ext cx="853416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4404"/>
                </a:solidFill>
                <a:latin typeface="Tw Cen MT"/>
              </a:rPr>
              <a:t>BAGAIMANA </a:t>
            </a:r>
            <a:r>
              <a:rPr b="0" lang="en-US" sz="3600" spc="-1" strike="noStrike">
                <a:solidFill>
                  <a:srgbClr val="ff9900"/>
                </a:solidFill>
                <a:latin typeface="Tw Cen MT"/>
              </a:rPr>
              <a:t>MENGUKUR VARIABEL</a:t>
            </a:r>
            <a:endParaRPr b="0" lang="en-US" sz="3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04520" y="1704960"/>
            <a:ext cx="765324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04404"/>
                </a:solidFill>
                <a:latin typeface="Tw Cen MT"/>
              </a:rPr>
              <a:t>Obyek yang dapat diukur secara fisi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engan sejumlah instrumen standar bukan merupakan masalah pengukuran. Misal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panja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lebar suatu produ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704404"/>
                </a:solidFill>
                <a:latin typeface="Tw Cen MT"/>
              </a:rPr>
              <a:t>Fenomena fisiologis yang terkait dengan manus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juga mudah diukur melalui penggunaan instrumen ukur yang tepat. Misal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tekanan dara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detak jantung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suhu tubu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tingg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dan </a:t>
            </a:r>
            <a:r>
              <a:rPr b="0" lang="en-US" sz="2400" spc="-1" strike="noStrike">
                <a:solidFill>
                  <a:srgbClr val="f7b615"/>
                </a:solidFill>
                <a:latin typeface="Tw Cen MT"/>
              </a:rPr>
              <a:t>berat bada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Perasaa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sikap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, dan </a:t>
            </a:r>
            <a:r>
              <a:rPr b="1" lang="en-US" sz="2400" spc="-1" strike="noStrike">
                <a:solidFill>
                  <a:srgbClr val="f7b615"/>
                </a:solidFill>
                <a:latin typeface="Tw Cen MT"/>
              </a:rPr>
              <a:t>persepsi subjektif manus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merupakan faktor atau variabel yang </a:t>
            </a:r>
            <a:r>
              <a:rPr b="1" lang="en-US" sz="2400" spc="-1" strike="noStrike">
                <a:solidFill>
                  <a:srgbClr val="704404"/>
                </a:solidFill>
                <a:latin typeface="Tw Cen MT"/>
              </a:rPr>
              <a:t>sulit untuk diukur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089000"/>
                <a:tab algn="l" pos="1596960"/>
                <a:tab algn="l" pos="2293920"/>
                <a:tab algn="l" pos="2859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w Cen MT"/>
              </a:rPr>
              <a:t>KONSEP, DIMENSI dan ELEMEN</a:t>
            </a:r>
            <a:endParaRPr b="0" lang="en-US" sz="3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0" y="110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7"/>
          <p:cNvSpPr/>
          <p:nvPr/>
        </p:nvSpPr>
        <p:spPr>
          <a:xfrm>
            <a:off x="3508200" y="1838160"/>
            <a:ext cx="1905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3603600" y="20620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ddc3"/>
                </a:solidFill>
                <a:latin typeface="Arial"/>
              </a:rPr>
              <a:t>Pembelajar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152712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Pemaha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378144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Ingat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80040" y="3257640"/>
            <a:ext cx="1390680" cy="3373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Pener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1041480" y="4129200"/>
            <a:ext cx="1066680" cy="64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jawab pertanyaan dgn be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2320920" y="4130640"/>
            <a:ext cx="1066680" cy="64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mberi contoh yang tep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4"/>
          <p:cNvSpPr/>
          <p:nvPr/>
        </p:nvSpPr>
        <p:spPr>
          <a:xfrm>
            <a:off x="3921120" y="4143240"/>
            <a:ext cx="1066680" cy="11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gingat kembali pelajaran setelah beberapa wa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5"/>
          <p:cNvSpPr/>
          <p:nvPr/>
        </p:nvSpPr>
        <p:spPr>
          <a:xfrm>
            <a:off x="5521320" y="4114800"/>
            <a:ext cx="1184400" cy="11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mecahkan masalah dgn menerapkan konsep yg dipahami &amp; diing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6"/>
          <p:cNvSpPr/>
          <p:nvPr/>
        </p:nvSpPr>
        <p:spPr>
          <a:xfrm>
            <a:off x="6915240" y="4114800"/>
            <a:ext cx="1143000" cy="1319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bddc3"/>
                </a:solidFill>
                <a:latin typeface="Arial"/>
              </a:rPr>
              <a:t>Menyatukan dgn bahan lain yang rele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7"/>
          <p:cNvSpPr/>
          <p:nvPr/>
        </p:nvSpPr>
        <p:spPr>
          <a:xfrm flipH="1">
            <a:off x="2305080" y="2666880"/>
            <a:ext cx="182880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8"/>
          <p:cNvSpPr/>
          <p:nvPr/>
        </p:nvSpPr>
        <p:spPr>
          <a:xfrm>
            <a:off x="4743360" y="2666880"/>
            <a:ext cx="198144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9"/>
          <p:cNvSpPr/>
          <p:nvPr/>
        </p:nvSpPr>
        <p:spPr>
          <a:xfrm>
            <a:off x="4454640" y="2701800"/>
            <a:ext cx="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20"/>
          <p:cNvSpPr/>
          <p:nvPr/>
        </p:nvSpPr>
        <p:spPr>
          <a:xfrm>
            <a:off x="4454640" y="3597120"/>
            <a:ext cx="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21"/>
          <p:cNvSpPr/>
          <p:nvPr/>
        </p:nvSpPr>
        <p:spPr>
          <a:xfrm flipH="1">
            <a:off x="1650960" y="3625920"/>
            <a:ext cx="533520" cy="45720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22"/>
          <p:cNvSpPr/>
          <p:nvPr/>
        </p:nvSpPr>
        <p:spPr>
          <a:xfrm flipH="1">
            <a:off x="6210360" y="3625920"/>
            <a:ext cx="533520" cy="45720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23"/>
          <p:cNvSpPr/>
          <p:nvPr/>
        </p:nvSpPr>
        <p:spPr>
          <a:xfrm>
            <a:off x="6832440" y="3622680"/>
            <a:ext cx="594000" cy="47628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24"/>
          <p:cNvSpPr/>
          <p:nvPr/>
        </p:nvSpPr>
        <p:spPr>
          <a:xfrm>
            <a:off x="2270160" y="3625920"/>
            <a:ext cx="593640" cy="47628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5"/>
          <p:cNvSpPr/>
          <p:nvPr/>
        </p:nvSpPr>
        <p:spPr>
          <a:xfrm>
            <a:off x="3924360" y="146700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KONS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6781680" y="2876400"/>
            <a:ext cx="110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1009800" y="287640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28"/>
          <p:cNvSpPr/>
          <p:nvPr/>
        </p:nvSpPr>
        <p:spPr>
          <a:xfrm>
            <a:off x="3924360" y="29145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DIMEN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1028880" y="4826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2305080" y="485784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31"/>
          <p:cNvSpPr/>
          <p:nvPr/>
        </p:nvSpPr>
        <p:spPr>
          <a:xfrm>
            <a:off x="390528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552456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6934320" y="5429160"/>
            <a:ext cx="110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b615"/>
                </a:solidFill>
                <a:latin typeface="Arial"/>
              </a:rPr>
              <a:t>EL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900"/>
                </a:solidFill>
                <a:latin typeface="Tw Cen MT"/>
              </a:rPr>
              <a:t>SKALA</a:t>
            </a:r>
            <a:r>
              <a:rPr b="0" lang="en-US" sz="4200" spc="-1" strike="noStrike">
                <a:solidFill>
                  <a:srgbClr val="f7b615"/>
                </a:solidFill>
                <a:latin typeface="Tw Cen MT"/>
              </a:rPr>
              <a:t>  </a:t>
            </a:r>
            <a:r>
              <a:rPr b="0" lang="en-US" sz="4200" spc="-1" strike="noStrike">
                <a:solidFill>
                  <a:srgbClr val="704404"/>
                </a:solidFill>
                <a:latin typeface="Tw Cen MT"/>
              </a:rPr>
              <a:t>PENGUKURAN</a:t>
            </a:r>
            <a:endParaRPr b="0" lang="en-US" sz="4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8" name="Line 3"/>
          <p:cNvSpPr/>
          <p:nvPr/>
        </p:nvSpPr>
        <p:spPr>
          <a:xfrm>
            <a:off x="0" y="11001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4"/>
          <p:cNvSpPr/>
          <p:nvPr/>
        </p:nvSpPr>
        <p:spPr>
          <a:xfrm>
            <a:off x="3508200" y="1523880"/>
            <a:ext cx="1905120" cy="838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5"/>
          <p:cNvSpPr/>
          <p:nvPr/>
        </p:nvSpPr>
        <p:spPr>
          <a:xfrm>
            <a:off x="3603600" y="1747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bddc3"/>
                </a:solidFill>
                <a:latin typeface="Arial"/>
              </a:rPr>
              <a:t>SK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6"/>
          <p:cNvSpPr/>
          <p:nvPr/>
        </p:nvSpPr>
        <p:spPr>
          <a:xfrm>
            <a:off x="70488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NOM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7"/>
          <p:cNvSpPr/>
          <p:nvPr/>
        </p:nvSpPr>
        <p:spPr>
          <a:xfrm>
            <a:off x="274320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ORDI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8"/>
          <p:cNvSpPr/>
          <p:nvPr/>
        </p:nvSpPr>
        <p:spPr>
          <a:xfrm>
            <a:off x="4857840" y="2943360"/>
            <a:ext cx="139068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2743200" y="3914640"/>
            <a:ext cx="137160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 flipH="1">
            <a:off x="1447560" y="2352600"/>
            <a:ext cx="268596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5"/>
          <p:cNvSpPr/>
          <p:nvPr/>
        </p:nvSpPr>
        <p:spPr>
          <a:xfrm>
            <a:off x="4743360" y="2352600"/>
            <a:ext cx="2800440" cy="5335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6"/>
          <p:cNvSpPr/>
          <p:nvPr/>
        </p:nvSpPr>
        <p:spPr>
          <a:xfrm flipH="1">
            <a:off x="3504960" y="2368440"/>
            <a:ext cx="834840" cy="57492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3429000" y="356220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1"/>
          <p:cNvSpPr/>
          <p:nvPr/>
        </p:nvSpPr>
        <p:spPr>
          <a:xfrm>
            <a:off x="6972480" y="2943360"/>
            <a:ext cx="1390320" cy="5806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bddc3"/>
                </a:solidFill>
                <a:latin typeface="Arial"/>
              </a:rPr>
              <a:t>Skala RA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2"/>
          <p:cNvSpPr/>
          <p:nvPr/>
        </p:nvSpPr>
        <p:spPr>
          <a:xfrm>
            <a:off x="4511520" y="2352600"/>
            <a:ext cx="955800" cy="5907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33"/>
          <p:cNvSpPr/>
          <p:nvPr/>
        </p:nvSpPr>
        <p:spPr>
          <a:xfrm>
            <a:off x="704880" y="3924360"/>
            <a:ext cx="137160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34"/>
          <p:cNvSpPr/>
          <p:nvPr/>
        </p:nvSpPr>
        <p:spPr>
          <a:xfrm>
            <a:off x="139068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35"/>
          <p:cNvSpPr/>
          <p:nvPr/>
        </p:nvSpPr>
        <p:spPr>
          <a:xfrm>
            <a:off x="4857840" y="3924360"/>
            <a:ext cx="1371600" cy="520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,  Jar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36"/>
          <p:cNvSpPr/>
          <p:nvPr/>
        </p:nvSpPr>
        <p:spPr>
          <a:xfrm>
            <a:off x="554364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7"/>
          <p:cNvSpPr/>
          <p:nvPr/>
        </p:nvSpPr>
        <p:spPr>
          <a:xfrm>
            <a:off x="6991200" y="3924360"/>
            <a:ext cx="1371600" cy="115956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ddc3"/>
                </a:solidFill>
                <a:latin typeface="Arial"/>
              </a:rPr>
              <a:t>Perbedaan, Urutan,  Jarak,       Titik awal kh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38"/>
          <p:cNvSpPr/>
          <p:nvPr/>
        </p:nvSpPr>
        <p:spPr>
          <a:xfrm>
            <a:off x="7677000" y="3571920"/>
            <a:ext cx="0" cy="333360"/>
          </a:xfrm>
          <a:prstGeom prst="line">
            <a:avLst/>
          </a:prstGeom>
          <a:ln w="28440">
            <a:solidFill>
              <a:srgbClr val="f7b61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1746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4404"/>
                </a:solidFill>
                <a:uFillTx/>
                <a:latin typeface="Tw Cen MT"/>
              </a:rPr>
              <a:t>Contoh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: </a:t>
            </a:r>
            <a:r>
              <a:rPr b="0" lang="en-US" sz="4000" spc="-1" strike="noStrike">
                <a:solidFill>
                  <a:srgbClr val="ff9933"/>
                </a:solidFill>
                <a:latin typeface="Tw Cen MT"/>
              </a:rPr>
              <a:t>SKALA LIKERT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75960" y="1523880"/>
            <a:ext cx="7653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Nyatakan tingkat kesetujuan Anda pada tiap-tiap pernyataan 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  berikut dengan menggunakan skala di bawah ini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ngat Tidak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dak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idak 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anga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erpendapat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tuju</a:t>
            </a: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w Cen MT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ualitas perkuliahan yang saya ikuti saat ini sebaik           1  2  3  4  5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yang dapat saya harapkan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ya puas dgn kebanyakan perkuliahan yg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ya ikuti.       1  2  3  4  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ctr" pos="914400"/>
                <a:tab algn="ctr" pos="2286000"/>
                <a:tab algn="ctr" pos="3657600"/>
                <a:tab algn="ctr" pos="5029200"/>
                <a:tab algn="l" pos="5143680"/>
                <a:tab algn="ctr" pos="634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Kebanyakan perkuliahan yang saya ikuti terlalu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membosankan.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                 1  2  3  4  5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7"/>
          <p:cNvGrpSpPr/>
          <p:nvPr/>
        </p:nvGrpSpPr>
        <p:grpSpPr>
          <a:xfrm>
            <a:off x="857160" y="2495520"/>
            <a:ext cx="7391520" cy="3276720"/>
            <a:chOff x="857160" y="2495520"/>
            <a:chExt cx="7391520" cy="3276720"/>
          </a:xfrm>
        </p:grpSpPr>
        <p:sp>
          <p:nvSpPr>
            <p:cNvPr id="411" name="Rectangle 5"/>
            <p:cNvSpPr/>
            <p:nvPr/>
          </p:nvSpPr>
          <p:spPr>
            <a:xfrm>
              <a:off x="857160" y="2495520"/>
              <a:ext cx="7391520" cy="327672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857160" y="3676680"/>
              <a:ext cx="73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174600"/>
            <a:ext cx="86104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704404"/>
                </a:solidFill>
                <a:uFillTx/>
                <a:latin typeface="Tw Cen MT"/>
              </a:rPr>
              <a:t>Contoh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: </a:t>
            </a:r>
            <a:r>
              <a:rPr b="0" lang="en-US" sz="4000" spc="-1" strike="noStrike">
                <a:solidFill>
                  <a:srgbClr val="ff9933"/>
                </a:solidFill>
                <a:latin typeface="Tw Cen MT"/>
              </a:rPr>
              <a:t>SKALA NUMERIKAL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719000"/>
            <a:ext cx="755820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berapa puas Anda dengan pelaksanaan perkuliahan yang    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lama ini anda jalan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ngat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Sangat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Pua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Tidak Pu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yatakan tingkat kepentingan Anda terhadap kehadiran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dalam suatu pelaksanaan perkuliaha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43080"/>
                <a:tab algn="l" pos="1257480"/>
                <a:tab algn="l" pos="1943280"/>
                <a:tab algn="l" pos="2629080"/>
                <a:tab algn="l" pos="3314880"/>
                <a:tab algn="l" pos="4000680"/>
                <a:tab algn="l" pos="4686480"/>
                <a:tab algn="l" pos="5372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Sangat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  Sangat   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Puas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w Cen MT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            Tidak Pua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Line 4"/>
          <p:cNvSpPr/>
          <p:nvPr/>
        </p:nvSpPr>
        <p:spPr>
          <a:xfrm>
            <a:off x="0" y="11955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1"/>
          <p:cNvGrpSpPr/>
          <p:nvPr/>
        </p:nvGrpSpPr>
        <p:grpSpPr>
          <a:xfrm>
            <a:off x="762120" y="1676520"/>
            <a:ext cx="7696080" cy="1790640"/>
            <a:chOff x="762120" y="1676520"/>
            <a:chExt cx="7696080" cy="1790640"/>
          </a:xfrm>
        </p:grpSpPr>
        <p:sp>
          <p:nvSpPr>
            <p:cNvPr id="417" name="Rectangle 9"/>
            <p:cNvSpPr/>
            <p:nvPr/>
          </p:nvSpPr>
          <p:spPr>
            <a:xfrm>
              <a:off x="762120" y="1676520"/>
              <a:ext cx="7696080" cy="179064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0"/>
            <p:cNvSpPr/>
            <p:nvPr/>
          </p:nvSpPr>
          <p:spPr>
            <a:xfrm>
              <a:off x="762120" y="259092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12"/>
          <p:cNvGrpSpPr/>
          <p:nvPr/>
        </p:nvGrpSpPr>
        <p:grpSpPr>
          <a:xfrm>
            <a:off x="762120" y="3886200"/>
            <a:ext cx="7696080" cy="1790640"/>
            <a:chOff x="762120" y="3886200"/>
            <a:chExt cx="7696080" cy="1790640"/>
          </a:xfrm>
        </p:grpSpPr>
        <p:sp>
          <p:nvSpPr>
            <p:cNvPr id="420" name="Rectangle 13"/>
            <p:cNvSpPr/>
            <p:nvPr/>
          </p:nvSpPr>
          <p:spPr>
            <a:xfrm>
              <a:off x="762120" y="3886200"/>
              <a:ext cx="7696080" cy="1790640"/>
            </a:xfrm>
            <a:prstGeom prst="rect">
              <a:avLst/>
            </a:prstGeom>
            <a:noFill/>
            <a:ln w="9360">
              <a:solidFill>
                <a:srgbClr val="775f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4"/>
            <p:cNvSpPr/>
            <p:nvPr/>
          </p:nvSpPr>
          <p:spPr>
            <a:xfrm>
              <a:off x="762120" y="4800600"/>
              <a:ext cx="76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ext Box 2"/>
          <p:cNvSpPr/>
          <p:nvPr/>
        </p:nvSpPr>
        <p:spPr>
          <a:xfrm>
            <a:off x="590400" y="2562120"/>
            <a:ext cx="1143000" cy="1016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Ketepatan</a:t>
            </a:r>
            <a:r>
              <a:rPr b="1" lang="en-US" sz="1400" spc="-1" strike="noStrike">
                <a:solidFill>
                  <a:srgbClr val="704404"/>
                </a:solidFill>
                <a:latin typeface="Arial"/>
              </a:rPr>
              <a:t>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122400"/>
            <a:ext cx="86104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Tw Cen MT"/>
              </a:rPr>
              <a:t>KETEPATAN</a:t>
            </a:r>
            <a:r>
              <a:rPr b="0" lang="en-US" sz="4000" spc="-1" strike="noStrike">
                <a:solidFill>
                  <a:srgbClr val="f7b615"/>
                </a:solidFill>
                <a:latin typeface="Tw Cen MT"/>
              </a:rPr>
              <a:t> </a:t>
            </a:r>
            <a:r>
              <a:rPr b="0" lang="en-US" sz="4000" spc="-1" strike="noStrike">
                <a:solidFill>
                  <a:srgbClr val="704404"/>
                </a:solidFill>
                <a:latin typeface="Tw Cen MT"/>
              </a:rPr>
              <a:t>PENGUKURAN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4" name="Line 12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2019240" y="1990800"/>
            <a:ext cx="1181160" cy="85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Keandalan</a:t>
            </a:r>
            <a:r>
              <a:rPr b="1" lang="en-US" sz="1200" spc="-1" strike="noStrike">
                <a:solidFill>
                  <a:srgbClr val="704404"/>
                </a:solidFill>
                <a:latin typeface="Arial"/>
              </a:rPr>
              <a:t> (ketelitian dalam pengukur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2000160" y="3186000"/>
            <a:ext cx="1181160" cy="854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Validitas</a:t>
            </a:r>
            <a:r>
              <a:rPr b="1" lang="en-US" sz="1200" spc="-1" strike="noStrike">
                <a:solidFill>
                  <a:srgbClr val="704404"/>
                </a:solidFill>
                <a:latin typeface="Arial"/>
              </a:rPr>
              <a:t> (apakah kita mengukur hal yg ben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486240" y="1733400"/>
            <a:ext cx="12380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tabilit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3486240" y="2743200"/>
            <a:ext cx="12380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Konsisten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5295960" y="1409760"/>
            <a:ext cx="31622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tes ula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5276880" y="1886040"/>
            <a:ext cx="318132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bentuk para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295960" y="2552760"/>
            <a:ext cx="316224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konsistensi antar-i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276880" y="3019320"/>
            <a:ext cx="3181320" cy="30708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Keandalan belah d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723960" y="4433760"/>
            <a:ext cx="144792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logis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ISI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3219480" y="4419720"/>
            <a:ext cx="205740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berdasarkan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K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6210360" y="4419720"/>
            <a:ext cx="1847880" cy="520200"/>
          </a:xfrm>
          <a:prstGeom prst="rect">
            <a:avLst/>
          </a:prstGeom>
          <a:solidFill>
            <a:srgbClr val="333300"/>
          </a:solidFill>
          <a:ln w="28440">
            <a:solidFill>
              <a:srgbClr val="704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Validitas kon</a:t>
            </a:r>
            <a:r>
              <a:rPr b="1" lang="id-ID" sz="1400" spc="-1" strike="noStrike">
                <a:solidFill>
                  <a:srgbClr val="ffff00"/>
                </a:solidFill>
                <a:latin typeface="Arial"/>
              </a:rPr>
              <a:t>struk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 (</a:t>
            </a: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KONSEP</a:t>
            </a:r>
            <a:r>
              <a:rPr b="1" lang="en-US" sz="1400" spc="-1" strike="noStrike">
                <a:solidFill>
                  <a:srgbClr val="f7b615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723960" y="5359320"/>
            <a:ext cx="14479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Validitas muk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3181320" y="5353200"/>
            <a:ext cx="9907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Prediktif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324320" y="5353200"/>
            <a:ext cx="99072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</a:rPr>
              <a:t>Konkur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943600" y="5353200"/>
            <a:ext cx="110484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99ff"/>
                </a:solidFill>
                <a:latin typeface="Arial"/>
              </a:rPr>
              <a:t>Konverge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7201080" y="5353200"/>
            <a:ext cx="1180800" cy="291960"/>
          </a:xfrm>
          <a:prstGeom prst="rect">
            <a:avLst/>
          </a:prstGeom>
          <a:solidFill>
            <a:srgbClr val="333300"/>
          </a:solidFill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99ff"/>
                </a:solidFill>
                <a:latin typeface="Arial"/>
              </a:rPr>
              <a:t>Diskrimin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1"/>
          <p:cNvGrpSpPr/>
          <p:nvPr/>
        </p:nvGrpSpPr>
        <p:grpSpPr>
          <a:xfrm>
            <a:off x="1733400" y="2324160"/>
            <a:ext cx="266760" cy="1371600"/>
            <a:chOff x="1733400" y="2324160"/>
            <a:chExt cx="266760" cy="1371600"/>
          </a:xfrm>
        </p:grpSpPr>
        <p:sp>
          <p:nvSpPr>
            <p:cNvPr id="442" name="AutoShape 29"/>
            <p:cNvSpPr/>
            <p:nvPr/>
          </p:nvSpPr>
          <p:spPr>
            <a:xfrm>
              <a:off x="1886040" y="2324160"/>
              <a:ext cx="114120" cy="1371600"/>
            </a:xfrm>
            <a:custGeom>
              <a:avLst/>
              <a:gdLst>
                <a:gd name="textAreaLeft" fmla="*/ 33480 w 114120"/>
                <a:gd name="textAreaRight" fmla="*/ 114480 w 11412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1733400" y="3009960"/>
              <a:ext cx="152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Group 32"/>
          <p:cNvGrpSpPr/>
          <p:nvPr/>
        </p:nvGrpSpPr>
        <p:grpSpPr>
          <a:xfrm>
            <a:off x="3219480" y="1905120"/>
            <a:ext cx="285480" cy="1009440"/>
            <a:chOff x="3219480" y="1905120"/>
            <a:chExt cx="285480" cy="1009440"/>
          </a:xfrm>
        </p:grpSpPr>
        <p:sp>
          <p:nvSpPr>
            <p:cNvPr id="445" name="AutoShape 33"/>
            <p:cNvSpPr/>
            <p:nvPr/>
          </p:nvSpPr>
          <p:spPr>
            <a:xfrm>
              <a:off x="3382920" y="1905120"/>
              <a:ext cx="122040" cy="1009440"/>
            </a:xfrm>
            <a:custGeom>
              <a:avLst/>
              <a:gdLst>
                <a:gd name="textAreaLeft" fmla="*/ 35640 w 122040"/>
                <a:gd name="textAreaRight" fmla="*/ 122040 w 122040"/>
                <a:gd name="textAreaTop" fmla="*/ 41760 h 1009440"/>
                <a:gd name="textAreaBottom" fmla="*/ 967680 h 100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34"/>
            <p:cNvSpPr/>
            <p:nvPr/>
          </p:nvSpPr>
          <p:spPr>
            <a:xfrm>
              <a:off x="3219480" y="2409840"/>
              <a:ext cx="1634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Line 35"/>
          <p:cNvSpPr/>
          <p:nvPr/>
        </p:nvSpPr>
        <p:spPr>
          <a:xfrm flipV="1">
            <a:off x="4743360" y="1542600"/>
            <a:ext cx="533520" cy="304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36"/>
          <p:cNvSpPr/>
          <p:nvPr/>
        </p:nvSpPr>
        <p:spPr>
          <a:xfrm>
            <a:off x="4743360" y="1924200"/>
            <a:ext cx="53352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37"/>
          <p:cNvSpPr/>
          <p:nvPr/>
        </p:nvSpPr>
        <p:spPr>
          <a:xfrm flipV="1">
            <a:off x="4762440" y="2743200"/>
            <a:ext cx="495360" cy="1144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38"/>
          <p:cNvSpPr/>
          <p:nvPr/>
        </p:nvSpPr>
        <p:spPr>
          <a:xfrm>
            <a:off x="4743360" y="2933640"/>
            <a:ext cx="514440" cy="266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Group 55"/>
          <p:cNvGrpSpPr/>
          <p:nvPr/>
        </p:nvGrpSpPr>
        <p:grpSpPr>
          <a:xfrm>
            <a:off x="1447920" y="4076640"/>
            <a:ext cx="5715000" cy="343080"/>
            <a:chOff x="1447920" y="4076640"/>
            <a:chExt cx="5715000" cy="343080"/>
          </a:xfrm>
        </p:grpSpPr>
        <p:sp>
          <p:nvSpPr>
            <p:cNvPr id="452" name="Line 39"/>
            <p:cNvSpPr/>
            <p:nvPr/>
          </p:nvSpPr>
          <p:spPr>
            <a:xfrm>
              <a:off x="1447920" y="4248000"/>
              <a:ext cx="5715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40"/>
            <p:cNvSpPr/>
            <p:nvPr/>
          </p:nvSpPr>
          <p:spPr>
            <a:xfrm>
              <a:off x="2590920" y="407664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41"/>
            <p:cNvSpPr/>
            <p:nvPr/>
          </p:nvSpPr>
          <p:spPr>
            <a:xfrm>
              <a:off x="1447920" y="42480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42"/>
            <p:cNvSpPr/>
            <p:nvPr/>
          </p:nvSpPr>
          <p:spPr>
            <a:xfrm>
              <a:off x="4267080" y="426708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43"/>
            <p:cNvSpPr/>
            <p:nvPr/>
          </p:nvSpPr>
          <p:spPr>
            <a:xfrm>
              <a:off x="7162920" y="42480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Line 44"/>
          <p:cNvSpPr/>
          <p:nvPr/>
        </p:nvSpPr>
        <p:spPr>
          <a:xfrm>
            <a:off x="1447920" y="497196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49"/>
          <p:cNvGrpSpPr/>
          <p:nvPr/>
        </p:nvGrpSpPr>
        <p:grpSpPr>
          <a:xfrm>
            <a:off x="3619440" y="4971960"/>
            <a:ext cx="1295640" cy="343080"/>
            <a:chOff x="3619440" y="4971960"/>
            <a:chExt cx="1295640" cy="343080"/>
          </a:xfrm>
        </p:grpSpPr>
        <p:sp>
          <p:nvSpPr>
            <p:cNvPr id="459" name="Line 45"/>
            <p:cNvSpPr/>
            <p:nvPr/>
          </p:nvSpPr>
          <p:spPr>
            <a:xfrm>
              <a:off x="3619440" y="5143680"/>
              <a:ext cx="1295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46"/>
            <p:cNvSpPr/>
            <p:nvPr/>
          </p:nvSpPr>
          <p:spPr>
            <a:xfrm>
              <a:off x="4267080" y="497196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47"/>
            <p:cNvSpPr/>
            <p:nvPr/>
          </p:nvSpPr>
          <p:spPr>
            <a:xfrm>
              <a:off x="361944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48"/>
            <p:cNvSpPr/>
            <p:nvPr/>
          </p:nvSpPr>
          <p:spPr>
            <a:xfrm>
              <a:off x="491508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50"/>
          <p:cNvGrpSpPr/>
          <p:nvPr/>
        </p:nvGrpSpPr>
        <p:grpSpPr>
          <a:xfrm>
            <a:off x="6477120" y="4971960"/>
            <a:ext cx="1295280" cy="343080"/>
            <a:chOff x="6477120" y="4971960"/>
            <a:chExt cx="1295280" cy="343080"/>
          </a:xfrm>
        </p:grpSpPr>
        <p:sp>
          <p:nvSpPr>
            <p:cNvPr id="464" name="Line 51"/>
            <p:cNvSpPr/>
            <p:nvPr/>
          </p:nvSpPr>
          <p:spPr>
            <a:xfrm>
              <a:off x="6477120" y="5143680"/>
              <a:ext cx="12952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52"/>
            <p:cNvSpPr/>
            <p:nvPr/>
          </p:nvSpPr>
          <p:spPr>
            <a:xfrm>
              <a:off x="7124400" y="497196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3"/>
            <p:cNvSpPr/>
            <p:nvPr/>
          </p:nvSpPr>
          <p:spPr>
            <a:xfrm>
              <a:off x="647712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54"/>
            <p:cNvSpPr/>
            <p:nvPr/>
          </p:nvSpPr>
          <p:spPr>
            <a:xfrm>
              <a:off x="7772400" y="5162400"/>
              <a:ext cx="0" cy="152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75f55"/>
                </a:solidFill>
                <a:latin typeface="Tw Cen MT"/>
              </a:rPr>
              <a:t>Reliabilitas (Keandalan) dan Validitas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Isi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pengukuran memasukkan sekumpulan item yang memadai dan mewakili yang mengungkapkan konsep. Semakin item skala mencerminkan keseluruhan konsep yang diukur, semakin besar validitas is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konstruk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menunjukkan seberapa baik hasil yang diperoleh dari penggunaan ukuran sesuai dengan teori yang mendasar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w Cen MT"/>
              </a:rPr>
              <a:t>Validitas kriteria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:  terpenuhi jika pengukuran membedakan individu menurut kriteria yang diharapkan diprediksi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08:28:02Z</dcterms:created>
  <dc:creator>Tuti's</dc:creator>
  <dc:description/>
  <dc:language>en-US</dc:language>
  <cp:lastModifiedBy>math1028072009</cp:lastModifiedBy>
  <dcterms:modified xsi:type="dcterms:W3CDTF">2011-11-16T02:34:17Z</dcterms:modified>
  <cp:revision>91</cp:revision>
  <dc:subject/>
  <dc:title>Rencana Tindak Pendampingan Desa Model</dc:title>
</cp:coreProperties>
</file>