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F8C2-D1D0-4AF6-AF63-E8A6E77C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EB37-0EAA-48E7-B71E-47A91C26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F9CF-1622-4B69-A221-82F9AFB7A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9238-464B-41EA-AD80-AC83EFB9E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10DF-BE8E-4A02-BFB2-6594B84B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9030-151E-4E9A-B4D0-786651FC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FB30-1F67-49CE-9D24-9084352B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C75E-23BA-4532-986D-2A480E4D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B8F1-4867-4444-8DE7-3C8F5EE8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E130-4439-4F7D-A404-A9BE95E1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F9F1-85B2-444B-989B-6261FF95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BB5D-B89A-4266-A668-D2093932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86AD-8084-4597-A317-E32CE548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6080-EF91-4101-B556-6FF4CA39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6F79-7855-419A-A532-DE78D052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B6CB-A14D-43D1-8EE3-5968F5C8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8357-67FC-4739-88AD-EA8F495A3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DE9474-6C7A-487F-B09C-3C59D13B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6142FA-F1AB-4C88-9B45-2A785C38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655B93-D250-44D1-812A-F344E768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7F32D-F07A-4120-AC02-3054B8B8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3B8BB4-399B-43C4-B174-679DD97A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A0C1-5C2A-44C1-A867-CF18BE0A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334D1A-3019-418D-AB9A-59505AEE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ABEC6C-FC7B-45CB-B9E7-CDBB3C1A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95840D-1D6B-40B3-A14D-3EF6EBB4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061989-393F-4328-B948-883AD554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F5398E-BF42-4946-A22A-13978905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1DCFD8-CABF-4531-8C75-128EDAFC9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118B3E-7D58-405A-A2FE-96A79AB7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E0DC41-8E25-43B1-9871-171F69DE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546BF7-4742-47BF-A354-BC2DEA4D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C70E4E-80E4-43C7-9FC9-9F8E0DC9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2F50-6A52-45CB-8962-8B3EC0FD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E50EB7-BA9B-4718-96E4-EE39D817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04639C-478A-47D8-9260-21B7B4CF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9F4A50-C703-4180-A96D-D1FBD31A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1F45C5-3A89-4699-86E2-82C95AE5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459974-1437-41A4-BC1E-C80F168C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2D9AA3-9E35-47C5-9C27-FAB36601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B4C769-DA9A-4FD4-BC56-C0B2B457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C3C70F-1709-48BD-BD37-EA8FD70D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54091E-7C5E-4E8D-886E-A1077E48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E43994-07B9-4091-96FD-BA9821BB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B232-0BD1-4602-84AF-199D477C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697B7B-3323-4E8C-B458-BA9D1010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26F947-844F-4949-8FA9-2FDD37B3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F79FB8-54A3-461B-9F0E-DBF495A7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04D1CD-D948-4AD5-9973-CA21FD4E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956DE5-8750-4B1B-8706-29BF0A90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5BD3CF-8B4D-4D80-A820-D2B61B9A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A781F5-BB92-4681-8E20-0AA2FF32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B28F73-5F62-4364-AB6D-72667785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952A6F-AFCD-4C20-8553-686131DE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D51575-9ADC-4195-99EB-1928FEB01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A80B-550D-42E7-9B17-052C67DF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3253F5-2048-4DC9-BF46-E6F9A8D2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DD861-8638-45D5-99BA-EBF203E0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FF180-1790-4CDC-A2EA-6734A5AF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DA754-2EC0-495A-994E-CC288046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DFFC8-7509-4E09-BD17-6B05F7CA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25653-6F08-48FF-9C29-86DA6853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1F8DD-9872-417E-8F11-A0B6B927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13576-2201-4097-8052-9F358B29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13428-78FB-43A6-82CE-C987F794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2FCF3-EFB2-46F5-90C1-01FDAAE9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9C31-2067-4782-A64E-BBDE4E7A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9CCB9-A287-492F-A3F6-D1C33B07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2725F-4BAF-4E27-BE13-620CBF38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2BAC5-B023-42E4-86CF-D032798C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D2051D-1DAA-423E-90C4-DA0C76BD1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FF4F5B-7B96-4B32-B1BE-6B0212E8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8AECBC-C631-463F-85DD-94B4F3E2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08FB10-FDA0-496A-8D87-0E5022E5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B3DC0C-C802-4A99-9C6A-92267729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0C3B99-A6A6-46E2-9C82-65E95611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7A69A5-AF67-467A-B92F-C5C5A9EB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4BB5-9445-48AD-B389-0164944D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A27E86-25E4-4B62-956F-DA16E492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8F5F9B-E525-471D-BBA4-A6461E28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D95251-D258-4DE2-9098-9D09A7BB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4EE200-8A1C-4781-8427-F05C3622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62FF13-F96A-46DF-A884-B847F032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51ECA-E224-430F-89F1-978578195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1FA21-D8DB-42DB-9D7D-F04B81B5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01C41-F0D6-4991-B139-88A7432B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254E5-B09E-405B-8865-F319025E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51BB2-B466-420A-88BF-112FF7C5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C7DD-1905-4AF6-AD4B-04F48CBA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243C4-DF0B-4555-BEE6-EA3B56F8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CDE6B-BE5E-4992-9F5F-578881E5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795F5-B985-4C7B-8F5B-4495EA5E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CA155-D523-4FAC-BF6D-FF0DA037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EA5C2-8B36-4935-979A-1A7BC08F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612EF-CBDF-4857-AAA3-B3906DB78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A35A2-2B48-4977-B7F5-9D8C285BF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622E-A074-4E58-870B-02F04B4E3F8D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75F4-A34C-4F38-8EEA-FF5C19CDDC2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9EEC-3493-4EF6-A6E1-0721DDA1DDE2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29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8D18-43B1-4ACA-9710-967F5E6C33F0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E864-0A6E-4162-8ABD-CCFC1502F049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2BE6-DCAF-47EB-8D87-0BBC2A3B9AA5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4789-068F-4E9F-8DF1-E8D9474B0108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1AC9-A55F-4261-8E1C-8440AB2F16D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F530-6791-4F68-B2D7-29D880B9B0F4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65CC-D535-4DC8-95BD-50657C34D5F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05BC-7309-4D84-AEC2-14773001C8EA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C5D7-4818-47BA-BA5F-E7E2DBCEDE48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FE70-AEB8-4A0B-98D2-6A6B85DFF8C1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FA6B-7518-40C7-9B79-3E245C0F7BF1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01ED-66B8-426A-9F7F-7227776716B3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52D6-6CF6-45CF-83A9-A87E3F54E83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1450800"/>
            <a:ext cx="8199360" cy="289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w Cen MT"/>
              </a:rPr>
              <a:t>MENGUKUR VARIABEL</a:t>
            </a:r>
            <a:br>
              <a:rPr sz="4400"/>
            </a:b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w Cen MT"/>
              </a:rPr>
              <a:t>statistika@undip.ac.id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2"/>
          <p:cNvSpPr/>
          <p:nvPr/>
        </p:nvSpPr>
        <p:spPr>
          <a:xfrm>
            <a:off x="1173240" y="985680"/>
            <a:ext cx="69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Bernard MT Condensed"/>
              </a:rPr>
              <a:t>Uji validitas dan reliabili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1149480" y="1728720"/>
            <a:ext cx="717552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51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ji validitas dan reliabilitas biasanya diguna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1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uk tujuan survai analitik.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1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oh 1: survai tentang persepsi responden terhad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erja pemerintah, dimana responden disuru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ilai pernyataan2 yang menggambark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er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ngan skala likert: sangat tidak setuj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ai sangat setuj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4" descr="nex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572000" y="6534000"/>
            <a:ext cx="380880" cy="18108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5"/>
          <p:cNvSpPr/>
          <p:nvPr/>
        </p:nvSpPr>
        <p:spPr>
          <a:xfrm rot="16200000">
            <a:off x="-2265840" y="3180240"/>
            <a:ext cx="52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ode &amp; Instrumen pengumpula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6"/>
          <p:cNvSpPr/>
          <p:nvPr/>
        </p:nvSpPr>
        <p:spPr>
          <a:xfrm>
            <a:off x="1562040" y="3009960"/>
            <a:ext cx="114300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4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4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4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2"/>
          <p:cNvSpPr/>
          <p:nvPr/>
        </p:nvSpPr>
        <p:spPr>
          <a:xfrm>
            <a:off x="1173240" y="985680"/>
            <a:ext cx="69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Bernard MT Condensed"/>
              </a:rPr>
              <a:t>Uji validi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"/>
          <p:cNvSpPr/>
          <p:nvPr/>
        </p:nvSpPr>
        <p:spPr>
          <a:xfrm>
            <a:off x="1149480" y="1728720"/>
            <a:ext cx="7175520" cy="46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74"/>
              </a:spcAft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ji validitas bertujuan untuk mengetahui apakah alat uk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ang dipakai dapat mengukur variabel yang seharusny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uk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atu kuisioner yang memuat pertanyaan tidak jelas bag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dent termasuk tidak vali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gujian validasi biasanya menggunakan teknik korelas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elasi yang diukur adalah korelasi antara skor ti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ribut/variabel/pernyataan dan total penyusun atribut/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el/pernyataan yang digunaka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ipotes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o : Atribut/variabel tidak mengukur aspek yang s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1 : Atribut/variabel mengukur aspek yang sama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4" descr="nex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572000" y="6534000"/>
            <a:ext cx="380880" cy="18108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5"/>
          <p:cNvSpPr/>
          <p:nvPr/>
        </p:nvSpPr>
        <p:spPr>
          <a:xfrm rot="16200000">
            <a:off x="-2265840" y="3180240"/>
            <a:ext cx="52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ode &amp; Instrumen pengumpula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4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4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4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4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4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2"/>
          <p:cNvSpPr/>
          <p:nvPr/>
        </p:nvSpPr>
        <p:spPr>
          <a:xfrm>
            <a:off x="1173240" y="985680"/>
            <a:ext cx="69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Bernard MT Condensed"/>
              </a:rPr>
              <a:t>Uji validi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1149480" y="1728720"/>
            <a:ext cx="7175520" cy="7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elasi product momen (r)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4" descr="nex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572000" y="6534000"/>
            <a:ext cx="380880" cy="18108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5"/>
          <p:cNvSpPr/>
          <p:nvPr/>
        </p:nvSpPr>
        <p:spPr>
          <a:xfrm rot="16200000">
            <a:off x="-2265840" y="3180240"/>
            <a:ext cx="52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ode &amp; Instrumen pengumpula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8"/>
          <p:cNvGrpSpPr/>
          <p:nvPr/>
        </p:nvGrpSpPr>
        <p:grpSpPr>
          <a:xfrm>
            <a:off x="3506040" y="1752480"/>
            <a:ext cx="5091120" cy="2330640"/>
            <a:chOff x="3506040" y="1752480"/>
            <a:chExt cx="5091120" cy="2330640"/>
          </a:xfrm>
        </p:grpSpPr>
        <p:grpSp>
          <p:nvGrpSpPr>
            <p:cNvPr id="484" name="Group 9"/>
            <p:cNvGrpSpPr/>
            <p:nvPr/>
          </p:nvGrpSpPr>
          <p:grpSpPr>
            <a:xfrm>
              <a:off x="3506040" y="1752480"/>
              <a:ext cx="3542760" cy="1008360"/>
              <a:chOff x="3506040" y="1752480"/>
              <a:chExt cx="3542760" cy="1008360"/>
            </a:xfrm>
          </p:grpSpPr>
          <p:sp>
            <p:nvSpPr>
              <p:cNvPr id="485" name="Rectangle 10"/>
              <p:cNvSpPr/>
              <p:nvPr/>
            </p:nvSpPr>
            <p:spPr>
              <a:xfrm>
                <a:off x="3506040" y="2037960"/>
                <a:ext cx="563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2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AU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6" name="Group 11"/>
              <p:cNvGrpSpPr/>
              <p:nvPr/>
            </p:nvGrpSpPr>
            <p:grpSpPr>
              <a:xfrm>
                <a:off x="4057560" y="1752480"/>
                <a:ext cx="2991240" cy="1008360"/>
                <a:chOff x="4057560" y="1752480"/>
                <a:chExt cx="2991240" cy="1008360"/>
              </a:xfrm>
            </p:grpSpPr>
            <p:sp>
              <p:nvSpPr>
                <p:cNvPr id="487" name="Rectangle 12"/>
                <p:cNvSpPr/>
                <p:nvPr/>
              </p:nvSpPr>
              <p:spPr>
                <a:xfrm>
                  <a:off x="4090680" y="1752480"/>
                  <a:ext cx="29581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2400" spc="-1" strike="noStrike">
                      <a:solidFill>
                        <a:srgbClr val="000000"/>
                      </a:solidFill>
                      <a:latin typeface="Arial"/>
                    </a:rPr>
                    <a:t>∑</a:t>
                  </a:r>
                  <a:r>
                    <a:rPr b="1" lang="en-AU" sz="2400" spc="-1" strike="noStrike">
                      <a:solidFill>
                        <a:srgbClr val="000000"/>
                      </a:solidFill>
                      <a:latin typeface="Arial"/>
                    </a:rPr>
                    <a:t>(</a:t>
                  </a:r>
                  <a:r>
                    <a:rPr b="1" i="1" lang="en-AU" sz="24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r>
                    <a:rPr b="1" lang="en-AU" sz="2400" spc="-1" strike="noStrike">
                      <a:solidFill>
                        <a:srgbClr val="000000"/>
                      </a:solidFill>
                      <a:latin typeface="Arial"/>
                    </a:rPr>
                    <a:t> - </a:t>
                  </a:r>
                  <a:r>
                    <a:rPr b="1" i="1" lang="en-AU" sz="24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r>
                    <a:rPr b="1" lang="en-AU" sz="2400" spc="-1" strike="noStrike">
                      <a:solidFill>
                        <a:srgbClr val="000000"/>
                      </a:solidFill>
                      <a:latin typeface="Arial"/>
                    </a:rPr>
                    <a:t>)(</a:t>
                  </a:r>
                  <a:r>
                    <a:rPr b="1" i="1" lang="en-AU" sz="24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r>
                    <a:rPr b="1" lang="en-AU" sz="2400" spc="-1" strike="noStrike">
                      <a:solidFill>
                        <a:srgbClr val="000000"/>
                      </a:solidFill>
                      <a:latin typeface="Arial"/>
                    </a:rPr>
                    <a:t> - </a:t>
                  </a:r>
                  <a:r>
                    <a:rPr b="1" i="1" lang="en-AU" sz="24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r>
                    <a:rPr b="1" lang="en-AU" sz="24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2400" spc="-1" strike="noStrike">
                      <a:solidFill>
                        <a:srgbClr val="000000"/>
                      </a:solidFill>
                      <a:latin typeface="Arial"/>
                    </a:rPr>
                    <a:t>  ∑</a:t>
                  </a:r>
                  <a:r>
                    <a:rPr b="1" lang="en-AU" sz="2400" spc="-1" strike="noStrike">
                      <a:solidFill>
                        <a:srgbClr val="000000"/>
                      </a:solidFill>
                      <a:latin typeface="Arial"/>
                    </a:rPr>
                    <a:t>(</a:t>
                  </a:r>
                  <a:r>
                    <a:rPr b="1" i="1" lang="en-AU" sz="24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r>
                    <a:rPr b="1" lang="en-AU" sz="2400" spc="-1" strike="noStrike">
                      <a:solidFill>
                        <a:srgbClr val="000000"/>
                      </a:solidFill>
                      <a:latin typeface="Arial"/>
                    </a:rPr>
                    <a:t> - </a:t>
                  </a:r>
                  <a:r>
                    <a:rPr b="1" i="1" lang="en-AU" sz="24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r>
                    <a:rPr b="1" lang="en-AU" sz="24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AU" sz="2400" spc="-1" strike="noStrike" baseline="30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AU" sz="2400" spc="-1" strike="noStrike">
                      <a:solidFill>
                        <a:srgbClr val="000000"/>
                      </a:solidFill>
                      <a:latin typeface="Arial"/>
                    </a:rPr>
                    <a:t>    ∑(</a:t>
                  </a:r>
                  <a:r>
                    <a:rPr b="1" i="1" lang="en-AU" sz="24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r>
                    <a:rPr b="1" lang="en-AU" sz="2400" spc="-1" strike="noStrike">
                      <a:solidFill>
                        <a:srgbClr val="000000"/>
                      </a:solidFill>
                      <a:latin typeface="Arial"/>
                    </a:rPr>
                    <a:t> - </a:t>
                  </a:r>
                  <a:r>
                    <a:rPr b="1" i="1" lang="en-AU" sz="24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r>
                    <a:rPr b="1" lang="en-AU" sz="24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AU" sz="2400" spc="-1" strike="noStrike" baseline="30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Line 13"/>
                <p:cNvSpPr/>
                <p:nvPr/>
              </p:nvSpPr>
              <p:spPr>
                <a:xfrm>
                  <a:off x="5428800" y="1945800"/>
                  <a:ext cx="148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Line 14"/>
                <p:cNvSpPr/>
                <p:nvPr/>
              </p:nvSpPr>
              <p:spPr>
                <a:xfrm>
                  <a:off x="6244560" y="1945800"/>
                  <a:ext cx="149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Line 15"/>
                <p:cNvSpPr/>
                <p:nvPr/>
              </p:nvSpPr>
              <p:spPr>
                <a:xfrm>
                  <a:off x="5122440" y="2403000"/>
                  <a:ext cx="148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Line 16"/>
                <p:cNvSpPr/>
                <p:nvPr/>
              </p:nvSpPr>
              <p:spPr>
                <a:xfrm>
                  <a:off x="6608160" y="2403000"/>
                  <a:ext cx="149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Freeform 17"/>
                <p:cNvSpPr/>
                <p:nvPr/>
              </p:nvSpPr>
              <p:spPr>
                <a:xfrm>
                  <a:off x="4119120" y="2333160"/>
                  <a:ext cx="1383840" cy="385560"/>
                </a:xfrm>
                <a:custGeom>
                  <a:avLst/>
                  <a:gdLst>
                    <a:gd name="textAreaLeft" fmla="*/ 0 w 1383840"/>
                    <a:gd name="textAreaRight" fmla="*/ 1384200 w 138384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872" h="243">
                      <a:moveTo>
                        <a:pt x="0" y="176"/>
                      </a:moveTo>
                      <a:lnTo>
                        <a:pt x="42" y="133"/>
                      </a:lnTo>
                      <a:lnTo>
                        <a:pt x="66" y="243"/>
                      </a:lnTo>
                      <a:lnTo>
                        <a:pt x="130" y="0"/>
                      </a:lnTo>
                      <a:lnTo>
                        <a:pt x="872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  <a:effectLst>
                  <a:outerShdw dist="17819" dir="2700000" blurRad="0" rotWithShape="0">
                    <a:srgbClr val="22222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18"/>
                <p:cNvSpPr/>
                <p:nvPr/>
              </p:nvSpPr>
              <p:spPr>
                <a:xfrm>
                  <a:off x="5592240" y="2334960"/>
                  <a:ext cx="1383840" cy="385200"/>
                </a:xfrm>
                <a:custGeom>
                  <a:avLst/>
                  <a:gdLst>
                    <a:gd name="textAreaLeft" fmla="*/ 0 w 1383840"/>
                    <a:gd name="textAreaRight" fmla="*/ 1384200 w 1383840"/>
                    <a:gd name="textAreaTop" fmla="*/ 0 h 385200"/>
                    <a:gd name="textAreaBottom" fmla="*/ 385560 h 385200"/>
                  </a:gdLst>
                  <a:ahLst/>
                  <a:rect l="textAreaLeft" t="textAreaTop" r="textAreaRight" b="textAreaBottom"/>
                  <a:pathLst>
                    <a:path w="872" h="243">
                      <a:moveTo>
                        <a:pt x="0" y="176"/>
                      </a:moveTo>
                      <a:lnTo>
                        <a:pt x="42" y="133"/>
                      </a:lnTo>
                      <a:lnTo>
                        <a:pt x="66" y="243"/>
                      </a:lnTo>
                      <a:lnTo>
                        <a:pt x="130" y="0"/>
                      </a:lnTo>
                      <a:lnTo>
                        <a:pt x="872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  <a:effectLst>
                  <a:outerShdw dist="17819" dir="2700000" blurRad="0" rotWithShape="0">
                    <a:srgbClr val="22222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Line 19"/>
                <p:cNvSpPr/>
                <p:nvPr/>
              </p:nvSpPr>
              <p:spPr>
                <a:xfrm>
                  <a:off x="4057560" y="2273040"/>
                  <a:ext cx="2966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5" name="Group 20"/>
            <p:cNvGrpSpPr/>
            <p:nvPr/>
          </p:nvGrpSpPr>
          <p:grpSpPr>
            <a:xfrm>
              <a:off x="3712680" y="3074760"/>
              <a:ext cx="4884480" cy="1008360"/>
              <a:chOff x="3712680" y="3074760"/>
              <a:chExt cx="4884480" cy="1008360"/>
            </a:xfrm>
          </p:grpSpPr>
          <p:sp>
            <p:nvSpPr>
              <p:cNvPr id="496" name="Rectangle 21"/>
              <p:cNvSpPr/>
              <p:nvPr/>
            </p:nvSpPr>
            <p:spPr>
              <a:xfrm>
                <a:off x="3712680" y="336024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24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Rectangle 22"/>
              <p:cNvSpPr/>
              <p:nvPr/>
            </p:nvSpPr>
            <p:spPr>
              <a:xfrm>
                <a:off x="4175640" y="3074760"/>
                <a:ext cx="4390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2400" spc="-1" strike="noStrike">
                    <a:solidFill>
                      <a:srgbClr val="000000"/>
                    </a:solidFill>
                    <a:latin typeface="Arial"/>
                  </a:rPr>
                  <a:t>∑</a:t>
                </a:r>
                <a:r>
                  <a:rPr b="1" i="1" lang="en-AU" sz="2400" spc="-1" strike="noStrike">
                    <a:solidFill>
                      <a:srgbClr val="000000"/>
                    </a:solidFill>
                    <a:latin typeface="Arial"/>
                  </a:rPr>
                  <a:t>xy</a:t>
                </a:r>
                <a:r>
                  <a:rPr b="1" lang="en-AU" sz="2400" spc="-1" strike="noStrike">
                    <a:solidFill>
                      <a:srgbClr val="000000"/>
                    </a:solidFill>
                    <a:latin typeface="Arial"/>
                  </a:rPr>
                  <a:t> - (∑</a:t>
                </a:r>
                <a:r>
                  <a:rPr b="1" i="1" lang="en-AU" sz="2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AU" sz="2400" spc="-1" strike="noStrike">
                    <a:solidFill>
                      <a:srgbClr val="000000"/>
                    </a:solidFill>
                    <a:latin typeface="Arial"/>
                  </a:rPr>
                  <a:t>)(∑</a:t>
                </a:r>
                <a:r>
                  <a:rPr b="1" i="1" lang="en-AU" sz="2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r>
                  <a:rPr b="1" lang="en-AU" sz="2400" spc="-1" strike="noStrike">
                    <a:solidFill>
                      <a:srgbClr val="000000"/>
                    </a:solidFill>
                    <a:latin typeface="Arial"/>
                  </a:rPr>
                  <a:t>) / </a:t>
                </a:r>
                <a:r>
                  <a:rPr b="1" i="1" lang="en-AU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2400" spc="-1" strike="noStrike">
                    <a:solidFill>
                      <a:srgbClr val="000000"/>
                    </a:solidFill>
                    <a:latin typeface="Arial"/>
                  </a:rPr>
                  <a:t>  ∑</a:t>
                </a:r>
                <a:r>
                  <a:rPr b="1" i="1" lang="en-AU" sz="2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AU" sz="24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AU" sz="2400" spc="-1" strike="noStrike">
                    <a:solidFill>
                      <a:srgbClr val="000000"/>
                    </a:solidFill>
                    <a:latin typeface="Arial"/>
                  </a:rPr>
                  <a:t> - (∑</a:t>
                </a:r>
                <a:r>
                  <a:rPr b="1" i="1" lang="en-AU" sz="2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AU" sz="2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1" lang="en-AU" sz="24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AU" sz="2400" spc="-1" strike="noStrike">
                    <a:solidFill>
                      <a:srgbClr val="000000"/>
                    </a:solidFill>
                    <a:latin typeface="Arial"/>
                  </a:rPr>
                  <a:t> / </a:t>
                </a:r>
                <a:r>
                  <a:rPr b="1" i="1" lang="en-AU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1" lang="en-AU" sz="2400" spc="-1" strike="noStrike">
                    <a:solidFill>
                      <a:srgbClr val="000000"/>
                    </a:solidFill>
                    <a:latin typeface="Arial"/>
                  </a:rPr>
                  <a:t>   ∑</a:t>
                </a:r>
                <a:r>
                  <a:rPr b="1" i="1" lang="en-AU" sz="2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r>
                  <a:rPr b="1" lang="en-AU" sz="24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AU" sz="2400" spc="-1" strike="noStrike">
                    <a:solidFill>
                      <a:srgbClr val="000000"/>
                    </a:solidFill>
                    <a:latin typeface="Arial"/>
                  </a:rPr>
                  <a:t> - (∑</a:t>
                </a:r>
                <a:r>
                  <a:rPr b="1" i="1" lang="en-AU" sz="2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r>
                  <a:rPr b="1" lang="en-AU" sz="2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1" lang="en-AU" sz="24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AU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AU" sz="2400" spc="-1" strike="noStrike">
                    <a:solidFill>
                      <a:srgbClr val="000000"/>
                    </a:solidFill>
                    <a:latin typeface="Arial"/>
                  </a:rPr>
                  <a:t>/ </a:t>
                </a:r>
                <a:r>
                  <a:rPr b="1" i="1" lang="en-AU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3"/>
              <p:cNvSpPr/>
              <p:nvPr/>
            </p:nvSpPr>
            <p:spPr>
              <a:xfrm>
                <a:off x="4173120" y="3655440"/>
                <a:ext cx="2193480" cy="385200"/>
              </a:xfrm>
              <a:custGeom>
                <a:avLst/>
                <a:gdLst>
                  <a:gd name="textAreaLeft" fmla="*/ 0 w 2193480"/>
                  <a:gd name="textAreaRight" fmla="*/ 2193840 w 2193480"/>
                  <a:gd name="textAreaTop" fmla="*/ 0 h 385200"/>
                  <a:gd name="textAreaBottom" fmla="*/ 385560 h 385200"/>
                </a:gdLst>
                <a:ahLst/>
                <a:rect l="textAreaLeft" t="textAreaTop" r="textAreaRight" b="textAreaBottom"/>
                <a:pathLst>
                  <a:path w="1382" h="243">
                    <a:moveTo>
                      <a:pt x="0" y="176"/>
                    </a:moveTo>
                    <a:lnTo>
                      <a:pt x="42" y="133"/>
                    </a:lnTo>
                    <a:lnTo>
                      <a:pt x="66" y="243"/>
                    </a:lnTo>
                    <a:lnTo>
                      <a:pt x="130" y="0"/>
                    </a:lnTo>
                    <a:lnTo>
                      <a:pt x="1382" y="1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22222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4"/>
              <p:cNvSpPr/>
              <p:nvPr/>
            </p:nvSpPr>
            <p:spPr>
              <a:xfrm>
                <a:off x="6384600" y="3656880"/>
                <a:ext cx="2140920" cy="385560"/>
              </a:xfrm>
              <a:custGeom>
                <a:avLst/>
                <a:gdLst>
                  <a:gd name="textAreaLeft" fmla="*/ 0 w 2140920"/>
                  <a:gd name="textAreaRight" fmla="*/ 2141280 w 2140920"/>
                  <a:gd name="textAreaTop" fmla="*/ 0 h 385560"/>
                  <a:gd name="textAreaBottom" fmla="*/ 385920 h 385560"/>
                </a:gdLst>
                <a:ahLst/>
                <a:rect l="textAreaLeft" t="textAreaTop" r="textAreaRight" b="textAreaBottom"/>
                <a:pathLst>
                  <a:path w="1349" h="243">
                    <a:moveTo>
                      <a:pt x="0" y="176"/>
                    </a:moveTo>
                    <a:lnTo>
                      <a:pt x="42" y="133"/>
                    </a:lnTo>
                    <a:lnTo>
                      <a:pt x="66" y="243"/>
                    </a:lnTo>
                    <a:lnTo>
                      <a:pt x="130" y="0"/>
                    </a:lnTo>
                    <a:lnTo>
                      <a:pt x="1349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22222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Line 25"/>
              <p:cNvSpPr/>
              <p:nvPr/>
            </p:nvSpPr>
            <p:spPr>
              <a:xfrm>
                <a:off x="4131720" y="3594960"/>
                <a:ext cx="4465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1" name="Text Box 26"/>
          <p:cNvSpPr/>
          <p:nvPr/>
        </p:nvSpPr>
        <p:spPr>
          <a:xfrm>
            <a:off x="1604160" y="434340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 skor total atribut/variabel/pernyat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 skor tiap atribut/variabel/pernyat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: jumlah respo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8"/>
          <p:cNvSpPr/>
          <p:nvPr/>
        </p:nvSpPr>
        <p:spPr>
          <a:xfrm>
            <a:off x="1131840" y="5345280"/>
            <a:ext cx="43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 ditolak, jika r-hitung &gt; r-tabel (alpha,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1173240" y="985680"/>
            <a:ext cx="69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Bernard MT Condensed"/>
              </a:rPr>
              <a:t>Uji reliabili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1149480" y="1728720"/>
            <a:ext cx="7175520" cy="44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74"/>
              </a:spcAft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ji realibilitas adalah bertujuan untuk menunjukk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sistensi suatu alat ukur/kuisioner dalam menguk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jala yang s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atu alat pengukur seharusnya  memiliki kemampu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uk memberikan hasil pengukuran yang konsis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abila alat pengukur dipakai dua hal untuk menguk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jala yang sama dan hasilnya relati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konsist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a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katakan alat pengukur tersebut dikataka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reliab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gujian reliabilitas menggunakan: Rumus Spearman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n, Rumus Flanagan, Rumus Rulon, Rumus K-R.2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mus K-R.21, Rumus Alph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4" descr="nex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572000" y="6534000"/>
            <a:ext cx="380880" cy="18108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5"/>
          <p:cNvSpPr/>
          <p:nvPr/>
        </p:nvSpPr>
        <p:spPr>
          <a:xfrm rot="16200000">
            <a:off x="-2265840" y="3180240"/>
            <a:ext cx="52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ode &amp; Instrumen pengumpula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5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5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5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"/>
          <p:cNvSpPr/>
          <p:nvPr/>
        </p:nvSpPr>
        <p:spPr>
          <a:xfrm>
            <a:off x="1173240" y="985680"/>
            <a:ext cx="69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Bernard MT Condensed"/>
              </a:rPr>
              <a:t>Uji reliabili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3"/>
          <p:cNvSpPr/>
          <p:nvPr/>
        </p:nvSpPr>
        <p:spPr>
          <a:xfrm>
            <a:off x="1149480" y="1728720"/>
            <a:ext cx="738504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otes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o : Atribut/variabel/pernyataan tidak menghasilkan pengukuran y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onsis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1 : Atribut/variabel/pernyataan menghasilkan pengukuran ya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onsis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umus Spearman-Brow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tanyaan/atribut dibagi menjadi 2 bagian (split-half), yaitu pertanyaan ganjil dan genap sesuai nomor urut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4" descr="nex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572000" y="6534000"/>
            <a:ext cx="380880" cy="18108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5"/>
          <p:cNvSpPr/>
          <p:nvPr/>
        </p:nvSpPr>
        <p:spPr>
          <a:xfrm rot="16200000">
            <a:off x="-2265840" y="3180240"/>
            <a:ext cx="52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ode &amp; Instrumen pengumpula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1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Object 3"/>
              <p:cNvSpPr txBox="1"/>
              <p:nvPr/>
            </p:nvSpPr>
            <p:spPr>
              <a:xfrm>
                <a:off x="1523880" y="4572000"/>
                <a:ext cx="228600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</m:den>
                            </m:f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</m:den>
                            </m:f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4" name="Text Box 10"/>
          <p:cNvSpPr/>
          <p:nvPr/>
        </p:nvSpPr>
        <p:spPr>
          <a:xfrm>
            <a:off x="4191120" y="4724280"/>
            <a:ext cx="4359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reliabilitas instru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/2.1/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korelasi antar dua belahan ku</a:t>
            </a:r>
            <a:r>
              <a:rPr b="0" lang="id-ID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o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1"/>
          <p:cNvSpPr/>
          <p:nvPr/>
        </p:nvSpPr>
        <p:spPr>
          <a:xfrm>
            <a:off x="4115520" y="5522760"/>
            <a:ext cx="4528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atu variabel dikatakan konsisten d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abel jika koefisien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r-tabel (alpha,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1173240" y="985680"/>
            <a:ext cx="69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Bernard MT Condensed"/>
              </a:rPr>
              <a:t>Uji reliabili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1149480" y="1728720"/>
            <a:ext cx="71755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37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umus Flanaga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uisioner dilakukan belah dua, sepert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arman-B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umus Rul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uisioner dilakukan belah du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nex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572000" y="6534000"/>
            <a:ext cx="380880" cy="18108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5"/>
          <p:cNvSpPr/>
          <p:nvPr/>
        </p:nvSpPr>
        <p:spPr>
          <a:xfrm rot="16200000">
            <a:off x="-2265840" y="3180240"/>
            <a:ext cx="52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ode &amp; Instrumen pengumpula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2"/>
              <p:cNvSpPr txBox="1"/>
              <p:nvPr/>
            </p:nvSpPr>
            <p:spPr>
              <a:xfrm>
                <a:off x="1981080" y="2590920"/>
                <a:ext cx="16002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2" name="Text Box 8"/>
          <p:cNvSpPr/>
          <p:nvPr/>
        </p:nvSpPr>
        <p:spPr>
          <a:xfrm>
            <a:off x="4186080" y="2322360"/>
            <a:ext cx="378936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agam belahan pertama (ganj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agam belahan kedua (gen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agam total pertany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9"/>
          <p:cNvSpPr/>
          <p:nvPr/>
        </p:nvSpPr>
        <p:spPr>
          <a:xfrm>
            <a:off x="1904400" y="3389400"/>
            <a:ext cx="514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Jika r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&gt; r tabel, maka instrumen tersebut reli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Object 3"/>
              <p:cNvSpPr txBox="1"/>
              <p:nvPr/>
            </p:nvSpPr>
            <p:spPr>
              <a:xfrm>
                <a:off x="2133720" y="4724280"/>
                <a:ext cx="9144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6" name="Text Box 12"/>
          <p:cNvSpPr/>
          <p:nvPr/>
        </p:nvSpPr>
        <p:spPr>
          <a:xfrm>
            <a:off x="3897360" y="4648320"/>
            <a:ext cx="44751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agam beda (dihitung dari selisih sk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ahan ganjil dan belahan gen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agam total pertany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3"/>
          <p:cNvSpPr/>
          <p:nvPr/>
        </p:nvSpPr>
        <p:spPr>
          <a:xfrm>
            <a:off x="1767600" y="5715000"/>
            <a:ext cx="514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Jika r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&gt; r tabel, maka instrumen tersebut reli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2"/>
          <p:cNvSpPr/>
          <p:nvPr/>
        </p:nvSpPr>
        <p:spPr>
          <a:xfrm>
            <a:off x="1173240" y="985680"/>
            <a:ext cx="69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Bernard MT Condensed"/>
              </a:rPr>
              <a:t>Uji reliabili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"/>
          <p:cNvSpPr/>
          <p:nvPr/>
        </p:nvSpPr>
        <p:spPr>
          <a:xfrm>
            <a:off x="1149480" y="1728720"/>
            <a:ext cx="7175520" cy="39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umus Alph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mus K-R.20, dan Rumus K-R.21: tidak dilakukan pemilahan kuisio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37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Rumus Alp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37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mus K-R.2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nex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572000" y="6534000"/>
            <a:ext cx="380880" cy="18108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5"/>
          <p:cNvSpPr/>
          <p:nvPr/>
        </p:nvSpPr>
        <p:spPr>
          <a:xfrm rot="16200000">
            <a:off x="-2265840" y="3180240"/>
            <a:ext cx="52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ode &amp; Instrumen pengumpula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2"/>
              <p:cNvSpPr txBox="1"/>
              <p:nvPr/>
            </p:nvSpPr>
            <p:spPr>
              <a:xfrm>
                <a:off x="1600200" y="3352680"/>
                <a:ext cx="205740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4" name="Text Box 8"/>
          <p:cNvSpPr/>
          <p:nvPr/>
        </p:nvSpPr>
        <p:spPr>
          <a:xfrm>
            <a:off x="4098960" y="2932200"/>
            <a:ext cx="39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 : banyaknya atribut/pertany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: ragam setiap pertany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t : ragam total (total: penjumla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or dari setiap pertanya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3"/>
              <p:cNvSpPr txBox="1"/>
              <p:nvPr/>
            </p:nvSpPr>
            <p:spPr>
              <a:xfrm>
                <a:off x="1676520" y="4648320"/>
                <a:ext cx="2133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7" name="Text Box 11"/>
          <p:cNvSpPr/>
          <p:nvPr/>
        </p:nvSpPr>
        <p:spPr>
          <a:xfrm>
            <a:off x="4114800" y="4419720"/>
            <a:ext cx="39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 : banyaknya atribut/pertany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: rata</a:t>
            </a: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-r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kor setiap pertany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t : ragam total (total: penjmla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or dari setiap pertanya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5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"/>
          <p:cNvPicPr/>
          <p:nvPr/>
        </p:nvPicPr>
        <p:blipFill>
          <a:blip r:embed="rId1"/>
          <a:stretch/>
        </p:blipFill>
        <p:spPr>
          <a:xfrm>
            <a:off x="216000" y="231840"/>
            <a:ext cx="8815320" cy="8096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" descr=""/>
          <p:cNvPicPr/>
          <p:nvPr/>
        </p:nvPicPr>
        <p:blipFill>
          <a:blip r:embed="rId2"/>
          <a:stretch/>
        </p:blipFill>
        <p:spPr>
          <a:xfrm>
            <a:off x="633240" y="1279440"/>
            <a:ext cx="8172720" cy="44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3" descr=""/>
          <p:cNvPicPr/>
          <p:nvPr/>
        </p:nvPicPr>
        <p:blipFill>
          <a:blip r:embed="rId1"/>
          <a:stretch/>
        </p:blipFill>
        <p:spPr>
          <a:xfrm>
            <a:off x="1279440" y="576360"/>
            <a:ext cx="7175520" cy="476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"/>
          <p:cNvPicPr/>
          <p:nvPr/>
        </p:nvPicPr>
        <p:blipFill>
          <a:blip r:embed="rId1"/>
          <a:stretch/>
        </p:blipFill>
        <p:spPr>
          <a:xfrm>
            <a:off x="1154160" y="871560"/>
            <a:ext cx="6470640" cy="521964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2"/>
          <p:cNvSpPr/>
          <p:nvPr/>
        </p:nvSpPr>
        <p:spPr>
          <a:xfrm>
            <a:off x="6161040" y="4951440"/>
            <a:ext cx="2658960" cy="3808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0000"/>
                </a:solidFill>
                <a:latin typeface="Tw Cen MT"/>
              </a:rPr>
              <a:t>t hitung&gt;t tabel </a:t>
            </a:r>
            <a:r>
              <a:rPr b="0" lang="id-ID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id-ID" sz="1800" spc="-1" strike="noStrike">
                <a:solidFill>
                  <a:srgbClr val="ff0000"/>
                </a:solidFill>
                <a:latin typeface="Tw Cen MT"/>
              </a:rPr>
              <a:t> 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6286680" y="5624640"/>
            <a:ext cx="2657160" cy="37944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0000"/>
                </a:solidFill>
                <a:latin typeface="Tw Cen MT"/>
              </a:rPr>
              <a:t>r hitung&gt;r tabel </a:t>
            </a:r>
            <a:r>
              <a:rPr b="0" lang="id-ID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id-ID" sz="1800" spc="-1" strike="noStrike">
                <a:solidFill>
                  <a:srgbClr val="ff0000"/>
                </a:solidFill>
                <a:latin typeface="Tw Cen MT"/>
              </a:rPr>
              <a:t> 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174600"/>
            <a:ext cx="769644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4404"/>
                </a:solidFill>
                <a:latin typeface="Tw Cen MT"/>
              </a:rPr>
              <a:t>OUTLINE</a:t>
            </a:r>
            <a:r>
              <a:rPr b="0" lang="en-US" sz="4400" spc="-1" strike="noStrike">
                <a:solidFill>
                  <a:srgbClr val="ff9933"/>
                </a:solidFill>
                <a:latin typeface="Tw Cen MT"/>
              </a:rPr>
              <a:t> MATER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09440" y="1724040"/>
            <a:ext cx="732924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089000"/>
                <a:tab algn="l" pos="1596960"/>
                <a:tab algn="l" pos="229392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Bagaimana </a:t>
            </a:r>
            <a:r>
              <a:rPr b="1" lang="en-US" sz="2800" spc="-1" strike="noStrike">
                <a:solidFill>
                  <a:srgbClr val="f7b615"/>
                </a:solidFill>
                <a:latin typeface="Tw Cen MT"/>
              </a:rPr>
              <a:t>Mengukur Variab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3012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089000"/>
                <a:tab algn="l" pos="1596960"/>
                <a:tab algn="l" pos="229392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marL="33012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089000"/>
                <a:tab algn="l" pos="1596960"/>
                <a:tab algn="l" pos="229392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Definisi </a:t>
            </a:r>
            <a:r>
              <a:rPr b="1" lang="en-US" sz="2800" spc="-1" strike="noStrike">
                <a:solidFill>
                  <a:srgbClr val="f7b615"/>
                </a:solidFill>
                <a:latin typeface="Tw Cen MT"/>
              </a:rPr>
              <a:t>Operasional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: </a:t>
            </a:r>
            <a:r>
              <a:rPr b="1" lang="en-US" sz="2800" spc="-1" strike="noStrike">
                <a:solidFill>
                  <a:srgbClr val="f7b615"/>
                </a:solidFill>
                <a:latin typeface="Tw Cen MT"/>
              </a:rPr>
              <a:t>Dimensi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dan </a:t>
            </a:r>
            <a:r>
              <a:rPr b="1" lang="en-US" sz="2800" spc="-1" strike="noStrike">
                <a:solidFill>
                  <a:srgbClr val="f7b615"/>
                </a:solidFill>
                <a:latin typeface="Tw Cen MT"/>
              </a:rPr>
              <a:t>Eleme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3012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089000"/>
                <a:tab algn="l" pos="1596960"/>
                <a:tab algn="l" pos="229392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marL="33012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089000"/>
                <a:tab algn="l" pos="1596960"/>
                <a:tab algn="l" pos="229392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KAL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3012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089000"/>
                <a:tab algn="l" pos="1596960"/>
                <a:tab algn="l" pos="229392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kala </a:t>
            </a:r>
            <a:r>
              <a:rPr b="1" lang="en-US" sz="2800" spc="-1" strike="noStrike">
                <a:solidFill>
                  <a:srgbClr val="f7b615"/>
                </a:solidFill>
                <a:latin typeface="Tw Cen MT"/>
              </a:rPr>
              <a:t>Nominal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kala </a:t>
            </a:r>
            <a:r>
              <a:rPr b="1" lang="en-US" sz="2800" spc="-1" strike="noStrike">
                <a:solidFill>
                  <a:srgbClr val="f7b615"/>
                </a:solidFill>
                <a:latin typeface="Tw Cen MT"/>
              </a:rPr>
              <a:t>Ordinal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kala </a:t>
            </a:r>
            <a:r>
              <a:rPr b="1" lang="en-US" sz="2800" spc="-1" strike="noStrike">
                <a:solidFill>
                  <a:srgbClr val="f7b615"/>
                </a:solidFill>
                <a:latin typeface="Tw Cen MT"/>
              </a:rPr>
              <a:t>Interval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kala </a:t>
            </a:r>
            <a:r>
              <a:rPr b="1" lang="en-US" sz="2800" spc="-1" strike="noStrike">
                <a:solidFill>
                  <a:srgbClr val="f7b615"/>
                </a:solidFill>
                <a:latin typeface="Tw Cen MT"/>
              </a:rPr>
              <a:t>Rasio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Line 4"/>
          <p:cNvSpPr/>
          <p:nvPr/>
        </p:nvSpPr>
        <p:spPr>
          <a:xfrm>
            <a:off x="0" y="11955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"/>
          <p:cNvPicPr/>
          <p:nvPr/>
        </p:nvPicPr>
        <p:blipFill>
          <a:blip r:embed="rId1"/>
          <a:stretch/>
        </p:blipFill>
        <p:spPr>
          <a:xfrm>
            <a:off x="281160" y="1308240"/>
            <a:ext cx="8651880" cy="4965480"/>
          </a:xfrm>
          <a:prstGeom prst="rect">
            <a:avLst/>
          </a:prstGeom>
          <a:ln w="0">
            <a:noFill/>
          </a:ln>
        </p:spPr>
      </p:pic>
      <p:sp>
        <p:nvSpPr>
          <p:cNvPr id="545" name="Flowchart: Alternate Process 3"/>
          <p:cNvSpPr/>
          <p:nvPr/>
        </p:nvSpPr>
        <p:spPr>
          <a:xfrm>
            <a:off x="352440" y="3559320"/>
            <a:ext cx="8467560" cy="323640"/>
          </a:xfrm>
          <a:prstGeom prst="flowChartAlternateProcess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4"/>
          <p:cNvSpPr/>
          <p:nvPr/>
        </p:nvSpPr>
        <p:spPr>
          <a:xfrm>
            <a:off x="998640" y="576360"/>
            <a:ext cx="46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Perhitungan dengan SP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1773360" y="674640"/>
            <a:ext cx="5837040" cy="3067200"/>
          </a:xfrm>
          <a:prstGeom prst="rect">
            <a:avLst/>
          </a:prstGeom>
          <a:ln w="0">
            <a:noFill/>
          </a:ln>
        </p:spPr>
      </p:pic>
      <p:sp>
        <p:nvSpPr>
          <p:cNvPr id="548" name="TextBox 2"/>
          <p:cNvSpPr/>
          <p:nvPr/>
        </p:nvSpPr>
        <p:spPr>
          <a:xfrm>
            <a:off x="957240" y="4022640"/>
            <a:ext cx="71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Cronbach”s Alpha = 0,875 &gt; 0,50 , instrument penelitian reliab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731880" y="746280"/>
            <a:ext cx="7989840" cy="5176800"/>
          </a:xfrm>
          <a:prstGeom prst="rect">
            <a:avLst/>
          </a:prstGeom>
          <a:ln w="0">
            <a:noFill/>
          </a:ln>
        </p:spPr>
      </p:pic>
      <p:sp>
        <p:nvSpPr>
          <p:cNvPr id="550" name="Flowchart: Alternate Process 2"/>
          <p:cNvSpPr/>
          <p:nvPr/>
        </p:nvSpPr>
        <p:spPr>
          <a:xfrm>
            <a:off x="801720" y="3559320"/>
            <a:ext cx="7765920" cy="266400"/>
          </a:xfrm>
          <a:prstGeom prst="flowChartAlternateProcess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Box 1"/>
          <p:cNvSpPr/>
          <p:nvPr/>
        </p:nvSpPr>
        <p:spPr>
          <a:xfrm>
            <a:off x="1082520" y="760320"/>
            <a:ext cx="657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Bagaimana Bila Butir X5 Dihapus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2" descr=""/>
          <p:cNvPicPr/>
          <p:nvPr/>
        </p:nvPicPr>
        <p:blipFill>
          <a:blip r:embed="rId1"/>
          <a:stretch/>
        </p:blipFill>
        <p:spPr>
          <a:xfrm>
            <a:off x="731880" y="1392120"/>
            <a:ext cx="8004240" cy="472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"/>
          <p:cNvPicPr/>
          <p:nvPr/>
        </p:nvPicPr>
        <p:blipFill>
          <a:blip r:embed="rId1"/>
          <a:stretch/>
        </p:blipFill>
        <p:spPr>
          <a:xfrm>
            <a:off x="1730520" y="1336680"/>
            <a:ext cx="5781600" cy="33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477720" y="703440"/>
            <a:ext cx="8188560" cy="51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24000" y="174600"/>
            <a:ext cx="85341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4404"/>
                </a:solidFill>
                <a:latin typeface="Tw Cen MT"/>
              </a:rPr>
              <a:t>BAGAIMANA </a:t>
            </a:r>
            <a:r>
              <a:rPr b="0" lang="en-US" sz="3600" spc="-1" strike="noStrike">
                <a:solidFill>
                  <a:srgbClr val="ff9900"/>
                </a:solidFill>
                <a:latin typeface="Tw Cen MT"/>
              </a:rPr>
              <a:t>MENGUKUR VARIABEL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04520" y="1704960"/>
            <a:ext cx="765324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1089000"/>
                <a:tab algn="l" pos="1596960"/>
                <a:tab algn="l" pos="229392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704404"/>
                </a:solidFill>
                <a:latin typeface="Tw Cen MT"/>
              </a:rPr>
              <a:t>Obyek yang dapat diukur secara fisik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dengan sejumlah instrumen standar bukan merupakan masalah pengukuran. Misal </a:t>
            </a:r>
            <a:r>
              <a:rPr b="0" lang="en-US" sz="2400" spc="-1" strike="noStrike">
                <a:solidFill>
                  <a:srgbClr val="f7b615"/>
                </a:solidFill>
                <a:latin typeface="Tw Cen MT"/>
              </a:rPr>
              <a:t>panjang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dan </a:t>
            </a:r>
            <a:r>
              <a:rPr b="0" lang="en-US" sz="2400" spc="-1" strike="noStrike">
                <a:solidFill>
                  <a:srgbClr val="f7b615"/>
                </a:solidFill>
                <a:latin typeface="Tw Cen MT"/>
              </a:rPr>
              <a:t>lebar suatu produk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1089000"/>
                <a:tab algn="l" pos="1596960"/>
                <a:tab algn="l" pos="229392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1089000"/>
                <a:tab algn="l" pos="1596960"/>
                <a:tab algn="l" pos="229392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704404"/>
                </a:solidFill>
                <a:latin typeface="Tw Cen MT"/>
              </a:rPr>
              <a:t>Fenomena fisiologis yang terkait dengan manusia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juga mudah diukur melalui penggunaan instrumen ukur yang tepat. Misal </a:t>
            </a:r>
            <a:r>
              <a:rPr b="0" lang="en-US" sz="2400" spc="-1" strike="noStrike">
                <a:solidFill>
                  <a:srgbClr val="f7b615"/>
                </a:solidFill>
                <a:latin typeface="Tw Cen MT"/>
              </a:rPr>
              <a:t>tekanan darah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en-US" sz="2400" spc="-1" strike="noStrike">
                <a:solidFill>
                  <a:srgbClr val="f7b615"/>
                </a:solidFill>
                <a:latin typeface="Tw Cen MT"/>
              </a:rPr>
              <a:t>detak jantung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en-US" sz="2400" spc="-1" strike="noStrike">
                <a:solidFill>
                  <a:srgbClr val="f7b615"/>
                </a:solidFill>
                <a:latin typeface="Tw Cen MT"/>
              </a:rPr>
              <a:t>suhu tubuh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en-US" sz="2400" spc="-1" strike="noStrike">
                <a:solidFill>
                  <a:srgbClr val="f7b615"/>
                </a:solidFill>
                <a:latin typeface="Tw Cen MT"/>
              </a:rPr>
              <a:t>tinggi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dan </a:t>
            </a:r>
            <a:r>
              <a:rPr b="0" lang="en-US" sz="2400" spc="-1" strike="noStrike">
                <a:solidFill>
                  <a:srgbClr val="f7b615"/>
                </a:solidFill>
                <a:latin typeface="Tw Cen MT"/>
              </a:rPr>
              <a:t>berat badan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1089000"/>
                <a:tab algn="l" pos="1596960"/>
                <a:tab algn="l" pos="229392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1089000"/>
                <a:tab algn="l" pos="1596960"/>
                <a:tab algn="l" pos="229392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400" spc="-1" strike="noStrike">
                <a:solidFill>
                  <a:srgbClr val="f7b615"/>
                </a:solidFill>
                <a:latin typeface="Tw Cen MT"/>
              </a:rPr>
              <a:t>Perasaan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1" lang="en-US" sz="2400" spc="-1" strike="noStrike">
                <a:solidFill>
                  <a:srgbClr val="f7b615"/>
                </a:solidFill>
                <a:latin typeface="Tw Cen MT"/>
              </a:rPr>
              <a:t>sikap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, dan </a:t>
            </a:r>
            <a:r>
              <a:rPr b="1" lang="en-US" sz="2400" spc="-1" strike="noStrike">
                <a:solidFill>
                  <a:srgbClr val="f7b615"/>
                </a:solidFill>
                <a:latin typeface="Tw Cen MT"/>
              </a:rPr>
              <a:t>persepsi subjektif manusia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merupakan faktor atau variabel yang </a:t>
            </a:r>
            <a:r>
              <a:rPr b="1" lang="en-US" sz="2400" spc="-1" strike="noStrike">
                <a:solidFill>
                  <a:srgbClr val="704404"/>
                </a:solidFill>
                <a:latin typeface="Tw Cen MT"/>
              </a:rPr>
              <a:t>sulit untuk diukur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1089000"/>
                <a:tab algn="l" pos="1596960"/>
                <a:tab algn="l" pos="229392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Line 4"/>
          <p:cNvSpPr/>
          <p:nvPr/>
        </p:nvSpPr>
        <p:spPr>
          <a:xfrm>
            <a:off x="0" y="11955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86104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w Cen MT"/>
              </a:rPr>
              <a:t>KONSEP, DIMENSI dan ELEMEN</a:t>
            </a:r>
            <a:endParaRPr b="0" lang="en-US" sz="3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0" y="11001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7"/>
          <p:cNvSpPr/>
          <p:nvPr/>
        </p:nvSpPr>
        <p:spPr>
          <a:xfrm>
            <a:off x="3508200" y="1838160"/>
            <a:ext cx="1905120" cy="838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3603600" y="2062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ddc3"/>
                </a:solidFill>
                <a:latin typeface="Arial"/>
              </a:rPr>
              <a:t>Pembelajar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1527120" y="3257640"/>
            <a:ext cx="139068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bddc3"/>
                </a:solidFill>
                <a:latin typeface="Arial"/>
              </a:rPr>
              <a:t>Pemaha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0"/>
          <p:cNvSpPr/>
          <p:nvPr/>
        </p:nvSpPr>
        <p:spPr>
          <a:xfrm>
            <a:off x="3781440" y="3257640"/>
            <a:ext cx="139068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bddc3"/>
                </a:solidFill>
                <a:latin typeface="Arial"/>
              </a:rPr>
              <a:t>Ingat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1"/>
          <p:cNvSpPr/>
          <p:nvPr/>
        </p:nvSpPr>
        <p:spPr>
          <a:xfrm>
            <a:off x="6080040" y="3257640"/>
            <a:ext cx="139068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bddc3"/>
                </a:solidFill>
                <a:latin typeface="Arial"/>
              </a:rPr>
              <a:t>Pener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1041480" y="4129200"/>
            <a:ext cx="1066680" cy="641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bddc3"/>
                </a:solidFill>
                <a:latin typeface="Arial"/>
              </a:rPr>
              <a:t>Menjawab pertanyaan dgn be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2320920" y="4130640"/>
            <a:ext cx="1066680" cy="641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bddc3"/>
                </a:solidFill>
                <a:latin typeface="Arial"/>
              </a:rPr>
              <a:t>Memberi contoh yang tep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3921120" y="4143240"/>
            <a:ext cx="1066680" cy="11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bddc3"/>
                </a:solidFill>
                <a:latin typeface="Arial"/>
              </a:rPr>
              <a:t>Mengingat kembali pelajaran setelah beberapa wak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5"/>
          <p:cNvSpPr/>
          <p:nvPr/>
        </p:nvSpPr>
        <p:spPr>
          <a:xfrm>
            <a:off x="5521320" y="4114800"/>
            <a:ext cx="1184400" cy="11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bddc3"/>
                </a:solidFill>
                <a:latin typeface="Arial"/>
              </a:rPr>
              <a:t>Memecahkan masalah dgn menerapkan konsep yg dipahami &amp; diing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6"/>
          <p:cNvSpPr/>
          <p:nvPr/>
        </p:nvSpPr>
        <p:spPr>
          <a:xfrm>
            <a:off x="6915240" y="4114800"/>
            <a:ext cx="1143000" cy="1319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bddc3"/>
                </a:solidFill>
                <a:latin typeface="Arial"/>
              </a:rPr>
              <a:t>Menyatukan dgn bahan lain yang relev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7"/>
          <p:cNvSpPr/>
          <p:nvPr/>
        </p:nvSpPr>
        <p:spPr>
          <a:xfrm flipH="1">
            <a:off x="2305080" y="2666880"/>
            <a:ext cx="1828800" cy="533520"/>
          </a:xfrm>
          <a:prstGeom prst="line">
            <a:avLst/>
          </a:prstGeom>
          <a:ln w="28440">
            <a:solidFill>
              <a:srgbClr val="f7b6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8"/>
          <p:cNvSpPr/>
          <p:nvPr/>
        </p:nvSpPr>
        <p:spPr>
          <a:xfrm>
            <a:off x="4743360" y="2666880"/>
            <a:ext cx="1981440" cy="533520"/>
          </a:xfrm>
          <a:prstGeom prst="line">
            <a:avLst/>
          </a:prstGeom>
          <a:ln w="28440">
            <a:solidFill>
              <a:srgbClr val="f7b6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9"/>
          <p:cNvSpPr/>
          <p:nvPr/>
        </p:nvSpPr>
        <p:spPr>
          <a:xfrm>
            <a:off x="4454640" y="2701800"/>
            <a:ext cx="0" cy="533520"/>
          </a:xfrm>
          <a:prstGeom prst="line">
            <a:avLst/>
          </a:prstGeom>
          <a:ln w="28440">
            <a:solidFill>
              <a:srgbClr val="f7b6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0"/>
          <p:cNvSpPr/>
          <p:nvPr/>
        </p:nvSpPr>
        <p:spPr>
          <a:xfrm>
            <a:off x="4454640" y="3597120"/>
            <a:ext cx="0" cy="533520"/>
          </a:xfrm>
          <a:prstGeom prst="line">
            <a:avLst/>
          </a:prstGeom>
          <a:ln w="28440">
            <a:solidFill>
              <a:srgbClr val="f7b6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1"/>
          <p:cNvSpPr/>
          <p:nvPr/>
        </p:nvSpPr>
        <p:spPr>
          <a:xfrm flipH="1">
            <a:off x="1650960" y="3625920"/>
            <a:ext cx="533520" cy="457200"/>
          </a:xfrm>
          <a:prstGeom prst="line">
            <a:avLst/>
          </a:prstGeom>
          <a:ln w="28440">
            <a:solidFill>
              <a:srgbClr val="f7b6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2"/>
          <p:cNvSpPr/>
          <p:nvPr/>
        </p:nvSpPr>
        <p:spPr>
          <a:xfrm flipH="1">
            <a:off x="6210360" y="3625920"/>
            <a:ext cx="533520" cy="457200"/>
          </a:xfrm>
          <a:prstGeom prst="line">
            <a:avLst/>
          </a:prstGeom>
          <a:ln w="28440">
            <a:solidFill>
              <a:srgbClr val="f7b6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23"/>
          <p:cNvSpPr/>
          <p:nvPr/>
        </p:nvSpPr>
        <p:spPr>
          <a:xfrm>
            <a:off x="6832440" y="3622680"/>
            <a:ext cx="594000" cy="476280"/>
          </a:xfrm>
          <a:prstGeom prst="line">
            <a:avLst/>
          </a:prstGeom>
          <a:ln w="28440">
            <a:solidFill>
              <a:srgbClr val="f7b6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24"/>
          <p:cNvSpPr/>
          <p:nvPr/>
        </p:nvSpPr>
        <p:spPr>
          <a:xfrm>
            <a:off x="2270160" y="3625920"/>
            <a:ext cx="593640" cy="476280"/>
          </a:xfrm>
          <a:prstGeom prst="line">
            <a:avLst/>
          </a:prstGeom>
          <a:ln w="28440">
            <a:solidFill>
              <a:srgbClr val="f7b6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5"/>
          <p:cNvSpPr/>
          <p:nvPr/>
        </p:nvSpPr>
        <p:spPr>
          <a:xfrm>
            <a:off x="3924360" y="1467000"/>
            <a:ext cx="110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b615"/>
                </a:solidFill>
                <a:latin typeface="Arial"/>
              </a:rPr>
              <a:t>KONS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6"/>
          <p:cNvSpPr/>
          <p:nvPr/>
        </p:nvSpPr>
        <p:spPr>
          <a:xfrm>
            <a:off x="6781680" y="2876400"/>
            <a:ext cx="110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b615"/>
                </a:solidFill>
                <a:latin typeface="Arial"/>
              </a:rPr>
              <a:t>DIMEN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7"/>
          <p:cNvSpPr/>
          <p:nvPr/>
        </p:nvSpPr>
        <p:spPr>
          <a:xfrm>
            <a:off x="1009800" y="2876400"/>
            <a:ext cx="110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b615"/>
                </a:solidFill>
                <a:latin typeface="Arial"/>
              </a:rPr>
              <a:t>DIMEN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8"/>
          <p:cNvSpPr/>
          <p:nvPr/>
        </p:nvSpPr>
        <p:spPr>
          <a:xfrm>
            <a:off x="3924360" y="2914560"/>
            <a:ext cx="110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b615"/>
                </a:solidFill>
                <a:latin typeface="Arial"/>
              </a:rPr>
              <a:t>DIMEN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9"/>
          <p:cNvSpPr/>
          <p:nvPr/>
        </p:nvSpPr>
        <p:spPr>
          <a:xfrm>
            <a:off x="1028880" y="4826160"/>
            <a:ext cx="110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b615"/>
                </a:solidFill>
                <a:latin typeface="Arial"/>
              </a:rPr>
              <a:t>EL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0"/>
          <p:cNvSpPr/>
          <p:nvPr/>
        </p:nvSpPr>
        <p:spPr>
          <a:xfrm>
            <a:off x="2305080" y="4857840"/>
            <a:ext cx="110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b615"/>
                </a:solidFill>
                <a:latin typeface="Arial"/>
              </a:rPr>
              <a:t>EL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1"/>
          <p:cNvSpPr/>
          <p:nvPr/>
        </p:nvSpPr>
        <p:spPr>
          <a:xfrm>
            <a:off x="3905280" y="5429160"/>
            <a:ext cx="110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b615"/>
                </a:solidFill>
                <a:latin typeface="Arial"/>
              </a:rPr>
              <a:t>EL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2"/>
          <p:cNvSpPr/>
          <p:nvPr/>
        </p:nvSpPr>
        <p:spPr>
          <a:xfrm>
            <a:off x="5524560" y="5429160"/>
            <a:ext cx="110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b615"/>
                </a:solidFill>
                <a:latin typeface="Arial"/>
              </a:rPr>
              <a:t>EL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33"/>
          <p:cNvSpPr/>
          <p:nvPr/>
        </p:nvSpPr>
        <p:spPr>
          <a:xfrm>
            <a:off x="6934320" y="5429160"/>
            <a:ext cx="110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b615"/>
                </a:solidFill>
                <a:latin typeface="Arial"/>
              </a:rPr>
              <a:t>EL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86104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00"/>
                </a:solidFill>
                <a:latin typeface="Tw Cen MT"/>
              </a:rPr>
              <a:t>SKALA</a:t>
            </a:r>
            <a:r>
              <a:rPr b="0" lang="en-US" sz="4200" spc="-1" strike="noStrike">
                <a:solidFill>
                  <a:srgbClr val="f7b615"/>
                </a:solidFill>
                <a:latin typeface="Tw Cen MT"/>
              </a:rPr>
              <a:t>  </a:t>
            </a:r>
            <a:r>
              <a:rPr b="0" lang="en-US" sz="4200" spc="-1" strike="noStrike">
                <a:solidFill>
                  <a:srgbClr val="704404"/>
                </a:solidFill>
                <a:latin typeface="Tw Cen MT"/>
              </a:rPr>
              <a:t>PENGUKURAN</a:t>
            </a:r>
            <a:endParaRPr b="0" lang="en-US" sz="4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Line 3"/>
          <p:cNvSpPr/>
          <p:nvPr/>
        </p:nvSpPr>
        <p:spPr>
          <a:xfrm>
            <a:off x="0" y="11001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4"/>
          <p:cNvSpPr/>
          <p:nvPr/>
        </p:nvSpPr>
        <p:spPr>
          <a:xfrm>
            <a:off x="3508200" y="1523880"/>
            <a:ext cx="1905120" cy="838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3603600" y="1747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ddc3"/>
                </a:solidFill>
                <a:latin typeface="Arial"/>
              </a:rPr>
              <a:t>SK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704880" y="2943360"/>
            <a:ext cx="1390680" cy="58068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bddc3"/>
                </a:solidFill>
                <a:latin typeface="Arial"/>
              </a:rPr>
              <a:t>Skala NOM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2743200" y="2943360"/>
            <a:ext cx="1390680" cy="58068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bddc3"/>
                </a:solidFill>
                <a:latin typeface="Arial"/>
              </a:rPr>
              <a:t>Skala ORD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4857840" y="2943360"/>
            <a:ext cx="1390680" cy="58068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bddc3"/>
                </a:solidFill>
                <a:latin typeface="Arial"/>
              </a:rPr>
              <a:t>Skala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1"/>
          <p:cNvSpPr/>
          <p:nvPr/>
        </p:nvSpPr>
        <p:spPr>
          <a:xfrm>
            <a:off x="2743200" y="3914640"/>
            <a:ext cx="1371600" cy="52020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ddc3"/>
                </a:solidFill>
                <a:latin typeface="Arial"/>
              </a:rPr>
              <a:t>Perbedaan, Urut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4"/>
          <p:cNvSpPr/>
          <p:nvPr/>
        </p:nvSpPr>
        <p:spPr>
          <a:xfrm flipH="1">
            <a:off x="1447560" y="2352600"/>
            <a:ext cx="2685960" cy="533520"/>
          </a:xfrm>
          <a:prstGeom prst="line">
            <a:avLst/>
          </a:prstGeom>
          <a:ln w="28440">
            <a:solidFill>
              <a:srgbClr val="f7b6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5"/>
          <p:cNvSpPr/>
          <p:nvPr/>
        </p:nvSpPr>
        <p:spPr>
          <a:xfrm>
            <a:off x="4743360" y="2352600"/>
            <a:ext cx="2800440" cy="533520"/>
          </a:xfrm>
          <a:prstGeom prst="line">
            <a:avLst/>
          </a:prstGeom>
          <a:ln w="28440">
            <a:solidFill>
              <a:srgbClr val="f7b6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6"/>
          <p:cNvSpPr/>
          <p:nvPr/>
        </p:nvSpPr>
        <p:spPr>
          <a:xfrm flipH="1">
            <a:off x="3504960" y="2368440"/>
            <a:ext cx="834840" cy="574920"/>
          </a:xfrm>
          <a:prstGeom prst="line">
            <a:avLst/>
          </a:prstGeom>
          <a:ln w="28440">
            <a:solidFill>
              <a:srgbClr val="f7b6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7"/>
          <p:cNvSpPr/>
          <p:nvPr/>
        </p:nvSpPr>
        <p:spPr>
          <a:xfrm>
            <a:off x="3429000" y="3562200"/>
            <a:ext cx="0" cy="333360"/>
          </a:xfrm>
          <a:prstGeom prst="line">
            <a:avLst/>
          </a:prstGeom>
          <a:ln w="28440">
            <a:solidFill>
              <a:srgbClr val="f7b6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1"/>
          <p:cNvSpPr/>
          <p:nvPr/>
        </p:nvSpPr>
        <p:spPr>
          <a:xfrm>
            <a:off x="6972480" y="2943360"/>
            <a:ext cx="1390320" cy="58068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bddc3"/>
                </a:solidFill>
                <a:latin typeface="Arial"/>
              </a:rPr>
              <a:t>Skala RAS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2"/>
          <p:cNvSpPr/>
          <p:nvPr/>
        </p:nvSpPr>
        <p:spPr>
          <a:xfrm>
            <a:off x="4511520" y="2352600"/>
            <a:ext cx="955800" cy="590760"/>
          </a:xfrm>
          <a:prstGeom prst="line">
            <a:avLst/>
          </a:prstGeom>
          <a:ln w="28440">
            <a:solidFill>
              <a:srgbClr val="f7b6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33"/>
          <p:cNvSpPr/>
          <p:nvPr/>
        </p:nvSpPr>
        <p:spPr>
          <a:xfrm>
            <a:off x="704880" y="3924360"/>
            <a:ext cx="137160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ddc3"/>
                </a:solidFill>
                <a:latin typeface="Arial"/>
              </a:rPr>
              <a:t>Perbeda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34"/>
          <p:cNvSpPr/>
          <p:nvPr/>
        </p:nvSpPr>
        <p:spPr>
          <a:xfrm>
            <a:off x="1390680" y="3571920"/>
            <a:ext cx="0" cy="333360"/>
          </a:xfrm>
          <a:prstGeom prst="line">
            <a:avLst/>
          </a:prstGeom>
          <a:ln w="28440">
            <a:solidFill>
              <a:srgbClr val="f7b6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35"/>
          <p:cNvSpPr/>
          <p:nvPr/>
        </p:nvSpPr>
        <p:spPr>
          <a:xfrm>
            <a:off x="4857840" y="3924360"/>
            <a:ext cx="1371600" cy="52020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ddc3"/>
                </a:solidFill>
                <a:latin typeface="Arial"/>
              </a:rPr>
              <a:t>Perbedaan, Urutan,  Jar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36"/>
          <p:cNvSpPr/>
          <p:nvPr/>
        </p:nvSpPr>
        <p:spPr>
          <a:xfrm>
            <a:off x="5543640" y="3571920"/>
            <a:ext cx="0" cy="333360"/>
          </a:xfrm>
          <a:prstGeom prst="line">
            <a:avLst/>
          </a:prstGeom>
          <a:ln w="28440">
            <a:solidFill>
              <a:srgbClr val="f7b6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7"/>
          <p:cNvSpPr/>
          <p:nvPr/>
        </p:nvSpPr>
        <p:spPr>
          <a:xfrm>
            <a:off x="6991200" y="3924360"/>
            <a:ext cx="1371600" cy="1159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ddc3"/>
                </a:solidFill>
                <a:latin typeface="Arial"/>
              </a:rPr>
              <a:t>Perbedaan, Urutan,  Jarak,       Titik awal kh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8"/>
          <p:cNvSpPr/>
          <p:nvPr/>
        </p:nvSpPr>
        <p:spPr>
          <a:xfrm>
            <a:off x="7677000" y="3571920"/>
            <a:ext cx="0" cy="333360"/>
          </a:xfrm>
          <a:prstGeom prst="line">
            <a:avLst/>
          </a:prstGeom>
          <a:ln w="28440">
            <a:solidFill>
              <a:srgbClr val="f7b6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600" y="174600"/>
            <a:ext cx="86104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704404"/>
                </a:solidFill>
                <a:uFillTx/>
                <a:latin typeface="Tw Cen MT"/>
              </a:rPr>
              <a:t>Contoh</a:t>
            </a:r>
            <a:r>
              <a:rPr b="0" lang="en-US" sz="4000" spc="-1" strike="noStrike">
                <a:solidFill>
                  <a:srgbClr val="f7b615"/>
                </a:solidFill>
                <a:latin typeface="Tw Cen MT"/>
              </a:rPr>
              <a:t> : </a:t>
            </a:r>
            <a:r>
              <a:rPr b="0" lang="en-US" sz="4000" spc="-1" strike="noStrike">
                <a:solidFill>
                  <a:srgbClr val="ff9933"/>
                </a:solidFill>
                <a:latin typeface="Tw Cen MT"/>
              </a:rPr>
              <a:t>SKALA LIKER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75960" y="1523880"/>
            <a:ext cx="765324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ctr" pos="914400"/>
                <a:tab algn="ctr" pos="2286000"/>
                <a:tab algn="ctr" pos="3657600"/>
                <a:tab algn="ctr" pos="5029200"/>
                <a:tab algn="l" pos="5143680"/>
                <a:tab algn="ctr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yatakan tingkat kesetujuan Anda pada tiap-tiap pernyataan 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 berikut dengan menggunakan skala di bawah ini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ctr" pos="914400"/>
                <a:tab algn="ctr" pos="2286000"/>
                <a:tab algn="ctr" pos="3657600"/>
                <a:tab algn="ctr" pos="5029200"/>
                <a:tab algn="l" pos="5143680"/>
                <a:tab algn="ctr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ctr" pos="914400"/>
                <a:tab algn="ctr" pos="2286000"/>
                <a:tab algn="ctr" pos="3657600"/>
                <a:tab algn="ctr" pos="5029200"/>
                <a:tab algn="l" pos="5143680"/>
                <a:tab algn="ctr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angat Tidak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idak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idak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angat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tuju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tuju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erpendapat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tuju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tuju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ctr" pos="914400"/>
                <a:tab algn="ctr" pos="2286000"/>
                <a:tab algn="ctr" pos="3657600"/>
                <a:tab algn="ctr" pos="5029200"/>
                <a:tab algn="l" pos="5143680"/>
                <a:tab algn="ctr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ctr" pos="914400"/>
                <a:tab algn="ctr" pos="2286000"/>
                <a:tab algn="ctr" pos="3657600"/>
                <a:tab algn="ctr" pos="5029200"/>
                <a:tab algn="l" pos="5143680"/>
                <a:tab algn="ctr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Kualitas perkuliahan yang saya ikuti saat ini sebaik           1  2  3  4  5 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  yang dapat saya harapkan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ctr" pos="914400"/>
                <a:tab algn="ctr" pos="2286000"/>
                <a:tab algn="ctr" pos="3657600"/>
                <a:tab algn="ctr" pos="5029200"/>
                <a:tab algn="l" pos="5143680"/>
                <a:tab algn="ctr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aya puas dgn kebanyakan perkuliahan yg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aya ikuti.       1  2  3  4  5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ctr" pos="914400"/>
                <a:tab algn="ctr" pos="2286000"/>
                <a:tab algn="ctr" pos="3657600"/>
                <a:tab algn="ctr" pos="5029200"/>
                <a:tab algn="l" pos="5143680"/>
                <a:tab algn="ctr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Kebanyakan perkuliahan yang saya ikuti terlalu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 membosankan.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                             1  2  3  4  5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Line 4"/>
          <p:cNvSpPr/>
          <p:nvPr/>
        </p:nvSpPr>
        <p:spPr>
          <a:xfrm>
            <a:off x="0" y="11955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7"/>
          <p:cNvGrpSpPr/>
          <p:nvPr/>
        </p:nvGrpSpPr>
        <p:grpSpPr>
          <a:xfrm>
            <a:off x="857160" y="2495520"/>
            <a:ext cx="7391520" cy="3276720"/>
            <a:chOff x="857160" y="2495520"/>
            <a:chExt cx="7391520" cy="3276720"/>
          </a:xfrm>
        </p:grpSpPr>
        <p:sp>
          <p:nvSpPr>
            <p:cNvPr id="411" name="Rectangle 5"/>
            <p:cNvSpPr/>
            <p:nvPr/>
          </p:nvSpPr>
          <p:spPr>
            <a:xfrm>
              <a:off x="857160" y="2495520"/>
              <a:ext cx="7391520" cy="3276720"/>
            </a:xfrm>
            <a:prstGeom prst="rect">
              <a:avLst/>
            </a:prstGeom>
            <a:noFill/>
            <a:ln w="936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6"/>
            <p:cNvSpPr/>
            <p:nvPr/>
          </p:nvSpPr>
          <p:spPr>
            <a:xfrm>
              <a:off x="857160" y="3676680"/>
              <a:ext cx="739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8600" y="174600"/>
            <a:ext cx="86104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704404"/>
                </a:solidFill>
                <a:uFillTx/>
                <a:latin typeface="Tw Cen MT"/>
              </a:rPr>
              <a:t>Contoh</a:t>
            </a:r>
            <a:r>
              <a:rPr b="0" lang="en-US" sz="4000" spc="-1" strike="noStrike">
                <a:solidFill>
                  <a:srgbClr val="f7b615"/>
                </a:solidFill>
                <a:latin typeface="Tw Cen MT"/>
              </a:rPr>
              <a:t> : </a:t>
            </a:r>
            <a:r>
              <a:rPr b="0" lang="en-US" sz="4000" spc="-1" strike="noStrike">
                <a:solidFill>
                  <a:srgbClr val="ff9933"/>
                </a:solidFill>
                <a:latin typeface="Tw Cen MT"/>
              </a:rPr>
              <a:t>SKALA NUMERIKAL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7720" y="1719000"/>
            <a:ext cx="755820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343080"/>
                <a:tab algn="l" pos="1257480"/>
                <a:tab algn="l" pos="1943280"/>
                <a:tab algn="l" pos="2629080"/>
                <a:tab algn="l" pos="3314880"/>
                <a:tab algn="l" pos="4000680"/>
                <a:tab algn="l" pos="4686480"/>
                <a:tab algn="l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eberapa puas Anda dengan pelaksanaan perkuliahan yang  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elama ini anda jalani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43080"/>
                <a:tab algn="l" pos="1257480"/>
                <a:tab algn="l" pos="1943280"/>
                <a:tab algn="l" pos="2629080"/>
                <a:tab algn="l" pos="3314880"/>
                <a:tab algn="l" pos="4000680"/>
                <a:tab algn="l" pos="4686480"/>
                <a:tab algn="l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43080"/>
                <a:tab algn="l" pos="1257480"/>
                <a:tab algn="l" pos="1943280"/>
                <a:tab algn="l" pos="2629080"/>
                <a:tab algn="l" pos="3314880"/>
                <a:tab algn="l" pos="4000680"/>
                <a:tab algn="l" pos="4686480"/>
                <a:tab algn="l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angat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            Sangat  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      Puas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5 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          Tidak Pua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43080"/>
                <a:tab algn="l" pos="1257480"/>
                <a:tab algn="l" pos="1943280"/>
                <a:tab algn="l" pos="2629080"/>
                <a:tab algn="l" pos="3314880"/>
                <a:tab algn="l" pos="4000680"/>
                <a:tab algn="l" pos="4686480"/>
                <a:tab algn="l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343080"/>
                <a:tab algn="l" pos="1257480"/>
                <a:tab algn="l" pos="1943280"/>
                <a:tab algn="l" pos="2629080"/>
                <a:tab algn="l" pos="3314880"/>
                <a:tab algn="l" pos="4000680"/>
                <a:tab algn="l" pos="4686480"/>
                <a:tab algn="l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yatakan tingkat kepentingan Anda terhadap kehadiran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alam suatu pelaksanaan perkuliaha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43080"/>
                <a:tab algn="l" pos="1257480"/>
                <a:tab algn="l" pos="1943280"/>
                <a:tab algn="l" pos="2629080"/>
                <a:tab algn="l" pos="3314880"/>
                <a:tab algn="l" pos="4000680"/>
                <a:tab algn="l" pos="4686480"/>
                <a:tab algn="l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43080"/>
                <a:tab algn="l" pos="1257480"/>
                <a:tab algn="l" pos="1943280"/>
                <a:tab algn="l" pos="2629080"/>
                <a:tab algn="l" pos="3314880"/>
                <a:tab algn="l" pos="4000680"/>
                <a:tab algn="l" pos="4686480"/>
                <a:tab algn="l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angat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            Sangat  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      Puas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5 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          Tidak Pua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Line 4"/>
          <p:cNvSpPr/>
          <p:nvPr/>
        </p:nvSpPr>
        <p:spPr>
          <a:xfrm>
            <a:off x="0" y="11955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11"/>
          <p:cNvGrpSpPr/>
          <p:nvPr/>
        </p:nvGrpSpPr>
        <p:grpSpPr>
          <a:xfrm>
            <a:off x="762120" y="1676520"/>
            <a:ext cx="7696080" cy="1790640"/>
            <a:chOff x="762120" y="1676520"/>
            <a:chExt cx="7696080" cy="1790640"/>
          </a:xfrm>
        </p:grpSpPr>
        <p:sp>
          <p:nvSpPr>
            <p:cNvPr id="417" name="Rectangle 9"/>
            <p:cNvSpPr/>
            <p:nvPr/>
          </p:nvSpPr>
          <p:spPr>
            <a:xfrm>
              <a:off x="762120" y="1676520"/>
              <a:ext cx="7696080" cy="1790640"/>
            </a:xfrm>
            <a:prstGeom prst="rect">
              <a:avLst/>
            </a:prstGeom>
            <a:noFill/>
            <a:ln w="936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10"/>
            <p:cNvSpPr/>
            <p:nvPr/>
          </p:nvSpPr>
          <p:spPr>
            <a:xfrm>
              <a:off x="762120" y="2590920"/>
              <a:ext cx="76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12"/>
          <p:cNvGrpSpPr/>
          <p:nvPr/>
        </p:nvGrpSpPr>
        <p:grpSpPr>
          <a:xfrm>
            <a:off x="762120" y="3886200"/>
            <a:ext cx="7696080" cy="1790640"/>
            <a:chOff x="762120" y="3886200"/>
            <a:chExt cx="7696080" cy="1790640"/>
          </a:xfrm>
        </p:grpSpPr>
        <p:sp>
          <p:nvSpPr>
            <p:cNvPr id="420" name="Rectangle 13"/>
            <p:cNvSpPr/>
            <p:nvPr/>
          </p:nvSpPr>
          <p:spPr>
            <a:xfrm>
              <a:off x="762120" y="3886200"/>
              <a:ext cx="7696080" cy="1790640"/>
            </a:xfrm>
            <a:prstGeom prst="rect">
              <a:avLst/>
            </a:prstGeom>
            <a:noFill/>
            <a:ln w="936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14"/>
            <p:cNvSpPr/>
            <p:nvPr/>
          </p:nvSpPr>
          <p:spPr>
            <a:xfrm>
              <a:off x="762120" y="4800600"/>
              <a:ext cx="76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590400" y="2562120"/>
            <a:ext cx="1143000" cy="10166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Ketepatan</a:t>
            </a:r>
            <a:r>
              <a:rPr b="1" lang="en-US" sz="1400" spc="-1" strike="noStrike">
                <a:solidFill>
                  <a:srgbClr val="704404"/>
                </a:solidFill>
                <a:latin typeface="Arial"/>
              </a:rPr>
              <a:t>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861048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"/>
              </a:rPr>
              <a:t>KETEPATAN</a:t>
            </a:r>
            <a:r>
              <a:rPr b="0" lang="en-US" sz="4000" spc="-1" strike="noStrike">
                <a:solidFill>
                  <a:srgbClr val="f7b615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704404"/>
                </a:solidFill>
                <a:latin typeface="Tw Cen MT"/>
              </a:rPr>
              <a:t>PENGUKURA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4" name="Line 12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2019240" y="1990800"/>
            <a:ext cx="1181160" cy="854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7b615"/>
                </a:solidFill>
                <a:latin typeface="Arial"/>
              </a:rPr>
              <a:t>Keandalan</a:t>
            </a:r>
            <a:r>
              <a:rPr b="1" lang="en-US" sz="1200" spc="-1" strike="noStrike">
                <a:solidFill>
                  <a:srgbClr val="704404"/>
                </a:solidFill>
                <a:latin typeface="Arial"/>
              </a:rPr>
              <a:t> (ketelitian dalam pengukur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2000160" y="3186000"/>
            <a:ext cx="1181160" cy="854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7b615"/>
                </a:solidFill>
                <a:latin typeface="Arial"/>
              </a:rPr>
              <a:t>Validitas</a:t>
            </a:r>
            <a:r>
              <a:rPr b="1" lang="en-US" sz="1200" spc="-1" strike="noStrike">
                <a:solidFill>
                  <a:srgbClr val="704404"/>
                </a:solidFill>
                <a:latin typeface="Arial"/>
              </a:rPr>
              <a:t> (apakah kita mengukur hal yg ben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3486240" y="1733400"/>
            <a:ext cx="1238040" cy="307080"/>
          </a:xfrm>
          <a:prstGeom prst="rect">
            <a:avLst/>
          </a:prstGeom>
          <a:solidFill>
            <a:srgbClr val="333300"/>
          </a:solidFill>
          <a:ln w="28440">
            <a:solidFill>
              <a:srgbClr val="704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tabili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3486240" y="2743200"/>
            <a:ext cx="1238040" cy="307080"/>
          </a:xfrm>
          <a:prstGeom prst="rect">
            <a:avLst/>
          </a:prstGeom>
          <a:solidFill>
            <a:srgbClr val="333300"/>
          </a:solidFill>
          <a:ln w="28440">
            <a:solidFill>
              <a:srgbClr val="704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Konsisten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5295960" y="1409760"/>
            <a:ext cx="3162240" cy="307080"/>
          </a:xfrm>
          <a:prstGeom prst="rect">
            <a:avLst/>
          </a:prstGeom>
          <a:solidFill>
            <a:srgbClr val="333300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Keandalan tes ul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5276880" y="1886040"/>
            <a:ext cx="3181320" cy="307080"/>
          </a:xfrm>
          <a:prstGeom prst="rect">
            <a:avLst/>
          </a:prstGeom>
          <a:solidFill>
            <a:srgbClr val="333300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Keandalan bentuk paral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5295960" y="2552760"/>
            <a:ext cx="3162240" cy="307080"/>
          </a:xfrm>
          <a:prstGeom prst="rect">
            <a:avLst/>
          </a:prstGeom>
          <a:solidFill>
            <a:srgbClr val="333300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Keandalan konsistensi antar-i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0"/>
          <p:cNvSpPr/>
          <p:nvPr/>
        </p:nvSpPr>
        <p:spPr>
          <a:xfrm>
            <a:off x="5276880" y="3019320"/>
            <a:ext cx="3181320" cy="307080"/>
          </a:xfrm>
          <a:prstGeom prst="rect">
            <a:avLst/>
          </a:prstGeom>
          <a:solidFill>
            <a:srgbClr val="333300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Keandalan belah d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723960" y="4433760"/>
            <a:ext cx="1447920" cy="520200"/>
          </a:xfrm>
          <a:prstGeom prst="rect">
            <a:avLst/>
          </a:prstGeom>
          <a:solidFill>
            <a:srgbClr val="333300"/>
          </a:solidFill>
          <a:ln w="28440">
            <a:solidFill>
              <a:srgbClr val="704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Validitas logis</a:t>
            </a:r>
            <a:r>
              <a:rPr b="1" lang="en-US" sz="1400" spc="-1" strike="noStrike">
                <a:solidFill>
                  <a:srgbClr val="f7b615"/>
                </a:solidFill>
                <a:latin typeface="Arial"/>
              </a:rPr>
              <a:t> (</a:t>
            </a: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ISI</a:t>
            </a:r>
            <a:r>
              <a:rPr b="1" lang="en-US" sz="1400" spc="-1" strike="noStrike">
                <a:solidFill>
                  <a:srgbClr val="f7b615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2"/>
          <p:cNvSpPr/>
          <p:nvPr/>
        </p:nvSpPr>
        <p:spPr>
          <a:xfrm>
            <a:off x="3219480" y="4419720"/>
            <a:ext cx="2057400" cy="520200"/>
          </a:xfrm>
          <a:prstGeom prst="rect">
            <a:avLst/>
          </a:prstGeom>
          <a:solidFill>
            <a:srgbClr val="333300"/>
          </a:solidFill>
          <a:ln w="28440">
            <a:solidFill>
              <a:srgbClr val="704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Validitas berdasarkan</a:t>
            </a:r>
            <a:r>
              <a:rPr b="1" lang="en-US" sz="1400" spc="-1" strike="noStrike">
                <a:solidFill>
                  <a:srgbClr val="f7b615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KRI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3"/>
          <p:cNvSpPr/>
          <p:nvPr/>
        </p:nvSpPr>
        <p:spPr>
          <a:xfrm>
            <a:off x="6210360" y="4419720"/>
            <a:ext cx="1847880" cy="520200"/>
          </a:xfrm>
          <a:prstGeom prst="rect">
            <a:avLst/>
          </a:prstGeom>
          <a:solidFill>
            <a:srgbClr val="333300"/>
          </a:solidFill>
          <a:ln w="28440">
            <a:solidFill>
              <a:srgbClr val="704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Validitas kon</a:t>
            </a:r>
            <a:r>
              <a:rPr b="1" lang="id-ID" sz="1400" spc="-1" strike="noStrike">
                <a:solidFill>
                  <a:srgbClr val="ffff00"/>
                </a:solidFill>
                <a:latin typeface="Arial"/>
              </a:rPr>
              <a:t>struk</a:t>
            </a:r>
            <a:r>
              <a:rPr b="1" lang="en-US" sz="1400" spc="-1" strike="noStrike">
                <a:solidFill>
                  <a:srgbClr val="f7b615"/>
                </a:solidFill>
                <a:latin typeface="Arial"/>
              </a:rPr>
              <a:t> (</a:t>
            </a: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KONSEP</a:t>
            </a:r>
            <a:r>
              <a:rPr b="1" lang="en-US" sz="1400" spc="-1" strike="noStrike">
                <a:solidFill>
                  <a:srgbClr val="f7b615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4"/>
          <p:cNvSpPr/>
          <p:nvPr/>
        </p:nvSpPr>
        <p:spPr>
          <a:xfrm>
            <a:off x="723960" y="5359320"/>
            <a:ext cx="1447920" cy="291960"/>
          </a:xfrm>
          <a:prstGeom prst="rect">
            <a:avLst/>
          </a:prstGeom>
          <a:solidFill>
            <a:srgbClr val="333300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Validitas muk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5"/>
          <p:cNvSpPr/>
          <p:nvPr/>
        </p:nvSpPr>
        <p:spPr>
          <a:xfrm>
            <a:off x="3181320" y="5353200"/>
            <a:ext cx="990720" cy="291960"/>
          </a:xfrm>
          <a:prstGeom prst="rect">
            <a:avLst/>
          </a:prstGeom>
          <a:solidFill>
            <a:srgbClr val="333300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Predikti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6"/>
          <p:cNvSpPr/>
          <p:nvPr/>
        </p:nvSpPr>
        <p:spPr>
          <a:xfrm>
            <a:off x="4324320" y="5353200"/>
            <a:ext cx="990720" cy="291960"/>
          </a:xfrm>
          <a:prstGeom prst="rect">
            <a:avLst/>
          </a:prstGeom>
          <a:solidFill>
            <a:srgbClr val="333300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Konkur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7"/>
          <p:cNvSpPr/>
          <p:nvPr/>
        </p:nvSpPr>
        <p:spPr>
          <a:xfrm>
            <a:off x="5943600" y="5353200"/>
            <a:ext cx="1104840" cy="291960"/>
          </a:xfrm>
          <a:prstGeom prst="rect">
            <a:avLst/>
          </a:prstGeom>
          <a:solidFill>
            <a:srgbClr val="333300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99ff"/>
                </a:solidFill>
                <a:latin typeface="Arial"/>
              </a:rPr>
              <a:t>Konverg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8"/>
          <p:cNvSpPr/>
          <p:nvPr/>
        </p:nvSpPr>
        <p:spPr>
          <a:xfrm>
            <a:off x="7201080" y="5353200"/>
            <a:ext cx="1180800" cy="291960"/>
          </a:xfrm>
          <a:prstGeom prst="rect">
            <a:avLst/>
          </a:prstGeom>
          <a:solidFill>
            <a:srgbClr val="333300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99ff"/>
                </a:solidFill>
                <a:latin typeface="Arial"/>
              </a:rPr>
              <a:t>Diskrimin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31"/>
          <p:cNvGrpSpPr/>
          <p:nvPr/>
        </p:nvGrpSpPr>
        <p:grpSpPr>
          <a:xfrm>
            <a:off x="1733400" y="2324160"/>
            <a:ext cx="266760" cy="1371600"/>
            <a:chOff x="1733400" y="2324160"/>
            <a:chExt cx="266760" cy="1371600"/>
          </a:xfrm>
        </p:grpSpPr>
        <p:sp>
          <p:nvSpPr>
            <p:cNvPr id="442" name="AutoShape 29"/>
            <p:cNvSpPr/>
            <p:nvPr/>
          </p:nvSpPr>
          <p:spPr>
            <a:xfrm>
              <a:off x="1886040" y="2324160"/>
              <a:ext cx="114120" cy="1371600"/>
            </a:xfrm>
            <a:custGeom>
              <a:avLst/>
              <a:gdLst>
                <a:gd name="textAreaLeft" fmla="*/ 33480 w 114120"/>
                <a:gd name="textAreaRight" fmla="*/ 114480 w 114120"/>
                <a:gd name="textAreaTop" fmla="*/ 56880 h 1371600"/>
                <a:gd name="textAreaBottom" fmla="*/ 13147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30"/>
            <p:cNvSpPr/>
            <p:nvPr/>
          </p:nvSpPr>
          <p:spPr>
            <a:xfrm>
              <a:off x="1733400" y="300996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32"/>
          <p:cNvGrpSpPr/>
          <p:nvPr/>
        </p:nvGrpSpPr>
        <p:grpSpPr>
          <a:xfrm>
            <a:off x="3219480" y="1905120"/>
            <a:ext cx="285480" cy="1009440"/>
            <a:chOff x="3219480" y="1905120"/>
            <a:chExt cx="285480" cy="1009440"/>
          </a:xfrm>
        </p:grpSpPr>
        <p:sp>
          <p:nvSpPr>
            <p:cNvPr id="445" name="AutoShape 33"/>
            <p:cNvSpPr/>
            <p:nvPr/>
          </p:nvSpPr>
          <p:spPr>
            <a:xfrm>
              <a:off x="3382920" y="1905120"/>
              <a:ext cx="122040" cy="1009440"/>
            </a:xfrm>
            <a:custGeom>
              <a:avLst/>
              <a:gdLst>
                <a:gd name="textAreaLeft" fmla="*/ 35640 w 122040"/>
                <a:gd name="textAreaRight" fmla="*/ 122040 w 122040"/>
                <a:gd name="textAreaTop" fmla="*/ 41760 h 1009440"/>
                <a:gd name="textAreaBottom" fmla="*/ 967680 h 100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34"/>
            <p:cNvSpPr/>
            <p:nvPr/>
          </p:nvSpPr>
          <p:spPr>
            <a:xfrm>
              <a:off x="3219480" y="2409840"/>
              <a:ext cx="1634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Line 35"/>
          <p:cNvSpPr/>
          <p:nvPr/>
        </p:nvSpPr>
        <p:spPr>
          <a:xfrm flipV="1">
            <a:off x="4743360" y="1542600"/>
            <a:ext cx="533520" cy="304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36"/>
          <p:cNvSpPr/>
          <p:nvPr/>
        </p:nvSpPr>
        <p:spPr>
          <a:xfrm>
            <a:off x="4743360" y="1924200"/>
            <a:ext cx="533520" cy="152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37"/>
          <p:cNvSpPr/>
          <p:nvPr/>
        </p:nvSpPr>
        <p:spPr>
          <a:xfrm flipV="1">
            <a:off x="4762440" y="2743200"/>
            <a:ext cx="495360" cy="1144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38"/>
          <p:cNvSpPr/>
          <p:nvPr/>
        </p:nvSpPr>
        <p:spPr>
          <a:xfrm>
            <a:off x="4743360" y="2933640"/>
            <a:ext cx="514440" cy="2667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55"/>
          <p:cNvGrpSpPr/>
          <p:nvPr/>
        </p:nvGrpSpPr>
        <p:grpSpPr>
          <a:xfrm>
            <a:off x="1447920" y="4076640"/>
            <a:ext cx="5715000" cy="343080"/>
            <a:chOff x="1447920" y="4076640"/>
            <a:chExt cx="5715000" cy="343080"/>
          </a:xfrm>
        </p:grpSpPr>
        <p:sp>
          <p:nvSpPr>
            <p:cNvPr id="452" name="Line 39"/>
            <p:cNvSpPr/>
            <p:nvPr/>
          </p:nvSpPr>
          <p:spPr>
            <a:xfrm>
              <a:off x="1447920" y="4248000"/>
              <a:ext cx="5715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40"/>
            <p:cNvSpPr/>
            <p:nvPr/>
          </p:nvSpPr>
          <p:spPr>
            <a:xfrm>
              <a:off x="2590920" y="4076640"/>
              <a:ext cx="0" cy="152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41"/>
            <p:cNvSpPr/>
            <p:nvPr/>
          </p:nvSpPr>
          <p:spPr>
            <a:xfrm>
              <a:off x="1447920" y="4248000"/>
              <a:ext cx="0" cy="152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42"/>
            <p:cNvSpPr/>
            <p:nvPr/>
          </p:nvSpPr>
          <p:spPr>
            <a:xfrm>
              <a:off x="4267080" y="4267080"/>
              <a:ext cx="0" cy="152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43"/>
            <p:cNvSpPr/>
            <p:nvPr/>
          </p:nvSpPr>
          <p:spPr>
            <a:xfrm>
              <a:off x="7162920" y="4248000"/>
              <a:ext cx="0" cy="152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Line 44"/>
          <p:cNvSpPr/>
          <p:nvPr/>
        </p:nvSpPr>
        <p:spPr>
          <a:xfrm>
            <a:off x="1447920" y="497196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Group 49"/>
          <p:cNvGrpSpPr/>
          <p:nvPr/>
        </p:nvGrpSpPr>
        <p:grpSpPr>
          <a:xfrm>
            <a:off x="3619440" y="4971960"/>
            <a:ext cx="1295640" cy="343080"/>
            <a:chOff x="3619440" y="4971960"/>
            <a:chExt cx="1295640" cy="343080"/>
          </a:xfrm>
        </p:grpSpPr>
        <p:sp>
          <p:nvSpPr>
            <p:cNvPr id="459" name="Line 45"/>
            <p:cNvSpPr/>
            <p:nvPr/>
          </p:nvSpPr>
          <p:spPr>
            <a:xfrm>
              <a:off x="3619440" y="5143680"/>
              <a:ext cx="1295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46"/>
            <p:cNvSpPr/>
            <p:nvPr/>
          </p:nvSpPr>
          <p:spPr>
            <a:xfrm>
              <a:off x="4267080" y="4971960"/>
              <a:ext cx="0" cy="152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47"/>
            <p:cNvSpPr/>
            <p:nvPr/>
          </p:nvSpPr>
          <p:spPr>
            <a:xfrm>
              <a:off x="3619440" y="5162400"/>
              <a:ext cx="0" cy="152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48"/>
            <p:cNvSpPr/>
            <p:nvPr/>
          </p:nvSpPr>
          <p:spPr>
            <a:xfrm>
              <a:off x="4915080" y="5162400"/>
              <a:ext cx="0" cy="152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50"/>
          <p:cNvGrpSpPr/>
          <p:nvPr/>
        </p:nvGrpSpPr>
        <p:grpSpPr>
          <a:xfrm>
            <a:off x="6477120" y="4971960"/>
            <a:ext cx="1295280" cy="343080"/>
            <a:chOff x="6477120" y="4971960"/>
            <a:chExt cx="1295280" cy="343080"/>
          </a:xfrm>
        </p:grpSpPr>
        <p:sp>
          <p:nvSpPr>
            <p:cNvPr id="464" name="Line 51"/>
            <p:cNvSpPr/>
            <p:nvPr/>
          </p:nvSpPr>
          <p:spPr>
            <a:xfrm>
              <a:off x="6477120" y="5143680"/>
              <a:ext cx="1295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52"/>
            <p:cNvSpPr/>
            <p:nvPr/>
          </p:nvSpPr>
          <p:spPr>
            <a:xfrm>
              <a:off x="7124400" y="4971960"/>
              <a:ext cx="0" cy="152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53"/>
            <p:cNvSpPr/>
            <p:nvPr/>
          </p:nvSpPr>
          <p:spPr>
            <a:xfrm>
              <a:off x="6477120" y="5162400"/>
              <a:ext cx="0" cy="152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54"/>
            <p:cNvSpPr/>
            <p:nvPr/>
          </p:nvSpPr>
          <p:spPr>
            <a:xfrm>
              <a:off x="7772400" y="5162400"/>
              <a:ext cx="0" cy="152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Reliabilitas (Keandalan) dan Validitas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w Cen MT"/>
              </a:rPr>
              <a:t>Validitas Isi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: pengukuran memasukkan sekumpulan item yang memadai dan mewakili yang mengungkapkan konsep. Semakin item skala mencerminkan keseluruhan konsep yang diukur, semakin besar validitas isi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w Cen MT"/>
              </a:rPr>
              <a:t>Validitas konstruk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: menunjukkan seberapa baik hasil yang diperoleh dari penggunaan ukuran sesuai dengan teori yang mendasari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w Cen MT"/>
              </a:rPr>
              <a:t>Validitas kriteria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:  terpenuhi jika pengukuran membedakan individu menurut kriteria yang diharapkan diprediksi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7T08:28:02Z</dcterms:created>
  <dc:creator>Tuti's</dc:creator>
  <dc:description/>
  <dc:language>en-US</dc:language>
  <cp:lastModifiedBy>math1028072009</cp:lastModifiedBy>
  <dcterms:modified xsi:type="dcterms:W3CDTF">2011-11-16T02:34:17Z</dcterms:modified>
  <cp:revision>91</cp:revision>
  <dc:subject/>
  <dc:title>Rencana Tindak Pendampingan Desa Model</dc:title>
</cp:coreProperties>
</file>