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B512-CA09-4CFF-AE31-D34B64248C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9130-ED23-46AA-9A94-D3A8A188C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916-E357-4BD5-B102-A262C3D5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881-1B22-4B21-865E-31FB0806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BDB-A5E1-43E8-94E8-3561D1AF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DA7-EF71-4018-9B6E-378D0432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C3B-E036-461F-A1F3-7E233341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279-7521-4C16-93AD-DB4905A6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1AB-A070-42EA-944C-B93F8B9E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990-9DBB-406D-9BC6-22359514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EFF-A7F0-41E1-9B1C-71D53F59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3AB-CDE5-44A2-B5D7-78A388F2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990-7EAC-4572-9CA8-89B17B2C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8F6-7A6C-43EE-A6C7-C9D308DA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AB9F-ED61-4547-BCB4-59052066C98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1219320" y="381960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esigned by Jennifer Y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eaching@jennifery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 rot="21348000">
            <a:off x="501480" y="173520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 rot="21399000">
            <a:off x="647280" y="480204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 sing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286000" y="32767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1828800" y="3049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 rot="21348000">
            <a:off x="501480" y="173520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21399000">
            <a:off x="647280" y="480204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an sing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2286000" y="32767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1828800" y="3049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th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y. can be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 rot="21348000">
            <a:off x="609480" y="51588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es can fly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 play We games, ca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lay we soccer.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 rot="21348000">
            <a:off x="609480" y="51588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play video gam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play soccer.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ture, draw a to want I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I don’t pencils. an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 rot="21348000">
            <a:off x="609480" y="53172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nt to draw a picture,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have any pencils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/y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rude, The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ished. were they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 rot="21348000">
            <a:off x="609480" y="53172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were rude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were punished.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I cand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colat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 rot="21348000">
            <a:off x="609480" y="53172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ike cand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colat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590920" y="2360520"/>
            <a:ext cx="378756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Would you coffee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 rot="21348000">
            <a:off x="609480" y="51588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you like coffee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a, want 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s he rice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 rot="21348000">
            <a:off x="593640" y="53172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nt pasta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ants ric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/y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I hungry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ch. I a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21348000">
            <a:off x="609480" y="51588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s hungry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te lunch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don’t I pizz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mburgers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 rot="21348000">
            <a:off x="609480" y="51588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like pizz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mburgers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 rot="21348000">
            <a:off x="501480" y="173520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 rot="21399000">
            <a:off x="647280" y="480204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s Sally dancing.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286000" y="32767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1828800" y="3049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 rot="21348000">
            <a:off x="501480" y="173520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 rot="21399000">
            <a:off x="647280" y="480204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ly likes dancing.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2286000" y="32767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1828800" y="3049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th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e a He watched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. read a sh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 rot="21348000">
            <a:off x="609480" y="51588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atched a movie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read a boo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 rot="21348000">
            <a:off x="609480" y="533520"/>
            <a:ext cx="792504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pt hours, two He for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red. felt h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590920" y="236232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 rot="21348000">
            <a:off x="609480" y="531720"/>
            <a:ext cx="792504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slept for two hours,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 rot="202200">
            <a:off x="723600" y="4194000"/>
            <a:ext cx="7924680" cy="152424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felt tired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2590920" y="2344680"/>
            <a:ext cx="3789360" cy="1523880"/>
          </a:xfrm>
          <a:prstGeom prst="rect">
            <a:avLst/>
          </a:prstGeom>
          <a:solidFill>
            <a:srgbClr val="dce6f2"/>
          </a:solidFill>
          <a:ln w="572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2:04:05Z</dcterms:created>
  <dc:creator>Jennifer Yong</dc:creator>
  <dc:description/>
  <dc:language>en-US</dc:language>
  <cp:lastModifiedBy>Jennifer Yong</cp:lastModifiedBy>
  <dcterms:modified xsi:type="dcterms:W3CDTF">2009-03-25T03:09:15Z</dcterms:modified>
  <cp:revision>41</cp:revision>
  <dc:subject/>
  <dc:title>Categorizations of Nouns</dc:title>
</cp:coreProperties>
</file>