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CC4-C13B-4738-B042-91A7B01F2D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AD93-21AA-47B4-9BBA-6D4A5F92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638-5714-4926-81F3-17C2BC23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C98-A1FB-45E9-92D3-B2FF2F1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998-CAB1-4300-8BEC-AF0D2442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2C2-0104-4EF9-A42B-01074A10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997-9234-4335-8BAD-B9659BBF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10-081A-4215-8A2E-0FE876E3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940-47F5-4B96-8E2F-8A86AD4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EB8-2311-4FAB-B449-0D0EEFE1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6BE-9AA4-4435-8AFA-15A330F2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262-03BC-4994-B2BE-220A91B4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CB0-3AB2-4AA6-A4B7-4477965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098-AF5C-4982-940D-9C2F4B7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17C-D25A-453C-8CFD-878667F5C2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. can be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s can fl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play We games, ca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lay we soccer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lay video gam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lay soccer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, draw a to want I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I don’t pencils. an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to draw a picture,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have any pencils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/y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rude, The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ed. were they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ere rude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ere punished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I can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can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590920" y="2360520"/>
            <a:ext cx="378756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Would you coff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 coff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a, want 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s he rice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 rot="21348000">
            <a:off x="59364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pasta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nts ric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/y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 hungry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ch. I 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hungry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te lunch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don’t I piz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burger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like piz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burger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Sally dancing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ly likes dancing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e a He watched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. read a s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tched a movie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ad a boo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pt hours, two He fo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ed. felt 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lept for two hours,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felt tir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2:04:05Z</dcterms:created>
  <dc:creator>Jennifer Yong</dc:creator>
  <dc:description/>
  <dc:language>en-US</dc:language>
  <cp:lastModifiedBy>Jennifer Yong</cp:lastModifiedBy>
  <dcterms:modified xsi:type="dcterms:W3CDTF">2009-03-25T03:09:15Z</dcterms:modified>
  <cp:revision>41</cp:revision>
  <dc:subject/>
  <dc:title>Categorizations of Nouns</dc:title>
</cp:coreProperties>
</file>