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wmf" ContentType="image/x-wmf"/>
  <Override PartName="/ppt/media/image14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CF8D-A3B6-4D0A-BB97-A565EB4A6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BAB0-1674-4126-AD8C-7E3F0C93D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01C2-9821-4D80-AA20-67821EE63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1B5C-D9AE-496B-92D1-C20CBE5A3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54749-FBC7-42EF-85D6-3FDC232F3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D3D02-3E70-4392-83CB-BDE4417A5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F58BC-3891-4AA9-B049-5C1843EBA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43934-538F-4217-9F42-5636EDDCF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47BB4-5D95-4AA7-8923-460D4949D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9EB48-48ED-43A2-9A49-EDA73E403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31B4B-28DC-422A-BE3C-B0971903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1E0D-3AC2-43B0-924A-26474F543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A92D4-BB5D-4EBD-8284-8F5AE414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99D60-D3A3-4F57-8698-B213A866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F6288-3E02-44D1-BC65-BE8E99890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29F28-23D3-4626-8ADF-80A633684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C9EC4-BD47-4D56-8C9E-FEA86727C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0B03F-E175-47EF-8F71-58BFE51A2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937C1-50AA-48B4-8941-0FB02F9A4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A4A03-5903-4597-913E-9AA3A0659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88635-5819-4131-BF0D-4A72CBE77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6498F-FAEE-4A8A-8CB7-4F4788892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E8CC-93AB-402F-B810-E3D584B87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0EA91-99F6-4323-B975-33521D1BF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690C4-6425-446D-989E-61C6A50A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B5B9E-DFF4-49B4-9112-F34DBF32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93130-3CBB-4931-ADA2-19756372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880E6-0180-4699-A5D1-5E6BEA5D2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1E896-54E7-40D6-8A12-336B0D334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E059C-8AE2-48F1-8E0C-62193523C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BE721-FA57-4C6B-94E1-7E3A8F628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9D22E-C05D-443B-9F38-09D05F5CF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13E69-60F4-4C6A-9BFB-39ABDB08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AAA2-C47E-4BE8-8EA2-FF0DBC72C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BED58-5EE6-4D0F-BEA2-97BC9F9D7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B73AF-4B68-4B0E-8825-8D737A1EC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C5F97-F0E7-4137-A7CB-984DD6AA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736D9-B259-43B8-ADD2-01CBDD54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15FE8-6327-4BD2-863C-E5336065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5EC9B-C4D7-48F4-BE21-A209B561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00CFA-E54B-4910-BCE3-58D19521A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23ADA-8CCC-4694-ACEE-1E6174583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7210E-6B4F-4F10-A5E2-33445BE5F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5405-70F9-4A57-870F-7B6C3F54E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CB11-22EC-4B10-B71C-60C6161AA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FA00-4D46-4FC8-8A1D-A1E2CDEF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8415-0095-479E-B08E-AEB01484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EA69-0EC4-4E1F-8A7F-7316C9F4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5F7BE-E99A-4509-BD32-F62757390B1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74B89-5F64-40E3-8AAD-1013ECCA33D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F4E48-F149-41C2-8D7B-3FD1A84D577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48CFB-151B-48A6-8BE9-21741A87940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2"/>
          <a:stretch/>
        </p:blipFill>
        <p:spPr>
          <a:xfrm>
            <a:off x="-219240" y="987480"/>
            <a:ext cx="9582480" cy="15177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Prof. Dr. Mansur-ud-Din Ahmad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                                 </a:t>
            </a: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Part-I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Health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a state of complete physical, mental, and social well-being and not merely the absence of disease or infirmity"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4" descr=""/>
          <p:cNvPicPr/>
          <p:nvPr/>
        </p:nvPicPr>
        <p:blipFill>
          <a:blip r:embed="rId2"/>
          <a:stretch/>
        </p:blipFill>
        <p:spPr>
          <a:xfrm>
            <a:off x="7000920" y="2286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"/>
          <p:cNvPicPr/>
          <p:nvPr/>
        </p:nvPicPr>
        <p:blipFill>
          <a:blip r:embed="rId3"/>
          <a:stretch/>
        </p:blipFill>
        <p:spPr>
          <a:xfrm>
            <a:off x="139680" y="4965840"/>
            <a:ext cx="252720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isea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A disease is an abnormal condition affecting the body of an organism. It is often construed to be a medical condition associated with specific symptoms and signs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4" descr=""/>
          <p:cNvPicPr/>
          <p:nvPr/>
        </p:nvPicPr>
        <p:blipFill>
          <a:blip r:embed="rId2"/>
          <a:stretch/>
        </p:blipFill>
        <p:spPr>
          <a:xfrm>
            <a:off x="838080" y="4084560"/>
            <a:ext cx="3710160" cy="24685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"/>
          <p:cNvPicPr/>
          <p:nvPr/>
        </p:nvPicPr>
        <p:blipFill>
          <a:blip r:embed="rId3"/>
          <a:stretch/>
        </p:blipFill>
        <p:spPr>
          <a:xfrm>
            <a:off x="6477120" y="152280"/>
            <a:ext cx="2485800" cy="18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Infectious diseas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Result from microbes-includes viruses, bacteria, fungi, protozoa, multicellular parasites, and aberrant proteins (Prions)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Non infectious diseas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Also called non communicable diseases- not caused by a pathogen and cannot be shared from one person to another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including most forms of cancer, heart disease, and genetic disease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History of Epidemiolog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A milestone in growth of veterinary medicine was the establishment of the first permanent veterinary school at Lyons, France, in 1762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arly developments were governed largely by economic rather than humanitarian motiv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Domestic stock was important as a source of food and as working anima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conomic reasons were more concern about disease in animal population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Until the last half of the 20th century, emphasis of veterinary medicine had been on the treatment of individual animal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Apart from routine immunization and prophylactic treatment of internal parasites, restricted attention had been given to herd health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60948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4617b"/>
                </a:solidFill>
                <a:latin typeface="Verdana"/>
              </a:rPr>
              <a:t>The development of veterinary medicine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4617b"/>
                </a:solidFill>
                <a:latin typeface="Calibri"/>
              </a:rPr>
              <a:t>Con..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Comprehensive preventive medicine, which give proper consideration to both infectious and non-infectious diseases was lacking in pas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Domestication of animal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Dog was probably the first animal to be domesticated when it became the companion of early hunters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Sheep &amp; goats-domesticated by 9000 BC in the fertile Nile valley (basis of early pastoral cultures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The horse provided the key to successful exploitation of the area north of the Black Sea and a Eurasian horse culture, associated with warrior tribes emerged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Domestication of animal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Religious as well as an economic significance in early civilizations was basis of domestication of animal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India is the largest cattle culture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hanging concepts cause of disease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Approaches to treatment and prevention are the direct result of theories of cause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Method of treatment used by early Egyptians was incantation (belief in supernatural spirits as a possible cause of disease)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4617b"/>
                </a:solidFill>
                <a:latin typeface="Calibri"/>
              </a:rPr>
              <a:t>Prof. Dr. Mansur-ud-Din Ahmad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h.D.- James Cook Univ. of North Queensland Australia (1996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. Sc. (Hons.)Univ. of Agriculture Faisalabad (1983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.V.M. 198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ecturer at UAF (Microbiology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cientific Officer (PARC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nior Scientific Officer (PARC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ssociate Professor UVAS (2002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fessor UVAS (2007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Title 5" descr=""/>
          <p:cNvPicPr/>
          <p:nvPr/>
        </p:nvPicPr>
        <p:blipFill>
          <a:blip r:embed="rId2"/>
          <a:stretch/>
        </p:blipFill>
        <p:spPr>
          <a:xfrm>
            <a:off x="189000" y="1365120"/>
            <a:ext cx="8650080" cy="359748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4617b"/>
                </a:solidFill>
                <a:latin typeface="Calibri"/>
              </a:rPr>
              <a:t>Demons (Evil Spirit)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Early man attributed disease to supernatural powers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In 'spirit-world', disease could be produced by witches, superhuman entities and spirits of the dead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reatment therefore included: placation (stop feeling angry) by sacrifice; exorcism (forcible expulsion); evasion, for instance scattering millet seeds to avoid vampires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4617b"/>
                </a:solidFill>
                <a:latin typeface="Calibri"/>
              </a:rPr>
              <a:t>Divine wrath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Argued that disease was the product of a displeased supreme being: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disease was punishment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 u="sng">
                <a:solidFill>
                  <a:srgbClr val="04617b"/>
                </a:solidFill>
                <a:uFillTx/>
                <a:latin typeface="Calibri"/>
              </a:rPr>
              <a:t>Punishment by god of health and disease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8" name="Picture 4" descr=""/>
          <p:cNvPicPr/>
          <p:nvPr/>
        </p:nvPicPr>
        <p:blipFill>
          <a:blip r:embed="rId2"/>
          <a:stretch/>
        </p:blipFill>
        <p:spPr>
          <a:xfrm>
            <a:off x="1600200" y="1447920"/>
            <a:ext cx="4952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4617b"/>
                </a:solidFill>
                <a:latin typeface="Calibri"/>
              </a:rPr>
              <a:t>Metaphysical medicine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10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Constantia"/>
              </a:rPr>
              <a:t>The moon, stars &amp; planets were considered to affect health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10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Constantia"/>
              </a:rPr>
              <a:t>Treatment frequently included particularly foul medicines and practices that persisted for many centuries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Rectangle 10" descr=""/>
          <p:cNvPicPr/>
          <p:nvPr/>
        </p:nvPicPr>
        <p:blipFill>
          <a:blip r:embed="rId2"/>
          <a:stretch/>
        </p:blipFill>
        <p:spPr>
          <a:xfrm>
            <a:off x="685800" y="1295280"/>
            <a:ext cx="778500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pidemiolog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Study of disease in population/ herd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Study of factors that cause/encourage diseases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556200" indent="-21384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Some diseases are more common in certain geographic areas or at different times of the year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mportance of Livestock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Provides food for human consumption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The major product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9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Milk and mea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9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Value Added product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9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Draught Animal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2"/>
          <a:stretch/>
        </p:blipFill>
        <p:spPr>
          <a:xfrm>
            <a:off x="228600" y="593640"/>
            <a:ext cx="89154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4" descr=""/>
          <p:cNvPicPr/>
          <p:nvPr/>
        </p:nvPicPr>
        <p:blipFill>
          <a:blip r:embed="rId2"/>
          <a:stretch/>
        </p:blipFill>
        <p:spPr>
          <a:xfrm>
            <a:off x="0" y="228600"/>
            <a:ext cx="89917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160" y="384120"/>
            <a:ext cx="8001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Other livestock product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2"/>
          <a:srcRect l="9069" t="26680" r="4128" b="6862"/>
          <a:stretch/>
        </p:blipFill>
        <p:spPr>
          <a:xfrm>
            <a:off x="609480" y="1828800"/>
            <a:ext cx="7925040" cy="45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Role of livestock in econom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nstantia"/>
              </a:rPr>
              <a:t>Livestock-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largest contributor to overall agriculture (53.2%)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Grew by 4.1 % in 2009‐10 as against 3.5 % last year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i="1" lang="en-US" sz="3600" spc="-1" strike="noStrike">
                <a:solidFill>
                  <a:srgbClr val="000000"/>
                </a:solidFill>
                <a:latin typeface="Constantia"/>
              </a:rPr>
              <a:t>Fishery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sector expanded by 1.4%, against previous year’s growth of 2.3%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047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Calibri"/>
              </a:rPr>
              <a:t>Scope of livestock sector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Demand for livestock products is increasing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Population growth rate and increased income are the real reason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Increase in red meat prices clearly indicate supply gap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Tremendous scope of export (rising trend each year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Technology gap shows scope for increased productio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0:19:43Z</dcterms:created>
  <dc:creator>Hassan</dc:creator>
  <dc:description/>
  <dc:language>en-US</dc:language>
  <cp:lastModifiedBy>admin</cp:lastModifiedBy>
  <dcterms:modified xsi:type="dcterms:W3CDTF">2010-10-27T03:58:47Z</dcterms:modified>
  <cp:revision>107</cp:revision>
  <dc:subject/>
  <dc:title>Slide 1</dc:title>
</cp:coreProperties>
</file>