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9A1-462C-453D-81CE-061F0385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06B9-D2AB-4CBA-8B84-654E2E06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302-FD61-45C6-8CC3-9BACCAA0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3E1F-C906-4779-99F6-348579BC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22C1-9F94-4EC0-900D-0B3FCBA5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E506-9B32-45D6-8D26-8EA3C543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F91F-B441-4254-BE74-311E23C7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FCF9-B43A-48F4-8EFB-2D9D29A8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85BB-99BD-4766-A484-65C1F1C6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D402-9C14-496B-B1C2-4A70245C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8F92-B99F-46ED-B8F1-EA8CAF46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077-396E-434C-A444-4FA053AE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F0BD-DD87-4A69-9FA9-C46E5377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9978-E12D-4E85-BB3E-304A238E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69A0-8751-46A0-AC89-465EE8E7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623D-5E2E-4197-9813-569ACA4A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5464-163F-4B3E-A9DE-2B2751B7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7D330-A869-4E7D-9B43-93E3421F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E1D0A-8930-4EE1-9A7D-1CEDD97E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D698C-2E20-4B3C-81B5-D2755694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437A8-CEF3-48A4-97C6-8EE3594F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A3AF6-FAD5-41E2-84EE-62192057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A0B-C938-426E-AB83-C617332C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A73AD-E853-4E5A-849C-DEFCC43E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971E1-5D38-427F-A408-120E894D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13E9B-E7F5-4EAF-8D4A-3D7EC172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2A515-8EE3-4DEB-A874-B8B8598C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FE074-A485-4106-8D6B-5D067BFB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1B382-A4F8-4960-A7FE-295DD2BD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162FB-2DD0-4785-8411-AC2E266B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7C454-94F5-4A77-96E9-1C6A9543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932D3-E7C7-4333-BB5F-CEBFB08F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89827-3061-4503-B21F-986C38BD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1DC2-7795-466F-B640-BCE0F868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52C4E-517A-4F06-9451-6D402AD0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583E0-F00F-43D9-8375-BF9C7C40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68B79-3D00-4D69-B059-D6B1469F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D28C9-7B42-4BB8-A099-914D5211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CABA7-E2D9-4294-B2B1-57BCE5B2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ADFCC-5304-4816-AE81-B7771327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4BCB8-36C9-4045-9B6F-9DCC9D7F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3BF95-DED1-4EEF-B40B-340A7E4B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FBF6E-BAFE-41A1-A048-5749DBEA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8075-A3DE-4508-A625-859C7F36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6610-B994-4AF5-8405-0FACAF54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420E-B5A3-434D-90BA-2838A5F6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80C-99B8-45E6-AFE3-7781C9B4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BE3-9192-4EA3-B87A-703C95DC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D354-03EE-41E1-888D-939EA9D3CA8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C84D-5E69-41A8-88E2-92088708056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278B-2C3F-4DB9-A883-50F0559878D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9F60-F1A1-4B67-8F3F-FEC78B21344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2"/>
          <a:stretch/>
        </p:blipFill>
        <p:spPr>
          <a:xfrm>
            <a:off x="-219240" y="987480"/>
            <a:ext cx="9582480" cy="1517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Prof. Dr. Mansur-ud-Din Ahmad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      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Part-I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Heal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 state of complete physical, mental, and social well-being and not merely the absence of disease or infirmity"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7000920" y="2286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3"/>
          <a:stretch/>
        </p:blipFill>
        <p:spPr>
          <a:xfrm>
            <a:off x="139680" y="4965840"/>
            <a:ext cx="252720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se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 disease is an abnormal condition affecting the body of an organism. It is often construed to be a medical condition associated with specific symptoms and sign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838080" y="4084560"/>
            <a:ext cx="3710160" cy="2468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3"/>
          <a:stretch/>
        </p:blipFill>
        <p:spPr>
          <a:xfrm>
            <a:off x="6477120" y="152280"/>
            <a:ext cx="248580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nfectious diseas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Result from microbes-includes viruses, bacteria, fungi, protozoa, multicellular parasites, and aberrant proteins (Prions)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Non infectious diseas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Also called non communicable diseases- not caused by a pathogen and cannot be shared from one person to another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including most forms of cancer, heart disease, and genetic disease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History of Epidemi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 milestone in growth of veterinary medicine was the establishment of the first permanent veterinary school at Lyons, France, in 1762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arly developments were governed largely by economic rather than humanitarian motiv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omestic stock was important as a source of food and as working anim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conomic reasons were more concern about disease in animal populatio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Until the last half of the 20th century, emphasis of veterinary medicine had been on the treatment of individual animal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part from routine immunization and prophylactic treatment of internal parasites, restricted attention had been given to herd health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60948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4617b"/>
                </a:solidFill>
                <a:latin typeface="Verdana"/>
              </a:rPr>
              <a:t>The development of veterinary medicin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4617b"/>
                </a:solidFill>
                <a:latin typeface="Calibri"/>
              </a:rPr>
              <a:t>Con..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omprehensive preventive medicine, which give proper consideration to both infectious and non-infectious diseases was lacking in pa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Domestication of anima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og was probably the first animal to be domesticated when it became the companion of early hunters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Sheep &amp; goats-domesticated by 9000 BC in the fertile Nile valley (basis of early pastoral culture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he horse provided the key to successful exploitation of the area north of the Black Sea and a Eurasian horse culture, associated with warrior tribes emerge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Domestication of anima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Religious as well as an economic significance in early civilizations was basis of domestication of animal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India is the largest cattle cultur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hanging concepts cause of diseas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Approaches to treatment and prevention are the direct result of theories of cause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Method of treatment used by early Egyptians was incantation (belief in supernatural spirits as a possible cause of disease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4617b"/>
                </a:solidFill>
                <a:latin typeface="Calibri"/>
              </a:rPr>
              <a:t>Prof. Dr. Mansur-ud-Din Ahmad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.D.- James Cook Univ. of North Queensland Australia (199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. Sc. (Hons.)Univ. of Agriculture Faisalabad (1983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.V.M. 198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cturer at UAF (Microbiolog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ientific Officer (PARC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nior Scientific Officer (PARC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ociate Professor UVAS (200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fessor UVAS (200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5" descr=""/>
          <p:cNvPicPr/>
          <p:nvPr/>
        </p:nvPicPr>
        <p:blipFill>
          <a:blip r:embed="rId2"/>
          <a:stretch/>
        </p:blipFill>
        <p:spPr>
          <a:xfrm>
            <a:off x="189000" y="1365120"/>
            <a:ext cx="8650080" cy="35974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Demons (Evil Spirit)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Early man attributed disease to supernatural powers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In 'spirit-world', disease could be produced by witches, superhuman entities and spirits of the dead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reatment therefore included: placation (stop feeling angry) by sacrifice; exorcism (forcible expulsion); evasion, for instance scattering millet seeds to avoid vampires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Divine wrath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rgued that disease was the product of a displeased supreme being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disease was punishmen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 u="sng">
                <a:solidFill>
                  <a:srgbClr val="04617b"/>
                </a:solidFill>
                <a:uFillTx/>
                <a:latin typeface="Calibri"/>
              </a:rPr>
              <a:t>Punishment by god of health and disease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Metaphysical medicine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nstantia"/>
              </a:rPr>
              <a:t>The moon, stars &amp; planets were considered to affect health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nstantia"/>
              </a:rPr>
              <a:t>Treatment frequently included particularly foul medicines and practices that persisted for many centuries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10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7850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pidemi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tudy of disease in population/ herd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tudy of factors that cause/encourage disease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ome diseases are more common in certain geographic areas or at different times of the year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portance of Livestock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rovides food for human consump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major product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ilk and me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Value Added product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Draught Animal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228600" y="593640"/>
            <a:ext cx="89154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8991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3841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ther livestock produc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2"/>
          <a:srcRect l="9069" t="26680" r="4128" b="6862"/>
          <a:stretch/>
        </p:blipFill>
        <p:spPr>
          <a:xfrm>
            <a:off x="609480" y="1828800"/>
            <a:ext cx="792504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ole of livestock in econom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Livestock-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largest contributor to overall agriculture (53.2%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Grew by 4.1 % in 2009‐10 as against 3.5 % last yea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Fishery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ector expanded by 1.4%, against previous year’s growth of 2.3%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04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Scope of livestock sector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emand for livestock products is increas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opulation growth rate and increased income are the real reason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Increase in red meat prices clearly indicate supply gap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remendous scope of export (rising trend each year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echnology gap shows scope for increased produc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0:19:43Z</dcterms:created>
  <dc:creator>Hassan</dc:creator>
  <dc:description/>
  <dc:language>en-US</dc:language>
  <cp:lastModifiedBy>admin</cp:lastModifiedBy>
  <dcterms:modified xsi:type="dcterms:W3CDTF">2010-10-27T03:58:47Z</dcterms:modified>
  <cp:revision>107</cp:revision>
  <dc:subject/>
  <dc:title>Slide 1</dc:title>
</cp:coreProperties>
</file>