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D2F782-1CD8-4B7D-87CE-245DB87952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D1A7F3-FB8D-4705-89F8-2CF4A82D4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807094-F3C9-4D6F-BA1B-708809F9B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EB146B-0884-4EB9-B87A-D082C3B72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F9BBB-633E-4E9B-BA99-56DC09D172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65122-41D8-4E77-87EC-A9CAF824E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2C7E6-6F10-469D-8DCF-DE7589E5D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B78C42-61CF-4D3F-BE6E-ABB2A0C4FD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198F0C-CAC8-4394-81D1-E4165A3A18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872A1-FE79-4940-A58A-1DC470E54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64C82-4E60-4C73-9252-BF4515E4D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C9D3C-1091-4DC4-8681-C988655F5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3" name=""/>
          <p:cNvSpPr/>
          <p:nvPr/>
        </p:nvSpPr>
        <p:spPr>
          <a:xfrm>
            <a:off x="4249800" y="3240"/>
            <a:ext cx="4894200" cy="7668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4" name=""/>
          <p:cNvSpPr/>
          <p:nvPr/>
        </p:nvSpPr>
        <p:spPr>
          <a:xfrm>
            <a:off x="4248000" y="6575400"/>
            <a:ext cx="4894560" cy="28404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pic>
        <p:nvPicPr>
          <p:cNvPr id="5" name="Picture 10" descr=""/>
          <p:cNvPicPr/>
          <p:nvPr/>
        </p:nvPicPr>
        <p:blipFill>
          <a:blip r:embed="rId2">
            <a:lum bright="70000" contrast="-70000"/>
          </a:blip>
          <a:stretch/>
        </p:blipFill>
        <p:spPr>
          <a:xfrm>
            <a:off x="0" y="762120"/>
            <a:ext cx="9144000" cy="5562360"/>
          </a:xfrm>
          <a:prstGeom prst="rect">
            <a:avLst/>
          </a:prstGeom>
          <a:ln w="0">
            <a:noFill/>
          </a:ln>
        </p:spPr>
      </p:pic>
      <p:sp>
        <p:nvSpPr>
          <p:cNvPr id="6" name="PlaceHolder 4"/>
          <p:cNvSpPr>
            <a:spLocks noGrp="1"/>
          </p:cNvSpPr>
          <p:nvPr>
            <p:ph type="sldNum" idx="2"/>
          </p:nvPr>
        </p:nvSpPr>
        <p:spPr>
          <a:xfrm>
            <a:off x="8381520" y="6552720"/>
            <a:ext cx="762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B6ED-9E05-4953-8B0C-78596AB3A11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285840" y="765000"/>
            <a:ext cx="8856720" cy="0"/>
          </a:xfrm>
          <a:prstGeom prst="line">
            <a:avLst/>
          </a:prstGeom>
          <a:ln w="12600">
            <a:solidFill>
              <a:srgbClr val="bc0026"/>
            </a:solidFill>
            <a:miter/>
          </a:ln>
        </p:spPr>
        <p:style>
          <a:lnRef idx="0"/>
          <a:fillRef idx="0"/>
          <a:effectRef idx="0"/>
          <a:fontRef idx="minor"/>
        </p:style>
        <p:txBody>
          <a:bodyPr lIns="90000" rIns="90000" tIns="-46800" bIns="-46800" anchor="t">
            <a:noAutofit/>
          </a:bodyPr>
          <a:p>
            <a:endParaRPr b="0" lang="en-US" sz="24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4514760"/>
            <a:ext cx="7772400" cy="142884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5" name="Picture 4" descr=""/>
          <p:cNvPicPr/>
          <p:nvPr/>
        </p:nvPicPr>
        <p:blipFill>
          <a:blip r:embed="rId1"/>
          <a:stretch/>
        </p:blipFill>
        <p:spPr>
          <a:xfrm>
            <a:off x="2362320" y="806400"/>
            <a:ext cx="4572000" cy="3056040"/>
          </a:xfrm>
          <a:prstGeom prst="rect">
            <a:avLst/>
          </a:prstGeom>
          <a:ln w="0">
            <a:noFill/>
          </a:ln>
        </p:spPr>
      </p:pic>
      <p:sp>
        <p:nvSpPr>
          <p:cNvPr id="46" name=""/>
          <p:cNvSpPr/>
          <p:nvPr/>
        </p:nvSpPr>
        <p:spPr>
          <a:xfrm>
            <a:off x="609480" y="4052880"/>
            <a:ext cx="81536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Black"/>
              </a:rPr>
              <a:t>New Story of the Hare and Tortoise</a:t>
            </a:r>
            <a:endParaRPr b="0" lang="en-US" sz="2800" spc="-1" strike="noStrike">
              <a:solidFill>
                <a:srgbClr val="800000"/>
              </a:solidFill>
              <a:latin typeface="Times New Roman"/>
            </a:endParaRPr>
          </a:p>
        </p:txBody>
      </p:sp>
      <p:sp>
        <p:nvSpPr>
          <p:cNvPr id="2" name="PlaceHolder 1"/>
          <p:cNvSpPr>
            <a:spLocks noGrp="1"/>
          </p:cNvSpPr>
          <p:nvPr>
            <p:ph type="sldNum" idx="2"/>
          </p:nvPr>
        </p:nvSpPr>
        <p:spPr/>
        <p:txBody>
          <a:bodyPr/>
          <a:p>
            <a:fld id="{06D5A571-7BA6-45DF-9D1E-05CAC6AAB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is time, the hare went all out and ran without stopping from start to finish. He won by several miles.</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7C546C8E-8A5F-4101-B3C8-21686BBBF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2"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C9C5-5E79-4619-8BB5-6E0B8CC8E4F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3"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64"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e moral of the story</a:t>
            </a:r>
            <a:r>
              <a:rPr b="1" lang="zh-CN" sz="3200" spc="-1" strike="noStrike">
                <a:solidFill>
                  <a:srgbClr val="800000"/>
                </a:solidFill>
                <a:latin typeface="新細明體"/>
              </a:rPr>
              <a:t>？</a:t>
            </a:r>
            <a:r>
              <a:rPr b="1" lang="en-US" sz="3200" spc="-1" strike="noStrike">
                <a:solidFill>
                  <a:srgbClr val="800000"/>
                </a:solidFill>
                <a:latin typeface="Arial"/>
              </a:rPr>
              <a:t> </a:t>
            </a:r>
            <a:r>
              <a:rPr b="1" lang="en-US" sz="3200" spc="-1" strike="noStrike">
                <a:solidFill>
                  <a:srgbClr val="3333cc"/>
                </a:solidFill>
                <a:latin typeface="Arial"/>
              </a:rPr>
              <a:t>Fast and consistent will always beat the slow and steady.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FECC-57E4-45EE-9D61-4651CFE0F0D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67" name="PlaceHolder 1"/>
          <p:cNvSpPr>
            <a:spLocks noGrp="1"/>
          </p:cNvSpPr>
          <p:nvPr>
            <p:ph type="subTitle"/>
          </p:nvPr>
        </p:nvSpPr>
        <p:spPr>
          <a:xfrm>
            <a:off x="380880" y="914400"/>
            <a:ext cx="8382240" cy="54864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  </a:t>
            </a:r>
            <a:r>
              <a:rPr b="1" lang="en-US" sz="3200" spc="-1" strike="noStrike">
                <a:solidFill>
                  <a:srgbClr val="800000"/>
                </a:solidFill>
                <a:latin typeface="Arial"/>
              </a:rPr>
              <a:t>If you have two people in your organisation, one slow, methodical and reliable, and the other fast and still reliable at what he does, the fast and reliable chap will consistently climb the organisational ladder faster than the slow, methodical chap.</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8"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9B26-B7AD-482B-A1B7-0BC3758ED3B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It's good to be slow and steady; but it's better to be fast and reliabl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6C98-97F1-4FF4-B05D-DB7E1B5D496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ea typeface="標楷體"/>
              </a:rPr>
              <a:t>But the story doesn't end here. The tortoise did some thinking this time, and realised that there's no way he can beat the hare in a race the way it was currently formatted.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3AAE-CFA2-4E40-B4A2-6894291B10D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5"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6"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He thought for a while, and then challenged the hare to another race, but on a slightly different rout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e hare agreed. They started off. In keeping with his self-made commitment to be consistently fast, the hare took off and ran at top speed until he came to a broad river.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2F40674-6CF3-4D1F-94C2-93EB1CAB2C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finishing line was a couple of kilometers on the other side of the riv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D2A833A-0EEB-46D1-893F-5F908D362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hare sat there wondering what to do. In the meantime the tortoise trundled along, got into the river, swam to the opposite bank, continued walking and finished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3D3F4507-8259-43CD-9173-F7681E3FD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0"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5C5E-BE9B-4240-B69F-8A931D9D3BC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1"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moral of the story? </a:t>
            </a:r>
            <a:r>
              <a:rPr b="1" lang="en-US" sz="3200" spc="-1" strike="noStrike">
                <a:solidFill>
                  <a:srgbClr val="3333cc"/>
                </a:solidFill>
                <a:latin typeface="Arial"/>
                <a:ea typeface="標楷體"/>
              </a:rPr>
              <a:t>First identify your core competency and then change the playing field to suit your core competency.</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Once upon a time a tortoise and a hare had an argument about who was faster. They decided to settle the argument with a race. They agreed on a route and started off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682A6AE-0A24-45D1-AA5C-E0900E735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68C7-25C5-45F4-BA17-225FCDFA378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4"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In an organisation, if you are a good speaker, make sure you create opportunities to give presentations that enable the senior management to notice you.</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標楷體"/>
                <a:ea typeface="標楷體"/>
              </a:rPr>
              <a:t>。</a:t>
            </a: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698C-D0A3-4DB4-8024-951D961C79E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If your strength is analysis, make sure you do some sort of research, make a report and send it upstairs. Working to your strengths will not only get you noticed but will also create opportunities for growth and advancement.</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8567-0B3E-47AA-956D-60DEE2E3204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90"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9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story still hasn't ended.</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grpSp>
        <p:nvGrpSpPr>
          <p:cNvPr id="92" name=""/>
          <p:cNvGrpSpPr/>
          <p:nvPr/>
        </p:nvGrpSpPr>
        <p:grpSpPr>
          <a:xfrm>
            <a:off x="3429000" y="4417920"/>
            <a:ext cx="341280" cy="341280"/>
            <a:chOff x="3429000" y="4417920"/>
            <a:chExt cx="341280" cy="341280"/>
          </a:xfrm>
        </p:grpSpPr>
        <p:sp>
          <p:nvSpPr>
            <p:cNvPr id="93" name=""/>
            <p:cNvSpPr/>
            <p:nvPr/>
          </p:nvSpPr>
          <p:spPr>
            <a:xfrm>
              <a:off x="342900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94" name=""/>
            <p:cNvSpPr/>
            <p:nvPr/>
          </p:nvSpPr>
          <p:spPr>
            <a:xfrm>
              <a:off x="362916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95" name=""/>
            <p:cNvSpPr/>
            <p:nvPr/>
          </p:nvSpPr>
          <p:spPr>
            <a:xfrm>
              <a:off x="349704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96" name=""/>
            <p:cNvSpPr/>
            <p:nvPr/>
          </p:nvSpPr>
          <p:spPr>
            <a:xfrm>
              <a:off x="352836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97" name=""/>
          <p:cNvGrpSpPr/>
          <p:nvPr/>
        </p:nvGrpSpPr>
        <p:grpSpPr>
          <a:xfrm>
            <a:off x="3849840" y="4417920"/>
            <a:ext cx="341280" cy="341280"/>
            <a:chOff x="3849840" y="4417920"/>
            <a:chExt cx="341280" cy="341280"/>
          </a:xfrm>
        </p:grpSpPr>
        <p:sp>
          <p:nvSpPr>
            <p:cNvPr id="98" name=""/>
            <p:cNvSpPr/>
            <p:nvPr/>
          </p:nvSpPr>
          <p:spPr>
            <a:xfrm>
              <a:off x="384984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99" name=""/>
            <p:cNvSpPr/>
            <p:nvPr/>
          </p:nvSpPr>
          <p:spPr>
            <a:xfrm>
              <a:off x="405000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0" name=""/>
            <p:cNvSpPr/>
            <p:nvPr/>
          </p:nvSpPr>
          <p:spPr>
            <a:xfrm>
              <a:off x="391788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1" name=""/>
            <p:cNvSpPr/>
            <p:nvPr/>
          </p:nvSpPr>
          <p:spPr>
            <a:xfrm>
              <a:off x="394920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102" name=""/>
          <p:cNvGrpSpPr/>
          <p:nvPr/>
        </p:nvGrpSpPr>
        <p:grpSpPr>
          <a:xfrm>
            <a:off x="4307040" y="4417920"/>
            <a:ext cx="341280" cy="341280"/>
            <a:chOff x="4307040" y="4417920"/>
            <a:chExt cx="341280" cy="341280"/>
          </a:xfrm>
        </p:grpSpPr>
        <p:sp>
          <p:nvSpPr>
            <p:cNvPr id="103" name=""/>
            <p:cNvSpPr/>
            <p:nvPr/>
          </p:nvSpPr>
          <p:spPr>
            <a:xfrm>
              <a:off x="430704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04" name=""/>
            <p:cNvSpPr/>
            <p:nvPr/>
          </p:nvSpPr>
          <p:spPr>
            <a:xfrm>
              <a:off x="450720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5" name=""/>
            <p:cNvSpPr/>
            <p:nvPr/>
          </p:nvSpPr>
          <p:spPr>
            <a:xfrm>
              <a:off x="437508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6" name=""/>
            <p:cNvSpPr/>
            <p:nvPr/>
          </p:nvSpPr>
          <p:spPr>
            <a:xfrm>
              <a:off x="440640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107" name=""/>
          <p:cNvGrpSpPr/>
          <p:nvPr/>
        </p:nvGrpSpPr>
        <p:grpSpPr>
          <a:xfrm>
            <a:off x="4764240" y="4417920"/>
            <a:ext cx="341280" cy="341280"/>
            <a:chOff x="4764240" y="4417920"/>
            <a:chExt cx="341280" cy="341280"/>
          </a:xfrm>
        </p:grpSpPr>
        <p:sp>
          <p:nvSpPr>
            <p:cNvPr id="108" name=""/>
            <p:cNvSpPr/>
            <p:nvPr/>
          </p:nvSpPr>
          <p:spPr>
            <a:xfrm>
              <a:off x="4764240" y="4417920"/>
              <a:ext cx="341280" cy="34128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09" name=""/>
            <p:cNvSpPr/>
            <p:nvPr/>
          </p:nvSpPr>
          <p:spPr>
            <a:xfrm>
              <a:off x="4964760" y="4507560"/>
              <a:ext cx="68040" cy="6804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0" name=""/>
            <p:cNvSpPr/>
            <p:nvPr/>
          </p:nvSpPr>
          <p:spPr>
            <a:xfrm>
              <a:off x="4832280" y="4511520"/>
              <a:ext cx="68040" cy="6804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1" name=""/>
            <p:cNvSpPr/>
            <p:nvPr/>
          </p:nvSpPr>
          <p:spPr>
            <a:xfrm>
              <a:off x="4870800" y="4660920"/>
              <a:ext cx="13644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800000"/>
                </a:solidFill>
                <a:latin typeface="Times New Roman"/>
              </a:endParaRPr>
            </a:p>
          </p:txBody>
        </p:sp>
      </p:grpSp>
      <p:grpSp>
        <p:nvGrpSpPr>
          <p:cNvPr id="112" name=""/>
          <p:cNvGrpSpPr/>
          <p:nvPr/>
        </p:nvGrpSpPr>
        <p:grpSpPr>
          <a:xfrm>
            <a:off x="5221440" y="4417920"/>
            <a:ext cx="341280" cy="341280"/>
            <a:chOff x="5221440" y="4417920"/>
            <a:chExt cx="341280" cy="341280"/>
          </a:xfrm>
        </p:grpSpPr>
        <p:sp>
          <p:nvSpPr>
            <p:cNvPr id="113" name=""/>
            <p:cNvSpPr/>
            <p:nvPr/>
          </p:nvSpPr>
          <p:spPr>
            <a:xfrm>
              <a:off x="5221440" y="4417920"/>
              <a:ext cx="341280" cy="34128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14" name=""/>
            <p:cNvSpPr/>
            <p:nvPr/>
          </p:nvSpPr>
          <p:spPr>
            <a:xfrm>
              <a:off x="5421600" y="4507200"/>
              <a:ext cx="68040" cy="6804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5" name=""/>
            <p:cNvSpPr/>
            <p:nvPr/>
          </p:nvSpPr>
          <p:spPr>
            <a:xfrm>
              <a:off x="5289480" y="4511520"/>
              <a:ext cx="68040" cy="6804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6" name=""/>
            <p:cNvSpPr/>
            <p:nvPr/>
          </p:nvSpPr>
          <p:spPr>
            <a:xfrm>
              <a:off x="5315040" y="4635000"/>
              <a:ext cx="153720" cy="43920"/>
            </a:xfrm>
            <a:custGeom>
              <a:avLst/>
              <a:gdLst/>
              <a:ahLst/>
              <a:rect l="l" t="t" r="r" b="b"/>
              <a:pathLst>
                <a:path w="108" h="31">
                  <a:moveTo>
                    <a:pt x="0" y="3"/>
                  </a:moveTo>
                  <a:cubicBezTo>
                    <a:pt x="6" y="6"/>
                    <a:pt x="29" y="20"/>
                    <a:pt x="39" y="24"/>
                  </a:cubicBezTo>
                  <a:cubicBezTo>
                    <a:pt x="49" y="28"/>
                    <a:pt x="52" y="31"/>
                    <a:pt x="63" y="27"/>
                  </a:cubicBezTo>
                  <a:cubicBezTo>
                    <a:pt x="74" y="23"/>
                    <a:pt x="99" y="6"/>
                    <a:pt x="108" y="0"/>
                  </a:cubicBezTo>
                </a:path>
              </a:pathLst>
            </a:custGeom>
            <a:solidFill>
              <a:srgbClr val="ffff99"/>
            </a:solidFill>
            <a:ln w="28440">
              <a:solidFill>
                <a:srgbClr val="800000"/>
              </a:solidFill>
              <a:round/>
            </a:ln>
          </p:spPr>
          <p:style>
            <a:lnRef idx="0"/>
            <a:fillRef idx="0"/>
            <a:effectRef idx="0"/>
            <a:fontRef idx="minor"/>
          </p:style>
          <p:txBody>
            <a:bodyPr lIns="90000" rIns="90000" tIns="-2880" bIns="-2880" anchor="t">
              <a:noAutofit/>
            </a:bodyPr>
            <a:p>
              <a:endParaRPr b="0" lang="en-US" sz="2400" spc="-1" strike="noStrike">
                <a:solidFill>
                  <a:srgbClr val="8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The hare and the tortoise, by this time, had become pretty good friends and they did some thinking together. Both realised that the last race could have been run much better.</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8064A6A9-F70D-4F39-BF49-B4FAA26C1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So they decided to do the last race again, but to run as a team this tim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DAD3F78-17FA-4D8E-A322-E43A59389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y started off, and this time the hare carried the tortoise till the riverbank. There, the tortoise took over and swam across with the hare on his back.</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8CB62576-3008-4C22-BAE9-3FA8B2164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On the opposite bank, the hare again carried the tortoise and they reached the finishing line together. They both felt a greater sense of satisfaction than they'd felt earli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AB08B38-A51A-4B3B-9212-E5FA0FD05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moral of the story? It's good to be individually brilliant and to have strong core competencies; but unless you're able to work in a team and harness each other's core competencies, you'll always perform below par because there will always be situations at which you'll do poorly and someone else does well.</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E212178-0B9D-4850-8BF1-31DD23A1D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eamwork is mainly about situational leadership, letting the person with the relevant core competency for a situation take leadership.</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3D196287-ACAF-41AD-81D6-4FB7A1EC00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re are more lessons to be learnt from this story.</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F6CC6C42-C323-42E6-80F9-73208D04F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The hare shot ahead and ran briskly for some time. Then seeing that he was far ahead of the tortoise, he thought he'd sit under a tree for some time and relax before continuing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02024D21-045C-4C2B-AF1B-F2DF24325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Note that neither the hare nor the tortoise gave up after failures. The hare decided to work harder and put in more effort after his failure.</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F03A367E-3B20-463E-9AFE-E39BB3D9FC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 tortoise changed his strategy because he was already working as hard as he could. In life, when faced with failure, sometimes it is appropriate to work harder and put in more effor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0AA9EFF3-D872-43B3-B7FB-6E98F43278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Sometimes it is appropriate to change strategy and try something different. And sometimes it is appropriate to do both.</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E048130B-C54E-4148-943B-44DBC52CFF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hare and the tortoise also learnt another vital lesson. When we stop competing against a rival and instead start competing against the situation, we perform far bett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625A755B-CF15-41AB-AA57-EE634BB585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When Roberto Goizueta took over as CEO of Coca-Cola in the 1980s, he was faced with intense competition from Pepsi that was eating into Coke's growth.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4E304E3-1B68-4118-B31F-B9E2350AF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His executives were Pepsi-focussed and intent on increasing market share 0.1 per cent a time.</a:t>
            </a:r>
            <a:r>
              <a:rPr b="0" lang="zh-TW" sz="3200" spc="-1" strike="noStrike">
                <a:solidFill>
                  <a:srgbClr val="000099"/>
                </a:solidFill>
                <a:latin typeface="標楷體"/>
                <a:ea typeface="標楷體"/>
              </a:rPr>
              <a: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A8C6AFF-30A5-4207-A100-BBCC82D02D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Goizueta decided to stop competing against Pepsi and instead compete against the situation of 0.1 per cent growth.</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6D426C34-0F1E-49D5-A353-E97F8FD61C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He asked his executives what was the average fluid intake of an American per day? The answer was 14 ounces. What was Coke's share of that? Two ounces. Goizueta said Coke needed a larger share of that marke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ABE020E-F31C-4059-8286-B90D415C1E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 competition wasn't Pepsi. It was the water, tea, coffee, milk and fruit juices that went into the remaining 12 ounces. The public should reach for a Coke whenever they felt like drinking something.</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68A89D45-84EB-4907-B738-8ACAB52A16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o this end, Coke put up vending machines at every street corner. Sales took a quantum jump and Pepsi has never quite caught up since.</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17DE8E71-5A72-43E7-B03E-12FDE63391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He sat under the tree and soon fell asleep. The tortoise plodding on overtook him and soon finished the race, emerging as the undisputed champ.</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95643D2-70F6-45C2-ABEC-C2C275821A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C78D-2424-4314-9926-8A54AF41C8F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35"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36" name="PlaceHolder 1"/>
          <p:cNvSpPr>
            <a:spLocks noGrp="1"/>
          </p:cNvSpPr>
          <p:nvPr>
            <p:ph type="subTitle"/>
          </p:nvPr>
        </p:nvSpPr>
        <p:spPr>
          <a:xfrm>
            <a:off x="380880" y="1066680"/>
            <a:ext cx="8382240" cy="5181840"/>
          </a:xfrm>
          <a:prstGeom prst="rect">
            <a:avLst/>
          </a:prstGeom>
          <a:noFill/>
          <a:ln w="0">
            <a:noFill/>
          </a:ln>
        </p:spPr>
        <p:txBody>
          <a:bodyPr lIns="90000" rIns="90000" tIns="46800" bIns="46800" anchor="t">
            <a:noAutofit/>
          </a:bodyPr>
          <a:p>
            <a:pPr marL="289080" indent="-289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To sum up, the story of the hare and tortoise teaches us many things.</a:t>
            </a:r>
            <a:endParaRPr b="0" lang="en-US" sz="2400" spc="-1" strike="noStrike">
              <a:solidFill>
                <a:srgbClr val="800000"/>
              </a:solidFill>
              <a:latin typeface="Times New Roman"/>
            </a:endParaRPr>
          </a:p>
          <a:p>
            <a:pPr marL="289080" indent="-289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Important lessons are:</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that fast and consistent will always beat slow and steady;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work to your competencies;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pooling resources and working as a team will always beat individual performers;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never give up when faced with failure;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and finally, compete against the situation. Not against a rival.</a:t>
            </a:r>
            <a:endParaRPr b="0" lang="en-US" sz="2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7CF3-DC74-4386-8E68-E60073CC288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38"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39" name=""/>
          <p:cNvSpPr/>
          <p:nvPr/>
        </p:nvSpPr>
        <p:spPr>
          <a:xfrm>
            <a:off x="1676520" y="5029200"/>
            <a:ext cx="5943600" cy="642600"/>
          </a:xfrm>
          <a:prstGeom prst="rect">
            <a:avLst/>
          </a:prstGeom>
          <a:solidFill>
            <a:srgbClr val="0000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 Short, BE STRATEGIC!</a:t>
            </a:r>
            <a:endParaRPr b="0" lang="en-US" sz="3600" spc="-1" strike="noStrike">
              <a:solidFill>
                <a:srgbClr val="800000"/>
              </a:solidFill>
              <a:latin typeface="Times New Roman"/>
            </a:endParaRPr>
          </a:p>
        </p:txBody>
      </p:sp>
      <p:sp>
        <p:nvSpPr>
          <p:cNvPr id="140" name=""/>
          <p:cNvSpPr txBox="1"/>
          <p:nvPr/>
        </p:nvSpPr>
        <p:spPr>
          <a:xfrm>
            <a:off x="197964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1000"/>
                                        <p:tgtEl>
                                          <p:spTgt spid="140"/>
                                        </p:tgtEl>
                                      </p:cBhvr>
                                    </p:animEffect>
                                    <p:anim calcmode="lin" valueType="num">
                                      <p:cBhvr additive="repl">
                                        <p:cTn id="8" dur="1000" fill="hold"/>
                                        <p:tgtEl>
                                          <p:spTgt spid="140"/>
                                        </p:tgtEl>
                                        <p:attrNameLst>
                                          <p:attrName>ppt_x</p:attrName>
                                        </p:attrNameLst>
                                      </p:cBhvr>
                                      <p:tavLst>
                                        <p:tav tm="0">
                                          <p:val>
                                            <p:strVal val="#ppt_x"/>
                                          </p:val>
                                        </p:tav>
                                        <p:tav tm="100000">
                                          <p:val>
                                            <p:strVal val="#ppt_x"/>
                                          </p:val>
                                        </p:tav>
                                      </p:tavLst>
                                    </p:anim>
                                    <p:anim calcmode="lin" valueType="num">
                                      <p:cBhvr additive="repl">
                                        <p:cTn id="9" dur="1000" fill="hold"/>
                                        <p:tgtEl>
                                          <p:spTgt spid="14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1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7C78-95F9-46CC-ACEB-C0405C91223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rPr>
              <a:t>The hare woke up and realised that he'd lost the race. The moral of the story is that </a:t>
            </a:r>
            <a:r>
              <a:rPr b="1" lang="zh-TW" sz="3200" spc="-1" strike="noStrike">
                <a:solidFill>
                  <a:srgbClr val="3333cc"/>
                </a:solidFill>
                <a:latin typeface="Arial"/>
              </a:rPr>
              <a:t>slow and steady wins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D978-A878-4EDC-8F77-D96B192A8BC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This is the version of the story that we've all grown up with.</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0B84-3AE7-489A-91FA-38E0A300316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MingLiU"/>
              </a:rPr>
              <a:t>   </a:t>
            </a:r>
            <a:r>
              <a:rPr b="1" lang="en-US" sz="3200" spc="-1" strike="noStrike">
                <a:solidFill>
                  <a:srgbClr val="800000"/>
                </a:solidFill>
                <a:latin typeface="Arial"/>
                <a:ea typeface="MingLiU"/>
              </a:rPr>
              <a:t>But then recently, someone told me a more interesting version of this story. It continues.</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rPr>
              <a:t>The hare was disappointed at losing the race and he did some Defect Prevention (Root Cause Analysis). He realised that he'd lost the race only because he had been overconfident, careless and lax.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0978B36B-C9E4-4AA4-8B35-0A58F63DB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If he had not taken things for granted, there's no way the tortoise could have beaten him. So he challenged the tortoise to another race. The tortoise agreed.</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9A08AD8E-B0C0-47B0-857D-E8D9D9CE7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23:59:23Z</dcterms:created>
  <dc:creator>www.funnybytes.net</dc:creator>
  <dc:description/>
  <dc:language>en-US</dc:language>
  <cp:lastModifiedBy>Smets</cp:lastModifiedBy>
  <dcterms:modified xsi:type="dcterms:W3CDTF">2008-09-14T07:40:59Z</dcterms:modified>
  <cp:revision>37</cp:revision>
  <dc:subject/>
  <dc:title>New Story of Hare and Tortoise</dc:title>
</cp:coreProperties>
</file>